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40B0-028F-45EE-BB9E-9391F8C3C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9845-5C89-4607-97BF-A8F1434D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D4DE-CAE8-4400-BDE4-C62626F65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5187-D15F-49F2-9966-B5181CD1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D5A1-4582-4D4F-8F3D-7A7F6B9C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CF7A-30B9-4834-BF22-4883CC8B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FE03-ED28-4BA7-8B28-08218A76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6BF8-767E-47E7-98B8-9833F986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A33E-D8B7-4FB3-B828-D9EE4353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0A22-CF21-4AB6-AF02-0AD9714E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E7E1-F906-4467-9C29-ACEF69DB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8EB8-CE7D-4D67-85C1-3791B8AA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D5CD-0CE6-4CDF-87CF-6D8A2B69F89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ffffff"/>
                </a:solidFill>
                <a:uFillTx/>
                <a:latin typeface="Times New Roman"/>
              </a:rPr>
              <a:t>A CPU ÜTEMEZÉ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központi egység a számítógép kitüntetett fontosságú erőforrása (minden folyamat használja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t, hogy egy rendszer milyen „jól” használja a CPU-t, több mértékkel szokás mérn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CPU kihasználtság: régen fontos mérték volt, de elvesztette jelentősőgét (rendszer szempontú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Átbocsátóképesség (throughput): adott idő alatt végrehajtott munkák száma (rendszer szempo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B6DC-92B7-43E7-8913-263394B3D7D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Ütemezési algoritmus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FIFO v. FCFS (first come first serv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Nem preemptív döntési módot használ, a pioritásfüggvény értéke a futásra kész sorban eltöltött idő. Az arbitrálás véletlenszerűen történik (igazságosság), vagy fix a folyamat állandó prioritása szer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átránya, hogy ha egy folyamat hosszú ideig használja a CPU-t (nem adja fel a futás jogát magától) akkor a futásra kész sorban feltorlódik a többi folya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átránya továbbá, hogy a CPU illetve I/O kihasználtság csak a folya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toktól függ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9F05-D32E-498E-8F4C-C43CA66E52A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Legrövidebb munka először (shortest job first, SJF): nem preemptív ütemezési mód, a prioritásfüggvény értéke a folyamat (következő) CPU használatának ideje, rövidebb használati idő magasabb prioritást jelent. Az arbitrálás véletlenszerű vagy FIF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lőnye, hogy jó átlagos átfutási időt biztosí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átránya, hogy nem lehet megbízhatóan megjósolni a folyamatok CPU használati idejét. Ezt a következő rekurzív formulával lehet becsüln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A0A8-010C-4731-87ED-EDC86CAC246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n+1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*T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+ (1 - </a:t>
            </a:r>
            <a:r>
              <a:rPr b="1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) *</a:t>
            </a:r>
            <a:r>
              <a:rPr b="1" lang="hu-HU" sz="4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ahol </a:t>
            </a:r>
            <a:r>
              <a:rPr b="1" lang="hu-HU" sz="4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n+1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a következő CPU használat becsült hossza, T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a megelőző használat mért hossza, </a:t>
            </a:r>
            <a:r>
              <a:rPr b="1" lang="hu-HU" sz="4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az előző becslés értéke, </a:t>
            </a:r>
            <a:r>
              <a:rPr b="1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súlyozási tényez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Gondot jelent az, hogy éhezés léphet fe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Legrövidebb hátralévő idejű először (SRTF): az előző algoritmus preemptív változata. Kritikus időkorlátok betartása esetén alkalmazzák, futási ideje nagyobb, mint a nem preemptív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0C23-1106-4B68-A0DD-B12A0B23CE9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Leggyorsabb reagálási arány (HRR): az SJF és az SRTF módosítása az éhezés kiküszöbölésére. Nem preemptív döntési módszert használ, de a prioritás megállapításánál figyelembe veszi a futásra kész várakozási sorban töltött időt is az alábbi függvény szeri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P( CPU_b, V_idő) = (CPU_b + V_idő ) / CPU_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Prioritásos: számos változata van, lehet preemptív vagy nem preemptív, statikus vagy dinamikus prioritás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B1F5-696E-4A9D-9932-105ADACC3CB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5345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örbenforgó (round-robin): preemptív döntési módszert alkalmaz, a folyamatok prioritása állandó, az azonos prioritásúak közül ciklikusan választu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 időosztásos rendszerek tipikus ütemez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 időszelet lejártát időzítő figye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válaszidő egy adott korlát alatt tartható a dinamikus időszeleteléssel: ha Q időnként megvizsgáljuk a rendszerben lévő folyamatok számát, ez legyen N és az időszeletet T = Q/N értékre állítjuk, akkor minden folyamat legalább Q időnként sorra kerül (ha azonos a prioritásuk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777A-6059-429D-B3AA-55CFA9BC423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Többszintű ütemezési sor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inden prioritási szinthez rendeljünk külön várakozási s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Statikus többszintű sorok: a folyamat belépéskor kap egy prioritási értéket ét et nem változik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inden szinthez külön sor és külön ütemező tartoz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 egyes sorok ütemezése tetszőleges, a sorok közötti ütemezé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Fix prioritású preemptív, egyszerű de éhezés leh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ülönböző méretű szeletekkel működő round rob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6DCF-11D1-443D-9124-2A18B12404D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Dinamikus többszintű sorok: a különbség az, hogy a folyamatok prioritása változhat, és így vándorolnak a különböző szintek sorai közö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különböző listákhoz más és más CPU használai időt rendelü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Belépéskor a folyamat a legmagasabb prioritású és egyben legrövidebb CPU időt engedélyező szintre j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Itt marad addig, amíg túl nem lépi az engedélyezett időt, akkor lejjebb sorolj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Fejletteb változat: viszza is lehet kerül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B701-FB7E-4173-8B09-2D15F001A57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1371600" y="228600"/>
            <a:ext cx="6391080" cy="3390840"/>
            <a:chOff x="1371600" y="228600"/>
            <a:chExt cx="6391080" cy="3390840"/>
          </a:xfrm>
        </p:grpSpPr>
        <p:grpSp>
          <p:nvGrpSpPr>
            <p:cNvPr id="82" name=""/>
            <p:cNvGrpSpPr/>
            <p:nvPr/>
          </p:nvGrpSpPr>
          <p:grpSpPr>
            <a:xfrm>
              <a:off x="1376280" y="233280"/>
              <a:ext cx="6381720" cy="3381480"/>
              <a:chOff x="1376280" y="233280"/>
              <a:chExt cx="6381720" cy="338148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1376280" y="233280"/>
                <a:ext cx="1595520" cy="822240"/>
                <a:chOff x="1376280" y="233280"/>
                <a:chExt cx="1595520" cy="82224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1420560" y="233280"/>
                  <a:ext cx="15066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oces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1376280" y="233280"/>
                  <a:ext cx="15955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971800" y="233280"/>
                <a:ext cx="1595520" cy="822240"/>
                <a:chOff x="2971800" y="233280"/>
                <a:chExt cx="1595520" cy="82224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3016080" y="233280"/>
                  <a:ext cx="15066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rrive tim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971800" y="233280"/>
                  <a:ext cx="15955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4567320" y="233280"/>
                <a:ext cx="1595160" cy="822240"/>
                <a:chOff x="4567320" y="233280"/>
                <a:chExt cx="1595160" cy="82224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4611600" y="233280"/>
                  <a:ext cx="15066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Length of CPU burs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4567320" y="233280"/>
                  <a:ext cx="15951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6162480" y="233280"/>
                <a:ext cx="1595520" cy="822240"/>
                <a:chOff x="6162480" y="233280"/>
                <a:chExt cx="1595520" cy="82224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6207120" y="233280"/>
                  <a:ext cx="15066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iority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6162480" y="233280"/>
                  <a:ext cx="15955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1376280" y="1055520"/>
                <a:ext cx="1595520" cy="639720"/>
                <a:chOff x="1376280" y="1055520"/>
                <a:chExt cx="1595520" cy="6397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1420560" y="1055520"/>
                  <a:ext cx="1506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1376280" y="1055520"/>
                  <a:ext cx="15955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2971800" y="1055520"/>
                <a:ext cx="1595520" cy="639720"/>
                <a:chOff x="2971800" y="1055520"/>
                <a:chExt cx="1595520" cy="6397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3016080" y="1055520"/>
                  <a:ext cx="1506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2971800" y="1055520"/>
                  <a:ext cx="15955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4567320" y="1055520"/>
                <a:ext cx="1595160" cy="639720"/>
                <a:chOff x="4567320" y="1055520"/>
                <a:chExt cx="1595160" cy="6397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4611600" y="1055520"/>
                  <a:ext cx="1506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567320" y="1055520"/>
                  <a:ext cx="1595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6162480" y="1055520"/>
                <a:ext cx="1595520" cy="639720"/>
                <a:chOff x="6162480" y="1055520"/>
                <a:chExt cx="1595520" cy="63972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6207120" y="1055520"/>
                  <a:ext cx="1506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6162480" y="1055520"/>
                  <a:ext cx="15955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1376280" y="1695240"/>
                <a:ext cx="1595520" cy="639720"/>
                <a:chOff x="1376280" y="1695240"/>
                <a:chExt cx="1595520" cy="63972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1420560" y="1695240"/>
                  <a:ext cx="1506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1376280" y="1695240"/>
                  <a:ext cx="15955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971800" y="1695240"/>
                <a:ext cx="1595520" cy="639720"/>
                <a:chOff x="2971800" y="1695240"/>
                <a:chExt cx="1595520" cy="63972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3016080" y="1695240"/>
                  <a:ext cx="1506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971800" y="1695240"/>
                  <a:ext cx="15955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4567320" y="1695240"/>
                <a:ext cx="1595160" cy="639720"/>
                <a:chOff x="4567320" y="1695240"/>
                <a:chExt cx="1595160" cy="6397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4611600" y="1695240"/>
                  <a:ext cx="1506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4567320" y="1695240"/>
                  <a:ext cx="1595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6162480" y="1695240"/>
                <a:ext cx="1595520" cy="639720"/>
                <a:chOff x="6162480" y="1695240"/>
                <a:chExt cx="1595520" cy="63972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6207120" y="1695240"/>
                  <a:ext cx="1506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6162480" y="1695240"/>
                  <a:ext cx="15955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1376280" y="2334960"/>
                <a:ext cx="1595520" cy="640080"/>
                <a:chOff x="1376280" y="2334960"/>
                <a:chExt cx="1595520" cy="64008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1420560" y="2334960"/>
                  <a:ext cx="15066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76280" y="2334960"/>
                  <a:ext cx="159552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2971800" y="2334960"/>
                <a:ext cx="1595520" cy="640080"/>
                <a:chOff x="2971800" y="2334960"/>
                <a:chExt cx="1595520" cy="64008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3016080" y="2334960"/>
                  <a:ext cx="15066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971800" y="2334960"/>
                  <a:ext cx="159552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4567320" y="2334960"/>
                <a:ext cx="1595160" cy="640080"/>
                <a:chOff x="4567320" y="2334960"/>
                <a:chExt cx="1595160" cy="64008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4611600" y="2334960"/>
                  <a:ext cx="15066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4567320" y="2334960"/>
                  <a:ext cx="159516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6162480" y="2334960"/>
                <a:ext cx="1595520" cy="640080"/>
                <a:chOff x="6162480" y="2334960"/>
                <a:chExt cx="1595520" cy="6400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6207120" y="2334960"/>
                  <a:ext cx="15066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162480" y="2334960"/>
                  <a:ext cx="159552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376280" y="2975040"/>
                <a:ext cx="1595520" cy="639720"/>
                <a:chOff x="1376280" y="2975040"/>
                <a:chExt cx="1595520" cy="63972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1420560" y="2975040"/>
                  <a:ext cx="1506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76280" y="2975040"/>
                  <a:ext cx="15955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2971800" y="2975040"/>
                <a:ext cx="1595520" cy="639720"/>
                <a:chOff x="2971800" y="2975040"/>
                <a:chExt cx="1595520" cy="63972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3016080" y="2975040"/>
                  <a:ext cx="1506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971800" y="2975040"/>
                  <a:ext cx="15955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4567320" y="2975040"/>
                <a:ext cx="1595160" cy="639720"/>
                <a:chOff x="4567320" y="2975040"/>
                <a:chExt cx="1595160" cy="6397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4611600" y="2975040"/>
                  <a:ext cx="1506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567320" y="2975040"/>
                  <a:ext cx="1595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6162480" y="2975040"/>
                <a:ext cx="1595520" cy="639720"/>
                <a:chOff x="6162480" y="2975040"/>
                <a:chExt cx="1595520" cy="6397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6207120" y="2975040"/>
                  <a:ext cx="1506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162480" y="2975040"/>
                  <a:ext cx="15955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3" name=""/>
            <p:cNvSpPr/>
            <p:nvPr/>
          </p:nvSpPr>
          <p:spPr>
            <a:xfrm>
              <a:off x="1371600" y="228600"/>
              <a:ext cx="6391080" cy="3390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28600" y="3809880"/>
            <a:ext cx="853452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J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nem-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stati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kus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stati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kus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iorit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ás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nagyobb szám magasabb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irit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ást jelent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nd robin,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z időszelet 10 egységny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8EEB-8803-4A57-BFC7-2A588DF05E74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09480" y="533520"/>
            <a:ext cx="7696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533520"/>
            <a:ext cx="0" cy="518148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52480" y="533520"/>
            <a:ext cx="0" cy="518148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38280" y="533520"/>
            <a:ext cx="0" cy="518148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62320" y="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52680" y="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43400" y="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24480" y="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8120" y="533520"/>
            <a:ext cx="0" cy="518148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533520"/>
            <a:ext cx="0" cy="518148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533520"/>
            <a:ext cx="0" cy="518148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533520"/>
            <a:ext cx="0" cy="518148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10280" y="457200"/>
            <a:ext cx="0" cy="518148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762120"/>
            <a:ext cx="23623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1143000"/>
            <a:ext cx="129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8120" y="1143000"/>
            <a:ext cx="15238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38280" y="1447920"/>
            <a:ext cx="2133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1447920"/>
            <a:ext cx="9907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1905120"/>
            <a:ext cx="1981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62720" y="1905120"/>
            <a:ext cx="14475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533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9144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2952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676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P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62920" y="3049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FC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209680"/>
            <a:ext cx="9144000" cy="0"/>
          </a:xfrm>
          <a:prstGeom prst="line">
            <a:avLst/>
          </a:prstGeom>
          <a:ln cap="rnd" w="381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4382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819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2004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5812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P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2590920"/>
            <a:ext cx="23623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3048120"/>
            <a:ext cx="228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38480" y="2514600"/>
            <a:ext cx="0" cy="312408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9880" y="2057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3048120"/>
            <a:ext cx="15242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38280" y="3352680"/>
            <a:ext cx="6098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71800" y="3352680"/>
            <a:ext cx="10666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3733920"/>
            <a:ext cx="1981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562720" y="3733920"/>
            <a:ext cx="14475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038480"/>
            <a:ext cx="9144000" cy="0"/>
          </a:xfrm>
          <a:prstGeom prst="line">
            <a:avLst/>
          </a:prstGeom>
          <a:ln cap="rnd" w="381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238880" y="23623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SJ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34320" y="6858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ÁVI=(6+17+23)/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05720" y="11430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ÁRI=(22+21+28+48)/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DC28-415B-4511-B4E2-99B661481AC2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09480" y="533520"/>
            <a:ext cx="7696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533520"/>
            <a:ext cx="0" cy="518148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533520"/>
            <a:ext cx="0" cy="518148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438280" y="533520"/>
            <a:ext cx="0" cy="518148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09680" y="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19520" y="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52680" y="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5791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86400" y="5715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81680" y="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533520"/>
            <a:ext cx="0" cy="518148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81280" y="533520"/>
            <a:ext cx="0" cy="50292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15000" y="4267080"/>
            <a:ext cx="0" cy="144792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10280" y="457200"/>
            <a:ext cx="0" cy="518148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762120"/>
            <a:ext cx="23623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52480" y="1143000"/>
            <a:ext cx="129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48120" y="1143000"/>
            <a:ext cx="33526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1447920"/>
            <a:ext cx="6098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8120" y="1447920"/>
            <a:ext cx="990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81280" y="1905120"/>
            <a:ext cx="457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38480" y="1905120"/>
            <a:ext cx="23623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533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9144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2952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676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P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15200" y="302400"/>
            <a:ext cx="12193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nem p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stat. pr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2209680"/>
            <a:ext cx="9144000" cy="0"/>
          </a:xfrm>
          <a:prstGeom prst="line">
            <a:avLst/>
          </a:prstGeom>
          <a:ln cap="rnd" w="381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24382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2819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2004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5812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P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2590920"/>
            <a:ext cx="17524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3048120"/>
            <a:ext cx="4648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038480" y="533520"/>
            <a:ext cx="0" cy="3429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9880" y="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00800" y="3048120"/>
            <a:ext cx="6094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752480" y="4648320"/>
            <a:ext cx="685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38280" y="3352680"/>
            <a:ext cx="13716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373392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9880" y="3733920"/>
            <a:ext cx="21337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4038480"/>
            <a:ext cx="9144000" cy="0"/>
          </a:xfrm>
          <a:prstGeom prst="line">
            <a:avLst/>
          </a:prstGeom>
          <a:ln cap="rnd" w="381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38880" y="2359800"/>
            <a:ext cx="12193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preempt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stat. pr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238880" y="4188600"/>
            <a:ext cx="12193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rob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00800" y="533520"/>
            <a:ext cx="0" cy="380988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5880" y="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400800" y="1143000"/>
            <a:ext cx="6094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9880" y="838080"/>
            <a:ext cx="0" cy="3124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81280" y="3808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943600" y="838080"/>
            <a:ext cx="0" cy="304812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15000" y="304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8280" y="2590920"/>
            <a:ext cx="3505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43600" y="2590920"/>
            <a:ext cx="4572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41148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44956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48769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52578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P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4343400"/>
            <a:ext cx="17524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438280" y="4648320"/>
            <a:ext cx="12956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4267080"/>
            <a:ext cx="0" cy="144792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05320" y="5791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38280" y="5029200"/>
            <a:ext cx="129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24280" y="4267080"/>
            <a:ext cx="0" cy="144792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33920" y="5029200"/>
            <a:ext cx="990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81280" y="5410080"/>
            <a:ext cx="1143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724280" y="5410080"/>
            <a:ext cx="9907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38280" y="4343400"/>
            <a:ext cx="3276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15000" y="4343400"/>
            <a:ext cx="1522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67280" y="4267080"/>
            <a:ext cx="0" cy="18288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33920" y="4648320"/>
            <a:ext cx="2133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867280" y="4648320"/>
            <a:ext cx="3812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48520" y="4267080"/>
            <a:ext cx="0" cy="16002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00800" y="4267080"/>
            <a:ext cx="0" cy="144792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24280" y="5029200"/>
            <a:ext cx="15242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248520" y="5029200"/>
            <a:ext cx="1522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15000" y="5410080"/>
            <a:ext cx="685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00800" y="5410080"/>
            <a:ext cx="6094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715000" y="60958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19920" y="5867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0BB4-0A48-4C53-9A6C-176CBD2BDC3A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Átfutási idő (turnaround time): egy munka teljes végrehajtási ideje, v. egy adott fázisának végrehajtási ideje (felhasználói szempo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Várakozási idő (waiting time): egy adott munka által a rendszerben várakozással töltött idő (rendszer szempo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Válaszidő (response time): interaktív rendszerekben a felhasználó akciója és az arra érkező válasz közötti idő (felhasználói szempo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iszámíthatóság:  a rendszer azon képessége, hogy biztosítsa egy adott folyamat befejeződését megszabott időtartamon belül, illetve állandó válaszidő biztosítása a terheléstől függetlenül (felhasználói szempo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2470-D927-4A79-B91E-3731B7CECEF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Igazságosság: nem léphet fel éhezés egyetlen folyamatnál s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lsőbbségek érvényesítése korrekt határokon belü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fenti kritériumok legkedvezőbb értékei nem esnek egybe, egymástól eltérő, részben ellentmondó igényeket támasztanak az operációs rendszerrel szem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3E61-E43E-4431-BE96-C9C7B39B379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CPU is erőforrás, használatát az operációs rendszer szervezi, az ütemező (scheduler) program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CPU ütemezésének több szintje v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Hosszútávú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(long term) üzemezés: főleg a kötegelt (batch) rendszerekben van szerepe. A futásra váró munkák (job pool) közül kiválasztja a következőként futtatandót. A kiválasztás szempontja az egyenletes terhelés biztosítása, ezért CPU korlátos (azaz a CPU-t intenzíven használó) és I/O korlátos (azaz a perifériákat intenzíven használó) munkákat kell megfelelő arányban kever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4C14-1EE2-42C0-8DD1-DE9A341BD6C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Középtávú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(mid term) ütemezés: feladata a terhelés-ingadozás kiegyenlítése, szükség eststén folyamatok felfüggesztésével illetve aktivizálásával. A felfüggesztett folyamatoktól elvett erőforrásokat megosztja az aktív folyamatok között, a felfüggesztett folyamatot háttértárolón táro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Rövidtávú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(short-term) ütemezés: feladata a futásra kész folyamatok közül kiválasztani egyet, a diszpécser (dispatcher) segítségével elvégezni a folyamat-váltással kapcsolatos tevékenységeket. Ez az ütemező gyakran fut, ezért gyors működést várunk el tő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4559-5167-41F3-93EB-3215FA22DE8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3276360"/>
            <a:ext cx="91440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 ütemezést három fő tényező befolyásolj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Döntési mód, azaz mikor válik aktívvá at ütemez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Prioritás meghatározása, azaz melyik folyamat fontos illetve kevésbbé fo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rbitrálás, vagyis választás az azonos prioritásúak közü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304920"/>
            <a:ext cx="4267080" cy="3988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Felfüggesztett folyamatok listá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33720" y="1295280"/>
            <a:ext cx="4267080" cy="3988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Futásra kész folyamatok listá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2362320"/>
            <a:ext cx="3429000" cy="3988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Várakozó folyamatok listá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1981080"/>
            <a:ext cx="1143000" cy="11430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Erő</a:t>
            </a:r>
            <a:br>
              <a:rPr sz="2000"/>
            </a:b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forr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0" y="914400"/>
            <a:ext cx="1143000" cy="11430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523880"/>
            <a:ext cx="18288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1676520"/>
            <a:ext cx="1295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1676520"/>
            <a:ext cx="0" cy="838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2514600"/>
            <a:ext cx="3812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361960" y="259092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00800" y="1523880"/>
            <a:ext cx="4572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391520" y="1981080"/>
            <a:ext cx="0" cy="6098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400800" y="2590920"/>
            <a:ext cx="9907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400800" y="457200"/>
            <a:ext cx="9907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91520" y="4572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523880" y="1295280"/>
            <a:ext cx="60984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523880" y="533520"/>
            <a:ext cx="0" cy="761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533520"/>
            <a:ext cx="6098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01000" y="1523880"/>
            <a:ext cx="7621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99072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belé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924680" y="18288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kilé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D0CE-73B6-4F58-8B06-2FD4C7A9CF8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Döntési mód leh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Nem preemptív: az üzemező csak akkor válik aktívvá, amikor az éppen futó folyamat CPU használati joga megszűnik (pld. maga feladja I/O kérés miatt, lejár az időszelete), vagy amikor üres futáskész lista esetén űj folyamat érkez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futó folyamattól a CPU-t nem lehet elven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Gondoskodni kell a rendszer működőképességéről (pld. végtelen ciklusba jutott folyamat eseté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Általában egy, a taszkváltáskor felhúzott időzítővel oldják me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gyszerűen megvalósítható, de rugalmatlan, nem képes szigorú feltételeket (real-time rendszerek!) teljesíte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A6F0-7743-4B42-BA52-D4C6CC6C6FA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Preemptív, megszakításos döntési mód: az operációs rendszer az éppen futó folyamat működését megszakíthatja egy másik, magasabb prioritású folyamat futása érdeké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taskváltás lehetséges ok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agasabb prioritású taszk érkezik, vagy futáskésszé vá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Lejárt a futó task idősze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egnőtt egy futáskész taszk prioritása (dinamikus prioritáskezelés eseté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ugalmas, el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lőírt feltételekhez igazítható, de bonyolult, az ütemező viszonylag hosszú ideig f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Fennáll a holtpont veszélye és az érintett programoknak r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ntránsaknak kell lenniü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7D47-5020-4537-94F8-0D58A6E84DA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proiritás kezelé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het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tatikus, amikor a folyamat az indulásakor kapott prioritása álland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Dinamikus amikor a folyamat prioritása futás közben változik, pld. a rendszerben töltött ideje, még hátralévő futási ideje, éppen végrehajtott fázisa alapjá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rbitrálási szabály: megadja, hogy az azonos prioritású folyamatok közül melyik fog fut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Leh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Véletlenszer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lőször jött először fut (FIF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Ciklikus (round-rob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7BA9-6F62-446D-99D7-770047B6D39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19:31:50Z</dcterms:created>
  <dc:creator>X</dc:creator>
  <dc:description/>
  <dc:language>en-US</dc:language>
  <cp:lastModifiedBy>user</cp:lastModifiedBy>
  <dcterms:modified xsi:type="dcterms:W3CDTF">1996-11-19T21:15:54Z</dcterms:modified>
  <cp:revision>183</cp:revision>
  <dc:subject/>
  <dc:title>TELJESÍTMÉNYFOKOZÓ ARCHITEKTÚRÁLIS ELVEK</dc:title>
</cp:coreProperties>
</file>