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8269-3ED8-409A-9FEF-6931EDE8C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2C43-8396-463C-BDF6-D51D9025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267D-C01D-4803-9C13-4499025D7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906B-855A-4A9B-9F22-BE30162B6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413D-A79A-44C9-B399-3E3F4EDB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2353-6CA1-45A8-95CC-7CD46AA5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5112-E833-485E-AE70-BDEC248C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253E-94CE-4470-BE4E-9523A800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39D7-EFE3-47E7-98DC-646933F3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889A-8581-438D-86F4-7202B49E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ABC6-6D49-41FD-9E51-3B2B6226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6B79-C783-4B49-8692-F01AE5BC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619B-798D-4AD4-AB76-C5D3990E366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ffffff"/>
                </a:solidFill>
                <a:uFillTx/>
                <a:latin typeface="Times New Roman"/>
              </a:rPr>
              <a:t>LAPVÁLTÁSI STRATÉGIÁ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Két lehetősé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Igény szerinti lapoz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lőretekintő lapoz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Igény szerinti lapozásnál egy lapot akkor hozunk be, ha szükség van rá, és csak a kívánt lapot hozzuk be. Egyszerű és nincs „felesleges” lap b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lőretekintő lapozás: az operációs rendszer előre megbecsüli (jósolja), hogy mely lapokra lesz szükség a közeljövőben és ezeket csoportosan behozz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FD5F-B9FF-472F-8D96-C2428065406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12 laphi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Viszonylag összetett algoritm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Kétféle elvi megvalósítási lehetősé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inden laptábla bejegyzést kiegészítünk egy </a:t>
            </a:r>
            <a:r>
              <a:rPr b="1" i="1" lang="hu-HU" sz="2800" spc="-1" strike="noStrike">
                <a:solidFill>
                  <a:srgbClr val="ffffff"/>
                </a:solidFill>
                <a:latin typeface="Times New Roman"/>
              </a:rPr>
              <a:t>használati idő számláló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val. A számlálót a lap behozatalakor az MMU törli, majd az adott lapra történő minden egyes hivatkozáskor eggyel növeli. Lapcsere esetén a legkisebb értékhez tartozó lapot visszük k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9963-7F04-4385-8E48-C80A3FAC28E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hivatkozott lapok azonosítóit egy verem-memóriában (stack) tartjuk. 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inden laphivatkozáskor az operációs rendszer ellenőrzi a verem tartalmát. Ha benne van a hivatkozott lap azonosítója akkor azt a verem tetejére mozgatja. Ha nincs benne, behozza a lap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t és az azonosítót a verem tetejére teszi. A többi lap azonosító (nem mind) lefelé mozdul. 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Lapcsere esetén a legalsó, legrégebben használt lap helyére jön az új. A verem kétszeresen láncolt listával valósítható meg. Futási ideje nem túl jó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F7CD-C68C-4A49-9410-970383B0133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38160"/>
            <a:ext cx="84582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Az LRU algoritmus megvalósítása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960" y="837720"/>
            <a:ext cx="87627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Cél: a bonyolult elvi módszert egyszerűbb, gyors eljárással közelíte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Hivatkozás jelző (referencia) bit alkalmazás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használati idő számláló helyett egyetlen jelzőbittel egészítjük ki a laptábla tétele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jelzőbitet a lap behozatalakor 1-re állítja az M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z operációs rendszer adott időnként periódikusan minden referencia bitet kitörö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lapra történő hivatkozás a jelzőbitet 1-re állít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Lapcsere esetén egy 0 jelzőjű, lehetőleg nem módosított lap helyére hozzuk be az új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2BD1-5496-4F33-A57E-C9A33CC3F55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ásodik esély (Second Chan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laptábla tételeket az előzőek szerint működő referencia bittel egészítjük 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lecserélendő lapot a FIFO eljárás alapján kíséreljük meg kijelöl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a a kiválasztott lap jelzőbitje 0, akkor kicseréljü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a a jelzőbit 1, akkor 0-ra állítjuk, de nem cseréljük ki (ez a második esély), hanem keresünk egy másik 0 jelzőjű lap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a minden lap jelzőbitje 1, akkor a FIFO elv alapján döntü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6363-3D26-4590-BFC1-39F692A2BAE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60200" y="536400"/>
          <a:ext cx="8693280" cy="27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200" y="536400"/>
                    <a:ext cx="8693280" cy="27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3" name=""/>
          <p:cNvGrpSpPr/>
          <p:nvPr/>
        </p:nvGrpSpPr>
        <p:grpSpPr>
          <a:xfrm>
            <a:off x="4648320" y="4419720"/>
            <a:ext cx="3429000" cy="685800"/>
            <a:chOff x="4648320" y="4419720"/>
            <a:chExt cx="3429000" cy="685800"/>
          </a:xfrm>
        </p:grpSpPr>
        <p:sp>
          <p:nvSpPr>
            <p:cNvPr id="114" name=""/>
            <p:cNvSpPr/>
            <p:nvPr/>
          </p:nvSpPr>
          <p:spPr>
            <a:xfrm>
              <a:off x="4648320" y="4419720"/>
              <a:ext cx="685800" cy="68580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562720" y="4419720"/>
              <a:ext cx="685800" cy="68580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77120" y="4419720"/>
              <a:ext cx="685800" cy="68580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91520" y="4419720"/>
              <a:ext cx="685800" cy="68580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648320" y="3505320"/>
            <a:ext cx="3429000" cy="685800"/>
            <a:chOff x="4648320" y="3505320"/>
            <a:chExt cx="3429000" cy="685800"/>
          </a:xfrm>
        </p:grpSpPr>
        <p:sp>
          <p:nvSpPr>
            <p:cNvPr id="119" name=""/>
            <p:cNvSpPr/>
            <p:nvPr/>
          </p:nvSpPr>
          <p:spPr>
            <a:xfrm>
              <a:off x="4648320" y="3505320"/>
              <a:ext cx="685800" cy="68580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62720" y="3505320"/>
              <a:ext cx="685800" cy="68580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77120" y="3505320"/>
              <a:ext cx="685800" cy="68580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91520" y="3505320"/>
              <a:ext cx="685800" cy="68580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380880" y="4419720"/>
            <a:ext cx="3429000" cy="685800"/>
            <a:chOff x="380880" y="4419720"/>
            <a:chExt cx="3429000" cy="685800"/>
          </a:xfrm>
        </p:grpSpPr>
        <p:sp>
          <p:nvSpPr>
            <p:cNvPr id="124" name=""/>
            <p:cNvSpPr/>
            <p:nvPr/>
          </p:nvSpPr>
          <p:spPr>
            <a:xfrm>
              <a:off x="380880" y="4419720"/>
              <a:ext cx="685800" cy="68580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95280" y="4419720"/>
              <a:ext cx="685800" cy="68580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09680" y="4419720"/>
              <a:ext cx="685800" cy="68580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24080" y="4419720"/>
              <a:ext cx="685800" cy="68580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380880" y="3505320"/>
            <a:ext cx="685800" cy="6858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3505320"/>
            <a:ext cx="685800" cy="6858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3505320"/>
            <a:ext cx="685800" cy="6858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3505320"/>
            <a:ext cx="685800" cy="6858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80880" y="5257800"/>
            <a:ext cx="3429000" cy="685800"/>
            <a:chOff x="380880" y="5257800"/>
            <a:chExt cx="3429000" cy="685800"/>
          </a:xfrm>
        </p:grpSpPr>
        <p:sp>
          <p:nvSpPr>
            <p:cNvPr id="133" name=""/>
            <p:cNvSpPr/>
            <p:nvPr/>
          </p:nvSpPr>
          <p:spPr>
            <a:xfrm>
              <a:off x="380880" y="5257800"/>
              <a:ext cx="685800" cy="68580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95280" y="5257800"/>
              <a:ext cx="685800" cy="68580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09680" y="5257800"/>
              <a:ext cx="685800" cy="68580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24080" y="5257800"/>
              <a:ext cx="685800" cy="68580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533520" y="365760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hu-HU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47920" y="365760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hu-HU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62320" y="365760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hu-HU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62320" y="541008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hu-HU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365760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hu-HU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00600" y="365760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hu-HU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715000" y="358128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hu-HU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53080" y="365760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hu-HU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67480" y="365760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hu-HU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457200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hu-HU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457200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hu-HU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0" y="457200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hu-HU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449568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hu-HU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24280" y="457200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hu-HU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457200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hu-HU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457200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hu-HU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67480" y="457200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hu-HU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541008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hu-HU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541008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hu-HU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541008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hu-HU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648320" y="5334120"/>
            <a:ext cx="3429000" cy="685800"/>
            <a:chOff x="4648320" y="5334120"/>
            <a:chExt cx="3429000" cy="685800"/>
          </a:xfrm>
        </p:grpSpPr>
        <p:sp>
          <p:nvSpPr>
            <p:cNvPr id="158" name=""/>
            <p:cNvSpPr/>
            <p:nvPr/>
          </p:nvSpPr>
          <p:spPr>
            <a:xfrm>
              <a:off x="4648320" y="5334120"/>
              <a:ext cx="685800" cy="68580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562720" y="5334120"/>
              <a:ext cx="685800" cy="68580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77120" y="5334120"/>
              <a:ext cx="685800" cy="68580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391520" y="5334120"/>
              <a:ext cx="685800" cy="68580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4724280" y="548640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hu-HU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548640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hu-HU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53080" y="548640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hu-HU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467480" y="548640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hu-HU" sz="20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3809880"/>
            <a:ext cx="2286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81080" y="3809880"/>
            <a:ext cx="2286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3809880"/>
            <a:ext cx="2286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4120" y="3809880"/>
            <a:ext cx="2286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48520" y="3886200"/>
            <a:ext cx="2286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162920" y="3809880"/>
            <a:ext cx="2286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4724280"/>
            <a:ext cx="2286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81080" y="4724280"/>
            <a:ext cx="2286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95480" y="4800600"/>
            <a:ext cx="2286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4724280"/>
            <a:ext cx="2286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4724280"/>
            <a:ext cx="2286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162920" y="4724280"/>
            <a:ext cx="2286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5562720"/>
            <a:ext cx="2286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5562720"/>
            <a:ext cx="2286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95480" y="5638680"/>
            <a:ext cx="2286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5638680"/>
            <a:ext cx="2286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48520" y="5638680"/>
            <a:ext cx="2286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62920" y="5715000"/>
            <a:ext cx="2286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9317-A766-4694-83E1-622E15A783D8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Léptető regiszter alkalmaz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ardver kiegészítést igényel: a referenciabiten túl minden laptábla tételhez egy léptetőregisztert is rendelü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dott ciklusidővel a referenciabitet beléptetjük a léptetőregiszter tetejé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Beléptetés után a referenciabitet töröljü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z n bites regiszterben a referencia utolsó n értéke található, lapcsere esetén a legkisebb számértéket tartalmazó léptetőregiszterhez tartozó lapot írjuk felü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Több azonos minimum közül pld. FIFO eljárással választu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F860-2259-471E-9891-34E166DE1F0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ffffff"/>
                </a:solidFill>
                <a:uFillTx/>
                <a:latin typeface="Times New Roman"/>
              </a:rPr>
              <a:t>FOLYAMATOK MINIMÁLIS ÉS EGYENSÚLYI LAP-KERET IGÉNY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inimális lap-keret igény: az a lap-keret szám amennyit egy folyamathoz rendelni kell ahhoz, hogy az lefuthasson (sebesség nem érdekes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z hardverfüggő, elsősorban a címzési módoktól függ. Egycímes, indirekció nélküli, gépi szó méreténél hosszabb utasítást is tartalmazó CPU esetén min. 3 lap kell (1+1 a kódnak, 1 az adatoknak), bonyolultabb címzés esetén lehet több 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D072-884F-431B-9117-5763982336A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gyensúlyi lap-keret igény: egy folyamat akkor van egyensúlyban, ha két egymás utáni laphibája között eltelt idő lényegesen nagyobb, mint a laphiba kezelésére fordított idő. (Meghatározása eseti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4E1C-1908-4A62-BB32-92514A6F9A0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378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ffffff"/>
                </a:solidFill>
                <a:uFillTx/>
                <a:latin typeface="Times New Roman"/>
              </a:rPr>
              <a:t>LAP-KERET ALLOKÁCIÓS STRATÉGIÁ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Két alapvető módsz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ok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ális allokáció, ahol a folyamatok csak a hozzájuk rendelt lap-keretekkel gazdálkodhatnak, más folyamattól lapot nem szerezhetn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Globális allokáció, ahol a folyamatok egy közös lap-keret halmazon osztoznak, az egyes folyamatokhoz rendelt lap-keretek száma futás közben változhat, egymástól lap-keretet vehetnek 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97CD-19A3-4870-ADC0-9090A3C08BA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Lokális allokáció módja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gyenletes allokáció: minden folyamat azonos számú lap-keretet kap. Egyszerű és nem hatéko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rányos (proporcionális) allokáció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folyamatok virtuális tár-igényük alapján kapnak lap-kerete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folyamatok prioritásuk alapján kapnak lap-kerete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Globális allokáció prioritással: lényege, hogy egy magasabb prioritású taszk elvehet lap-kereteket egy alacsonyabb prioritásút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Vergődés (thrashing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z az állapot amikor a CPU több időt fordít a laphibák kezelésére, mint a hasznos tevékenység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77E8-D4F4-4F50-9977-DA03F5B7384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02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lőnye,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hogy helyes becslés esetén kevesebb laphiba lesz, gyorsabban futnak a programok. Hátrány: jó becsléshez bonyololult algoritmus kell, ami sok időt kíván. Hibátlan jóslásra elvileg nincs lehetősé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-637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Visszatérünk egy már érintett kérdésre: melyik lap helyére hozzuk be? Elvi válasz: legrégebben használt, nem módosított lap helyére. Milyen algoritmussal választjuk ki az „áldozatot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D84F-5283-47F1-9A33-A9233AB2BD7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Hatása: a CPU és így az egész számítógép kihasználtsága lecsö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8080" y="1752480"/>
            <a:ext cx="0" cy="2971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4724280"/>
            <a:ext cx="5791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43000" y="4343400"/>
            <a:ext cx="76320" cy="76320"/>
          </a:xfrm>
          <a:prstGeom prst="diamond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3924360"/>
            <a:ext cx="76320" cy="76320"/>
          </a:xfrm>
          <a:prstGeom prst="diamond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05120" y="3505320"/>
            <a:ext cx="75960" cy="75960"/>
          </a:xfrm>
          <a:prstGeom prst="diamond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3200400"/>
            <a:ext cx="75960" cy="76320"/>
          </a:xfrm>
          <a:prstGeom prst="diamond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2895480"/>
            <a:ext cx="76320" cy="76320"/>
          </a:xfrm>
          <a:prstGeom prst="diamond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2666880"/>
            <a:ext cx="76320" cy="76320"/>
          </a:xfrm>
          <a:prstGeom prst="diamond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2590920"/>
            <a:ext cx="0" cy="228600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29000" y="2743200"/>
            <a:ext cx="76320" cy="76320"/>
          </a:xfrm>
          <a:prstGeom prst="diamond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3200400"/>
            <a:ext cx="76320" cy="76320"/>
          </a:xfrm>
          <a:prstGeom prst="diamond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3581280"/>
            <a:ext cx="76320" cy="76320"/>
          </a:xfrm>
          <a:prstGeom prst="diamond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91120" y="3886200"/>
            <a:ext cx="75960" cy="76320"/>
          </a:xfrm>
          <a:prstGeom prst="diamond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95680" y="4114800"/>
            <a:ext cx="76320" cy="76320"/>
          </a:xfrm>
          <a:prstGeom prst="diamond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4343400"/>
            <a:ext cx="76320" cy="76320"/>
          </a:xfrm>
          <a:prstGeom prst="diamond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81480" y="4419720"/>
            <a:ext cx="76320" cy="75960"/>
          </a:xfrm>
          <a:prstGeom prst="diamond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2362320"/>
            <a:ext cx="2590560" cy="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1752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vergőd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81280" y="4952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Taszkok száma a CPU-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16765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kihasználtsá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819C-C6EA-44F2-AF53-6481A4AD8E9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Vergődés elkerülé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560" y="6858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Lokális lapkeret allokáció előnyös, mert egy taszk vergődése nem okozza a többié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Lokális laphalmaz modell: a taszk futásának egy adott fázisában használt lapok halmaz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Időben változ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Vergődés elkerülhető, ha minden pillanatban annyi lapja van a taszknak, amennyi a lokális laphalmaz számossá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Baj, hogy nem követhető folytonosan a halmaz változása, mert leterhelné a CPU-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C5E3-C3A7-4750-B30C-2E245A2DE54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Közelítjük a lokális laphalmazt, csak adott időszakokra vizsgáljuk, így kapjuk a munkahalmaz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Legyen 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1" lang="hu-HU" sz="2800" spc="-1" strike="noStrike" baseline="-25000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z i-edik folyamat munkahalmazának számossága, akkor </a:t>
            </a:r>
            <a:br>
              <a:rPr sz="2800"/>
            </a:b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D=</a:t>
            </a:r>
            <a:r>
              <a:rPr b="1" lang="hu-HU" sz="2800" spc="-1" strike="noStrike">
                <a:solidFill>
                  <a:srgbClr val="ffff00"/>
                </a:solidFill>
                <a:latin typeface="Symbol"/>
                <a:ea typeface="Symbol"/>
              </a:rPr>
              <a:t>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 n</a:t>
            </a:r>
            <a:r>
              <a:rPr b="1" lang="hu-HU" sz="2800" spc="-1" strike="noStrike" baseline="-25000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a rendszer teljes lapkeret igény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Legyen 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a rendelkezésre álló lapkeretek szá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zek alapján, ha 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D &gt; F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, akkor egy v. több taszkot ki kell venni a rendszerbő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a 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D &lt;&lt; F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, akkor új taszkokat kell indíta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a egy processz nem kap 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1" lang="hu-HU" sz="2800" spc="-1" strike="noStrike" baseline="-25000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lapot, akkor egy v. több processzt ki kell venni a rendszerbő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80CA-2E99-45B1-98AB-16955769802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Laphiba gyakoriságon alapuló vergődés-elkerül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gyakorlatban elterjedtebb módszer, az időegység alatt az egyes taszkok által okozott laphibák száma alapján dönt a rendsz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a egy adott érték feletti a gyakoriság, akkor vergődik a tasz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a egy adott érték alatti a gyakoriság, akkor túl sok lapja v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két érték között van az egyensúlyi állap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CEC2-35F2-46E2-A520-D70A5D1A50B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Lapok zárolá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Zárolás (befagyasztás): a lapra vonatkozóan időlegesen letiltjuk a kilapozá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rre olyankor lehet szükség, ha az egyik taszk elindít egy hosszú I/O műveletet, saját lapjára, de közben egy másik taszk futása miatt ezt a lapot a rendszer lecseréln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ásik megoldás: I/O műveletet csak az operációs rendszer területére lehet végez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6F0E-508C-4EDB-89CE-B70AC4AB5F4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ffffff"/>
                </a:solidFill>
                <a:uFillTx/>
                <a:latin typeface="Times New Roman"/>
              </a:rPr>
              <a:t>LAPCSERE ALGORITMUS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Vizsgálat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feltétele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Lokális tárgazdálkodás, azaz minden folyamat csak a saját lapkeretével gazdálkodhat, más folyamatéval n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Értékelési szempont: minimális laphiba. (Nem foglalkozunk azzal, hogy a felülírandó lap módosult-e behozatala óta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Laphibák száma füg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folyamat (processz) memóriahivatkozásainak sorrendjétő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folyamat rendelkezésére álló lap-keretek számátó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F028-85D7-4074-8369-A4CDC3950ED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16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A rendszermod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100 lap-ker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Lokális tárgazdálkod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vizsgált folyamatnak 3 darab lap-keret áll rendelkezésé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címhivatkozásokban az egymást követő azonos lapszámok összevonhatók (azonos lap biztosan nem okoz laphibát), igy kapjuk az ú.n. </a:t>
            </a:r>
            <a:r>
              <a:rPr b="1" i="1" lang="hu-HU" sz="3200" spc="-1" strike="noStrike">
                <a:solidFill>
                  <a:srgbClr val="ffffff"/>
                </a:solidFill>
                <a:latin typeface="Times New Roman"/>
              </a:rPr>
              <a:t>referencia-füzért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, referencia-sztring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Legyen ez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7,0,1, 2,0,3,0,4,2,3,0,3,2,1,2,0,1,7,0,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FA78-A5A5-43BB-AAF0-1A62CB8714C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16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Optimális helyettesít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zt a lapot cseréljük le, amelyet legkésőbb fogunk használni. Nyilvánvalóan így lesz a  legkevesebb a laphib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2703600"/>
            <a:ext cx="8763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7 0 1 2 0 3 0 4 2 3 0 3 2 1 2 0 1 7 0 1</a:t>
            </a: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2438280"/>
            <a:ext cx="0" cy="265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3657600"/>
            <a:ext cx="8763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3300"/>
                </a:solidFill>
                <a:latin typeface="Courier New"/>
              </a:rPr>
              <a:t>7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 7 7 </a:t>
            </a:r>
            <a:r>
              <a:rPr b="1" lang="hu-HU" sz="2800" spc="-1" strike="noStrike">
                <a:solidFill>
                  <a:srgbClr val="ff3300"/>
                </a:solidFill>
                <a:latin typeface="Courier New"/>
              </a:rPr>
              <a:t>2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 2 2 2 2 2 2 2 2 2 2 2 2 2 </a:t>
            </a:r>
            <a:r>
              <a:rPr b="1" lang="hu-HU" sz="2800" spc="-1" strike="noStrike">
                <a:solidFill>
                  <a:srgbClr val="ff3300"/>
                </a:solidFill>
                <a:latin typeface="Courier New"/>
              </a:rPr>
              <a:t>7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 7 7</a:t>
            </a: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4419720"/>
            <a:ext cx="8763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hu-HU" sz="2800" spc="-1" strike="noStrike">
                <a:solidFill>
                  <a:srgbClr val="ff3300"/>
                </a:solidFill>
                <a:latin typeface="Courier New"/>
              </a:rPr>
              <a:t>0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 0 0 0 0 0 </a:t>
            </a:r>
            <a:r>
              <a:rPr b="1" lang="hu-HU" sz="2800" spc="-1" strike="noStrike">
                <a:solidFill>
                  <a:srgbClr val="ff3300"/>
                </a:solidFill>
                <a:latin typeface="Courier New"/>
              </a:rPr>
              <a:t>4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 4 4 </a:t>
            </a:r>
            <a:r>
              <a:rPr b="1" lang="hu-HU" sz="2800" spc="-1" strike="noStrike">
                <a:solidFill>
                  <a:srgbClr val="ff3300"/>
                </a:solidFill>
                <a:latin typeface="Courier New"/>
              </a:rPr>
              <a:t>0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 0 0 0 0 0 0 0 0 0</a:t>
            </a: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5257800"/>
            <a:ext cx="8763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hu-HU" sz="2800" spc="-1" strike="noStrike">
                <a:solidFill>
                  <a:srgbClr val="ff3300"/>
                </a:solidFill>
                <a:latin typeface="Courier New"/>
              </a:rPr>
              <a:t>1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 1 1 </a:t>
            </a:r>
            <a:r>
              <a:rPr b="1" lang="hu-HU" sz="2800" spc="-1" strike="noStrike">
                <a:solidFill>
                  <a:srgbClr val="ff3300"/>
                </a:solidFill>
                <a:latin typeface="Courier New"/>
              </a:rPr>
              <a:t>3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 3 3 3 3 3 3 3 </a:t>
            </a:r>
            <a:r>
              <a:rPr b="1" lang="hu-HU" sz="2800" spc="-1" strike="noStrike">
                <a:solidFill>
                  <a:srgbClr val="ff3300"/>
                </a:solidFill>
                <a:latin typeface="Courier New"/>
              </a:rPr>
              <a:t>1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 1 1 1 1 1 1</a:t>
            </a: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2438280"/>
            <a:ext cx="0" cy="265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2438280"/>
            <a:ext cx="0" cy="265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2438280"/>
            <a:ext cx="0" cy="265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3200" y="2438280"/>
            <a:ext cx="0" cy="265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00600" y="2438280"/>
            <a:ext cx="0" cy="265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5880" y="2438280"/>
            <a:ext cx="0" cy="265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772400" y="2438280"/>
            <a:ext cx="0" cy="265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81280" y="2438280"/>
            <a:ext cx="0" cy="265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349F-D7B3-4286-B40C-57F479F9BAC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09480" y="304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9 laphi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z algoritmus megvalósíthatalan, mert nem tudjuk előre, hogy melyik lapra mikor fogunk hivatkozni, közelítő módszerek alkalmazása viszont elrontja a hatékonyságot. (Megj.: még jobb eredmény lenne elérhető úgy, hogy a lapváltást  a tényleges használat </a:t>
            </a:r>
            <a:r>
              <a:rPr b="1" i="1" lang="hu-HU" sz="3200" spc="-1" strike="noStrike">
                <a:solidFill>
                  <a:srgbClr val="ffffff"/>
                </a:solidFill>
                <a:latin typeface="Times New Roman"/>
              </a:rPr>
              <a:t>gyakorisága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lapján végeznénk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D695-B384-4E34-AE0F-5FECFBBB5E5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Előnek behozott helyettesítése (FIFO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indig a legrégebben benn lévő lapot cseréljük 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2703600"/>
            <a:ext cx="8763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7 0 1 2 0 3 0 4 2 3 0 3 2 1 2 0 1 7 0 1</a:t>
            </a: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3657600"/>
            <a:ext cx="8763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3300"/>
                </a:solidFill>
                <a:latin typeface="Courier New"/>
              </a:rPr>
              <a:t>7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 7 7 </a:t>
            </a:r>
            <a:r>
              <a:rPr b="1" lang="hu-HU" sz="2800" spc="-1" strike="noStrike">
                <a:solidFill>
                  <a:srgbClr val="ff3300"/>
                </a:solidFill>
                <a:latin typeface="Courier New"/>
              </a:rPr>
              <a:t>2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 2 2 2 </a:t>
            </a:r>
            <a:r>
              <a:rPr b="1" lang="hu-HU" sz="2800" spc="-1" strike="noStrike">
                <a:solidFill>
                  <a:srgbClr val="ff3300"/>
                </a:solidFill>
                <a:latin typeface="Courier New"/>
              </a:rPr>
              <a:t>4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 4 4 </a:t>
            </a:r>
            <a:r>
              <a:rPr b="1" lang="hu-HU" sz="2800" spc="-1" strike="noStrike">
                <a:solidFill>
                  <a:srgbClr val="ff3300"/>
                </a:solidFill>
                <a:latin typeface="Courier New"/>
              </a:rPr>
              <a:t>0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 0 0 0 0 0 0 </a:t>
            </a:r>
            <a:r>
              <a:rPr b="1" lang="hu-HU" sz="2800" spc="-1" strike="noStrike">
                <a:solidFill>
                  <a:srgbClr val="ff3300"/>
                </a:solidFill>
                <a:latin typeface="Courier New"/>
              </a:rPr>
              <a:t>7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 7 7</a:t>
            </a: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4419720"/>
            <a:ext cx="8763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hu-HU" sz="2800" spc="-1" strike="noStrike">
                <a:solidFill>
                  <a:srgbClr val="ff3300"/>
                </a:solidFill>
                <a:latin typeface="Courier New"/>
              </a:rPr>
              <a:t>0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 0 0 0 </a:t>
            </a:r>
            <a:r>
              <a:rPr b="1" lang="hu-HU" sz="2800" spc="-1" strike="noStrike">
                <a:solidFill>
                  <a:srgbClr val="ff3300"/>
                </a:solidFill>
                <a:latin typeface="Courier New"/>
              </a:rPr>
              <a:t>3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 3 3 </a:t>
            </a:r>
            <a:r>
              <a:rPr b="1" lang="hu-HU" sz="2800" spc="-1" strike="noStrike">
                <a:solidFill>
                  <a:srgbClr val="ff3300"/>
                </a:solidFill>
                <a:latin typeface="Courier New"/>
              </a:rPr>
              <a:t>2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 2 2 2 2 </a:t>
            </a:r>
            <a:r>
              <a:rPr b="1" lang="hu-HU" sz="2800" spc="-1" strike="noStrike">
                <a:solidFill>
                  <a:srgbClr val="ff3300"/>
                </a:solidFill>
                <a:latin typeface="Courier New"/>
              </a:rPr>
              <a:t>1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 1 1 1 1 </a:t>
            </a:r>
            <a:r>
              <a:rPr b="1" lang="hu-HU" sz="2800" spc="-1" strike="noStrike">
                <a:solidFill>
                  <a:srgbClr val="ff3300"/>
                </a:solidFill>
                <a:latin typeface="Courier New"/>
              </a:rPr>
              <a:t>0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 0</a:t>
            </a: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5257800"/>
            <a:ext cx="8763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hu-HU" sz="2800" spc="-1" strike="noStrike">
                <a:solidFill>
                  <a:srgbClr val="ff3300"/>
                </a:solidFill>
                <a:latin typeface="Courier New"/>
              </a:rPr>
              <a:t>1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 1 1 1 </a:t>
            </a:r>
            <a:r>
              <a:rPr b="1" lang="hu-HU" sz="2800" spc="-1" strike="noStrike">
                <a:solidFill>
                  <a:srgbClr val="ff3300"/>
                </a:solidFill>
                <a:latin typeface="Courier New"/>
              </a:rPr>
              <a:t>0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 0 0 </a:t>
            </a:r>
            <a:r>
              <a:rPr b="1" lang="hu-HU" sz="2800" spc="-1" strike="noStrike">
                <a:solidFill>
                  <a:srgbClr val="ff3300"/>
                </a:solidFill>
                <a:latin typeface="Courier New"/>
              </a:rPr>
              <a:t>3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 3 3 3 3 </a:t>
            </a:r>
            <a:r>
              <a:rPr b="1" lang="hu-HU" sz="2800" spc="-1" strike="noStrike">
                <a:solidFill>
                  <a:srgbClr val="ff3300"/>
                </a:solidFill>
                <a:latin typeface="Courier New"/>
              </a:rPr>
              <a:t>2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 2 2 2 2 </a:t>
            </a:r>
            <a:r>
              <a:rPr b="1" lang="hu-HU" sz="2800" spc="-1" strike="noStrike">
                <a:solidFill>
                  <a:srgbClr val="ff3300"/>
                </a:solidFill>
                <a:latin typeface="Courier New"/>
              </a:rPr>
              <a:t>1</a:t>
            </a: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2362320"/>
            <a:ext cx="0" cy="264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2362320"/>
            <a:ext cx="0" cy="264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47920" y="2362320"/>
            <a:ext cx="0" cy="264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28800" y="2362320"/>
            <a:ext cx="0" cy="264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2362320"/>
            <a:ext cx="0" cy="264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2362320"/>
            <a:ext cx="0" cy="264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81280" y="2362320"/>
            <a:ext cx="0" cy="264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2362320"/>
            <a:ext cx="0" cy="264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19720" y="2362320"/>
            <a:ext cx="0" cy="264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920" y="2362320"/>
            <a:ext cx="0" cy="264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5880" y="2362320"/>
            <a:ext cx="0" cy="264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553080" y="2362320"/>
            <a:ext cx="0" cy="264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48720" y="2362320"/>
            <a:ext cx="0" cy="264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229600" y="2362320"/>
            <a:ext cx="0" cy="264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686800" y="2362320"/>
            <a:ext cx="0" cy="264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9880" y="2743200"/>
            <a:ext cx="304920" cy="297180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943600" y="2703600"/>
            <a:ext cx="304920" cy="297180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769D-331B-4C31-9950-6915B09A4BA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09480" y="3045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15 laphi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Nem veszi figyelembe a használat gyakoriságát, lehet hogy az éppen végrehajtott lapozás lesz a következő o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Bélády-féle anomália: a folyamat rendelkezésére álló lap-keretek számának függvényében a laphibák száma nem monoton csökkenő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Példa: az 1,2,3,4,1,2,5,1,2,3,4,5  referencia füzér 3 lap esetén 9, 4 lap esetén 10 laphibával já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2C12-88D8-45AE-BDEB-F83100717F0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Legrégebben használt (Least Recently Used, LRU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180800"/>
            <a:ext cx="84582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leghosszabb ideje nem használt lapot cseréli ki (emlékezzünk: időbeli közelség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703600"/>
            <a:ext cx="8763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7 0 1 2 0 3 0 4 2 3 0 3 2 1 2 0 1 7 0 1</a:t>
            </a: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3657600"/>
            <a:ext cx="8763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3300"/>
                </a:solidFill>
                <a:latin typeface="Courier New"/>
              </a:rPr>
              <a:t>7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 7 7 </a:t>
            </a:r>
            <a:r>
              <a:rPr b="1" lang="hu-HU" sz="2800" spc="-1" strike="noStrike">
                <a:solidFill>
                  <a:srgbClr val="ff3300"/>
                </a:solidFill>
                <a:latin typeface="Courier New"/>
              </a:rPr>
              <a:t>2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 2 2 2 </a:t>
            </a:r>
            <a:r>
              <a:rPr b="1" lang="hu-HU" sz="2800" spc="-1" strike="noStrike">
                <a:solidFill>
                  <a:srgbClr val="ff3300"/>
                </a:solidFill>
                <a:latin typeface="Courier New"/>
              </a:rPr>
              <a:t>4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 4 4 </a:t>
            </a:r>
            <a:r>
              <a:rPr b="1" lang="hu-HU" sz="2800" spc="-1" strike="noStrike">
                <a:solidFill>
                  <a:srgbClr val="ff3300"/>
                </a:solidFill>
                <a:latin typeface="Courier New"/>
              </a:rPr>
              <a:t>0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 0 0 </a:t>
            </a:r>
            <a:r>
              <a:rPr b="1" lang="hu-HU" sz="2800" spc="-1" strike="noStrike">
                <a:solidFill>
                  <a:srgbClr val="ff3300"/>
                </a:solidFill>
                <a:latin typeface="Courier New"/>
              </a:rPr>
              <a:t>1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 1 1 1 1 1 1</a:t>
            </a: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4419720"/>
            <a:ext cx="8763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hu-HU" sz="2800" spc="-1" strike="noStrike">
                <a:solidFill>
                  <a:srgbClr val="ff3300"/>
                </a:solidFill>
                <a:latin typeface="Courier New"/>
              </a:rPr>
              <a:t>0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 0 0 0 0 0 0 0 </a:t>
            </a:r>
            <a:r>
              <a:rPr b="1" lang="hu-HU" sz="2800" spc="-1" strike="noStrike">
                <a:solidFill>
                  <a:srgbClr val="ff3300"/>
                </a:solidFill>
                <a:latin typeface="Courier New"/>
              </a:rPr>
              <a:t>3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 3 3 3 3 3 </a:t>
            </a:r>
            <a:r>
              <a:rPr b="1" lang="hu-HU" sz="2800" spc="-1" strike="noStrike">
                <a:solidFill>
                  <a:srgbClr val="ff3300"/>
                </a:solidFill>
                <a:latin typeface="Courier New"/>
              </a:rPr>
              <a:t>0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 0 0 </a:t>
            </a:r>
            <a:r>
              <a:rPr b="1" lang="hu-HU" sz="2800" spc="-1" strike="noStrike">
                <a:solidFill>
                  <a:srgbClr val="ff3300"/>
                </a:solidFill>
                <a:latin typeface="Courier New"/>
              </a:rPr>
              <a:t>0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 0</a:t>
            </a: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5257800"/>
            <a:ext cx="8763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hu-HU" sz="2800" spc="-1" strike="noStrike">
                <a:solidFill>
                  <a:srgbClr val="ff3300"/>
                </a:solidFill>
                <a:latin typeface="Courier New"/>
              </a:rPr>
              <a:t>1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 1 1 </a:t>
            </a:r>
            <a:r>
              <a:rPr b="1" lang="hu-HU" sz="2800" spc="-1" strike="noStrike">
                <a:solidFill>
                  <a:srgbClr val="ff3300"/>
                </a:solidFill>
                <a:latin typeface="Courier New"/>
              </a:rPr>
              <a:t>3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 3 3 </a:t>
            </a:r>
            <a:r>
              <a:rPr b="1" lang="hu-HU" sz="2800" spc="-1" strike="noStrike">
                <a:solidFill>
                  <a:srgbClr val="ff3300"/>
                </a:solidFill>
                <a:latin typeface="Courier New"/>
              </a:rPr>
              <a:t>2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 2 2 2 2 2 2 2 2 </a:t>
            </a:r>
            <a:r>
              <a:rPr b="1" lang="hu-HU" sz="2800" spc="-1" strike="noStrike">
                <a:solidFill>
                  <a:srgbClr val="ff3300"/>
                </a:solidFill>
                <a:latin typeface="Courier New"/>
              </a:rPr>
              <a:t>7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 7 7</a:t>
            </a: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2362320"/>
            <a:ext cx="0" cy="264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2362320"/>
            <a:ext cx="0" cy="264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2362320"/>
            <a:ext cx="0" cy="264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2362320"/>
            <a:ext cx="0" cy="264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43200" y="2362320"/>
            <a:ext cx="0" cy="264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81280" y="2362320"/>
            <a:ext cx="0" cy="264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2362320"/>
            <a:ext cx="0" cy="264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362320"/>
            <a:ext cx="0" cy="264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76920" y="2362320"/>
            <a:ext cx="0" cy="264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880" y="2362320"/>
            <a:ext cx="0" cy="264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848720" y="2362320"/>
            <a:ext cx="0" cy="264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34320" y="2381400"/>
            <a:ext cx="0" cy="264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6D88-C22F-42D2-A86A-0834552E307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19:31:50Z</dcterms:created>
  <dc:creator>X</dc:creator>
  <dc:description/>
  <dc:language>en-US</dc:language>
  <cp:lastModifiedBy>Neuron BT</cp:lastModifiedBy>
  <dcterms:modified xsi:type="dcterms:W3CDTF">2005-10-04T21:20:00Z</dcterms:modified>
  <cp:revision>84</cp:revision>
  <dc:subject/>
  <dc:title>TELJESÍTMÉNYFOKOZÓ ARCHITEKTÚRÁLIS ELVEK</dc:title>
</cp:coreProperties>
</file>