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E1F-407F-4C49-BB76-48C7BA42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30D-2FC0-406B-9FC8-7236B88F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6EB-BD20-412F-8018-0D8C523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9DD-B606-4378-A505-C5813681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661-6A80-4F07-A008-695DCD2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0B6-4111-457E-824F-57FA316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B8C-9DA9-4B2E-8B08-10ADF85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892-73FD-4B3C-AB24-7E3AE92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F14-A4C0-4F62-9032-1B5B16DE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BC0-2DE7-415C-B007-3FBEFEE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DC2-3F3E-423E-945C-EC05EAB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F07-249E-44FA-AA58-B374050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B1D-0935-4D18-98C4-9F90C85C54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CPU JELLEMZÉSE PROGRAMOZÓI OLDALRÓ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oftver modell, programozási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özponti egység azon részeit tartalmazza  amelyek utasításokkal (közvetlenül) elérhetők, befolyásolhatók. Másszóval: amit egy (assembly) programozó lát a CPU-b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028-C2BF-4C12-B017-947D1F6557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304920"/>
            <a:ext cx="3809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[c*(a-b)+d]/e </a:t>
            </a:r>
            <a:r>
              <a:rPr b="1" lang="hu-HU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ab-c*d+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1132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68520"/>
            <a:ext cx="129528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00340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43828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87352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111132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56852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00340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438280"/>
            <a:ext cx="1295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6640" y="343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rdított lengyel a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154160"/>
            <a:ext cx="1295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a-b)*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589040"/>
            <a:ext cx="1295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057400"/>
            <a:ext cx="1295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960" y="3809880"/>
            <a:ext cx="838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2040" y="3809880"/>
            <a:ext cx="8384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00480" y="3809880"/>
            <a:ext cx="838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38560" y="3809880"/>
            <a:ext cx="838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rem a végrehajtás so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187280"/>
            <a:ext cx="1295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a-b)*c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1600200"/>
            <a:ext cx="1295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219320"/>
            <a:ext cx="17528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(a-b)*c+d)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4D9-FA93-4758-92B9-E2FE9CCBD7B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ATTÍPUS KÉSZ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„természetes” adattípusok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jeles (2-es komplemens) és előjel nélküli bináris egé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éha (főleg nagygépeknél) pakolt 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begőpontos (társprocesszor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arakter v. báj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onyolultabb adattípusok (absztrakt!?) megvalósítása programmal (ld. késő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BBF-EEA8-44C0-B655-E825546437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GISZTERKÉSZ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giszterműveletek gyorsak, ezért igyekeznek lehetőleg sok regisztert alkalma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regiszterek lehetnek általános célú (GPR) vagy dedikált (pld. PC, SP), azaz egy célra szolgáló regiszter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általános célú regiszterek operandust/eredményt tárolnak, a dedikáltakat inkább közvetett úton használ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zzáférés alapján lehetn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abad hozzáférés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ndszer regiszterek (felhasználó nem férhet hozz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D58-EFEF-46E0-8E96-F445B1BC5B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özvetlenül elérhető regiszt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kkumulá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inte minden gépben van, rendszerint 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an olyan gép is, ahol több regiszter is használható akkumulátorké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dexregisz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adatok elérésében használjuk (ld. később a címzési módoknál), néha automatikusan inkrementáló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ámláló regiszter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iklus szervezését támogatják, egy utasításra csökken a tartalmuk és „ugrik” 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554-B40D-44C0-8601-CCF7056110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gisztertömbök, a CPU-n belül kialakított, funkcionálisan azonos általános célú regiszterek csoportja. Egyedileg nem, csak egy dedikált regiszter tartalma alapján lehet elérni ő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helyezkedés lehet a memóriában is: memóriába ágyazott regiszterek (célprocesszor, pld. D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F22-5E90-4C5A-B3C9-19FF04DBF3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özvetett hozzáférésű regiszte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artalmukat csak indirekt módon lehet befolyásolni (* = vagy főleg úgy módosul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mória cím ill. adatregisz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remmutató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ítás számláló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lag regiszter*, a jelzőbiteket egyetlen egységbe fogja öss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mória/regisztertömb elérésével kapcsolatos regiszter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egmens regiszter (Intel csalá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egisztertömb címregisz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A69-3E5D-49E9-90CA-8533632BD4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LZŐBITEK FLAG-E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28520"/>
            <a:ext cx="853416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részük minden gépben fellelhető, főleg az aritmetikai műveletek eredményével kapcsolatosak, mások CPU-függő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itmetikai/logikai műveletek jelzőbitj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: nulla flag, 0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zérus, 1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érus az eredm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: előjelbit, 0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pozitív, 1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nega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: átvitel, összeadásnál/kivonásnál állítódik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: túlcsordulás, összeadásnál, kivonásnál állító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: paritásbit, nem mindig 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DE5-3BEF-4CC4-A4DD-377CF75C6F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éb jelzőbitek (CPU-függő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: fél-átvitel, 8 bites gépekn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: megszakítás engedélyezés/til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: trap, lépésenkénti végrehajtás vezér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: irány jelző, memória mozgatás esetén az indexregiszter módosulását vezé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ovábbi, főleg az operációs rendszer funkcióival kapcsolatos bitek, amelyeket az i80386-nál vizsgál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07C-DFCC-4B54-9604-6CE75760EB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MEMÓRIAKÉP, CÍMZÉSI MÓD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28520"/>
            <a:ext cx="853416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peset: a CPU a memóriát tárolóhelyek struktúrálatlan láncolatának lát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ozzáférési egységek: általában illeszkednek az adatsín szélességéhez, de kisebb és nagyobb egység is elérhető (lassúbb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zési mód: az az eljárás, ahogyan az utasításban található cím-részekből kialakul a tényleges memóriací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sak az alapvetőket nézzük most, többit az i80386-ná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8D4-2993-43F1-B9FD-AD3D9A6AD2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vetlen v. direkt címzés: az utasítás a teljes címet tartalmazza (1 komponensű címz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ors, de kis memóriaterület érhető el vele, főleg kis bitszélességű processzoroknál található, változó utasításhosszra vezet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762280"/>
            <a:ext cx="76176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762280"/>
            <a:ext cx="205740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6228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29908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257640"/>
            <a:ext cx="8610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vetett v. indirekt címzés: az utasítás a cím címét tartalmazza (1 komponens, láncolás lehetég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érhető memóriaterület megnő, de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ké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memóriaművelet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715000"/>
            <a:ext cx="76176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715000"/>
            <a:ext cx="160020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563868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 cí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88636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638680"/>
            <a:ext cx="221004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88636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5FC-4208-420E-BC3D-A2123756FF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UTASÍTÁS CSOPORT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ritmetikai/logik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den gépben van ADD, SUB nagyobbakban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L, DIV. Logikaiak: AND, OR, NOT, X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éptető: regiszterek tartalmán műkö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ajtái: jobbra/balra, ciklikus/kiléptető, logikai/aritme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 utasítással előírható lépésszám: kis CPU esetén 1, bonyolultabb esteben max. n (a regiszter bitszá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eléphet: 0, az előjel, illetve az átvitelbit érté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mozgató (címszám csökkentés mia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ából regiszterbe: LOAD, párja: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EA9-CAB8-44CC-8AE9-94CD9C103E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giszteres (1 komponens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nt a direkt, de regisztert cím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333440"/>
            <a:ext cx="19810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1333440"/>
            <a:ext cx="12193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33344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156204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87624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mór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01924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giszteres indirekt (1 komponens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andus címe regiszterben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314316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 cí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39084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143160"/>
            <a:ext cx="221004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39084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143160"/>
            <a:ext cx="198144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143160"/>
            <a:ext cx="121896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3638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363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199040"/>
            <a:ext cx="7772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vetlen (immediate) operandus, nem igazi cím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operandus az utasításban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562720"/>
            <a:ext cx="7621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5562720"/>
            <a:ext cx="205740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5F1-7147-43F4-8984-AECB303CCA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153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dexelt (2 komponens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ím az indexregiszter tartalmából és az utasítás cím-részéből szárma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nyös, ha több adaton kell műveletet végez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743200"/>
            <a:ext cx="7621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743200"/>
            <a:ext cx="205740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ázis (kezdő)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19440"/>
            <a:ext cx="28195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ffset (eltol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267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ndexregisz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7432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981160"/>
            <a:ext cx="761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320004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3809880"/>
            <a:ext cx="99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29718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274320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pera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724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ndexregiszter tartalma változtatható: post/pre increment/decrement, növekmény fix(1,2,4,8) v. beállí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9E5-0B7D-48F5-AD32-E11B96374C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C relatív (2 komponens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cím az utasításszámláló tartalmából és az utasítás cím-részéből szárma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sősorban vezérlésátadásra szolgál, adatokat ritkán címeznek í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orlátozott az elérhető tartomány, de nem kell második memória műve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utasításszámláló már megnövekedett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962520"/>
            <a:ext cx="7621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962520"/>
            <a:ext cx="205740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838760"/>
            <a:ext cx="281952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öv. ut. cí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2670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200480"/>
            <a:ext cx="761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495680" y="4419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5029200"/>
            <a:ext cx="99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41911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962520"/>
            <a:ext cx="22096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4495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5334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számlá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715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komponensű: az előzőek kombináció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9BF-C566-45F2-AF68-5F1CF68E6D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EGSZAKÍTÁS-KEZ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akítás (interrupt): a program utasítá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végrehajtásának időleges felfüggesztése egy esemény/jel hatására és az eseményt kezelő program elindítása. Programmal is kivál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olyamat egyszerűsített me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sszatérési cím megjegyzése (folytatni kell!)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seményhez tartozó kezelőprogram indítás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ott program állapotának men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semény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rolt állapot visszaál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isszatérés a megszakított progra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258-3F99-418E-8D6C-4095157357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rdware támogatás kell a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-val jelölt lépése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akítás kérés elfogadása az éppen végrehajtott utasítás befejeződése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 megszakítási „szint” létezik, ezek között elsőbbségi sorrend, prioritás áll fe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 stratég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egy megszakítás kezelése elkezdődött, további megszakítást nem fogad el a gép. Egyszerű, rugalmatlan és nem haték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megszakítások egymásba ágyazhat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sak magasabb szintű fogadható el, ez az általá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gyanazon a szinten is jöhet újabb kérés, ez a legrugalmasa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06-52DA-4A35-99C9-372D270E79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atérési cím ment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utomatikus, a CPU-ban lévő logika a megszakítás kérő jel hatására a PC tartalmát a verem tetejére tes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ezelőprogram azonosítá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utomatikus, vagy a megszakítást kérő eszköz, vagy egy spec. áramkör segítség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858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28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ogram f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T k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676520"/>
            <a:ext cx="2590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T kezelő program f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685800"/>
            <a:ext cx="76320" cy="914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047760" y="762120"/>
            <a:ext cx="2514600" cy="838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685800"/>
            <a:ext cx="2895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286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szakított program folytatód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B58-6608-4E72-A140-70E376C633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05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onosítás mód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leges, rövid „szubrutinhívó” utasítás rákényszerítése az adatsínre (mindkét lépés együtt). 8 bites proc. 8080, Z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 megszakítási azonosítószámból az  ú.n. „vektor”-ból a CPU határozza meg. A vektor egy, a memóriában található IT tábla egy elemét jelöli ki, ott van a kezelőprogram címe, a CPU arra ugrik. (Intel CPU-k 256 megszakítási sz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58A-94D0-4D2A-A780-C3F3C742A0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Z INPUT/OUTPUT REND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szközszintű és eszközfüggetlen, logika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szerű esetekre be (IN) / kiviteli (OUT) utasítás, átvitel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 regiszter és a periféria között. Ez a programozott I/O. A CPU-nak várni kell a lassú perifériára. Gazdaságta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elzőbitre alapozott: a periféria beállít egy tárolót, jelezve hogy adatot akar továbbítani, a CPU ezt érzékeli (ciklikus letapogatás v. IT) és elveszi az adatot, ezzel törli a jelzőbit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irányú jelzés: szema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EA6-4468-4974-AC1F-D7DCFAA631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Logikai I/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üggetlenítjük a CPU-t a perifériakezelés eszközfüggő részleteitől, azt külön egység, a csatorna v. az I/O társprocesszor v. az intelligens eszközvezérlő végz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feladata az elvégzendő művelet paramétereinek beállítása és a működés elindít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satorna: az IBM gépeknél alkalmazták először. Gyors eszközöket kezel a szelektor, több lassút a multiplexor csato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0F2-B113-4C2A-9735-DAE07EF667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speciális, csatornaparancsokból álló programot tölt a csatornába, azt elindítja, a működés végét a csatorna megszakításkéréssel jelz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I/O társprocesszor működése hasonló a csatornáéhoz, de korlátozott adatfeldolgozó utasításai is vannak, így előfeldolgozást is tud végezni. Az I/O processzor programja a memóriában v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két eszköz képes a DMA egység használatá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E3B-9D4B-436A-88B5-05C070D411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zérlésátadó (még további cím-szám csökkentés mia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grás feltétel nélkül: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tételes ugrás: J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cond,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hol a feltétel alap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Z, NZ zérus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, NC átvitel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, N előjel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, NE egyenlőség vizsgálat, nem állapotb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.í.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ívó és visszatérő utasít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első programszervezés, moduláris program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é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gállító H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Üres N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768-6D59-45E0-9468-ADF701C5F2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85800"/>
            <a:ext cx="7543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rocesszorsí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143000"/>
            <a:ext cx="17524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Általá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1143000"/>
            <a:ext cx="17524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/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rocessz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1143000"/>
            <a:ext cx="17528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6858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6858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68580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200400"/>
            <a:ext cx="7467480" cy="0"/>
          </a:xfrm>
          <a:prstGeom prst="line">
            <a:avLst/>
          </a:prstGeom>
          <a:ln w="114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200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eriférias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2438280"/>
            <a:ext cx="304560" cy="685800"/>
          </a:xfrm>
          <a:prstGeom prst="upDownArrow">
            <a:avLst>
              <a:gd name="adj1" fmla="val 50000"/>
              <a:gd name="adj2" fmla="val 4482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438280"/>
            <a:ext cx="304560" cy="685800"/>
          </a:xfrm>
          <a:prstGeom prst="upDownArrow">
            <a:avLst>
              <a:gd name="adj1" fmla="val 50000"/>
              <a:gd name="adj2" fmla="val 4482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657600"/>
            <a:ext cx="17524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erifé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ezér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657600"/>
            <a:ext cx="17528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erifé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llesz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809880"/>
            <a:ext cx="17524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erifé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410080"/>
            <a:ext cx="17524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erifé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5410080"/>
            <a:ext cx="175284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erifé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19112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9528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48769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276720"/>
            <a:ext cx="152640" cy="304560"/>
          </a:xfrm>
          <a:prstGeom prst="upDownArrow">
            <a:avLst>
              <a:gd name="adj1" fmla="val 50000"/>
              <a:gd name="adj2" fmla="val 39721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3276720"/>
            <a:ext cx="152640" cy="304560"/>
          </a:xfrm>
          <a:prstGeom prst="upDownArrow">
            <a:avLst>
              <a:gd name="adj1" fmla="val 50000"/>
              <a:gd name="adj2" fmla="val 39721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9AF-8AA3-42DB-8CE5-105E0401F8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GASSZINTŰ NYELVEK TÁMOGA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mantikus rés: a magaszintű nyelvek bonyolult műveletei (pld.: sokirányú elágazás (switch), feltételes értékadás, ciklusszervezés) és a CPU egyszerű utasításai közötti különbsé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a rést egyes CPU gyártók egyre bonyolultabb gépi utasítások megvalósításával próbálták szűkíteni, ez vezetett a CISC architektúráh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BB1-2ACC-4264-8C03-0F1D75D1A8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m csak az utasítások bonyolultak a magas szintű nyelvekben, hanem az adatok is amivel dolgozn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rkezettel bíró, összetett adattípu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támogatja közvetlenül a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ömb: azonos típusú összetevőkből, elemekből álló adatszerkezet. Mérete rögzített, elemeire sorszámukkal, az index-szel hivatkozunk. Elemei (elvileg) bármilyen típusúak lehetnek. Indexeinek száma az ú.n. dimenzió,  tetszőleges lehet. Belső ábrázolása: az elemek sorozata, az indexek hátulról vett sorrendjé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1,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1,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1,n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2,1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2,2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2,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m,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m,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,m,n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D0E-2383-4FA3-9393-361D342AE19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gydimenziós tömb: vektor, kétdimenziós: má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i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tszőleges típusú elemek sorozata, amelyeket „mutatók” kapcsolnak össze, ez a láncol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érete nem rögzített, elemeihez a hozzáférés a mutatókon történő „lépkedéssel” törté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 a mutató része a listaelemnek, endogén, ha nem akkor exogén listáról beszélü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áncolás leh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es, egyirányú bejárás, megbízhatóság ros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étirányú, jobb megbízhatóság, gyorsabb bejá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1C5-BACA-4EAB-B2F7-23B76E050F9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truktúra v. rek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böző típusú összetevőkből álló adatszerk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összetevők egyenként névvel azonosítot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vatkozás az elemekre minősitett névvel:</a:t>
            </a:r>
            <a:br>
              <a:rPr sz="2800"/>
            </a:b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struktúranév.elemnév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formá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Un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böző típusú elemek ugyanazon a helyen (persze más-más időbe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1B9-E00E-4E47-8819-78EBFF6E10E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üggvény, eljárás, makr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egyik: utasítások egységbe fogott, névvel ellátott csoportja valamilyen művelet elvégz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üggvény: egy értéket ad eredményül, ami tetszőleges típusú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járás: valamilyen feladatot végez el, megváltoztatja a program belső állapotát, de nem szolgáltat érté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ívás: a függvény illetve az eljárás aktivizálása, erre szolgáló utasítás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632-E701-46B3-B0EE-98DB4C6676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üggvény és az eljárás utasításai csak egyszer, külön helyen jelennek meg a program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kró: a benne foglalt utasítások bemásolódnak a hívás helyé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ifej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és), így a makró utasításai annyiszor jelennek meg, ahányszor hívjá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raméter: azok az adatok, amelyekkel a függvény/eljárás dolgo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araméterátadás: az a mód ahogyan a fv-elj. a paraméterekhez hozzáj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BE0-12DB-4BD3-A803-3A2487555F1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ajtá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rték szeri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hívásban szereplő adatokról (változókról) másolat készül, ezt kapja meg a hívot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átírja a paramétert, nem okoz gondot, mert az csak másol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ím szeri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hívásban szereplő adatok memóriabeli címét kapja meg a függvény/eljárás. Módot ad az adatok megváltoztatására, illetve a cím megváltoztatásával más adatok hibás felülírására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vatkozás sze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hívásban szereplő adatok megváltoztathatatlan címét kapja a fv/eljár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1C-1832-473E-B83E-1ECA0857E19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Paraméterátadás megvalós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ssembly és kevés paraméter esetén regiszterek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gasszintű nyelveknél a veremmemóri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 két egész összeadása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int sum( int a, int b)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return( a + b);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ívása: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um( 4, 9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 lesz belőle fordítás során (i80486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51C-DEF5-4487-9038-760FB656EB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v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PUSH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1. paraméter a verem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PUSH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2. paraméter a verembe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CALL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SUM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függvényhív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üggv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ENTER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2,0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hívó keretének me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hívott keretének beállí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helyfoglalás a lokális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változókna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MOV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AX,.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visszatérési érték betöl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LEAVE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lokális változók helyének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felszabadítása, hívó keretének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visszaállí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RET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visszatérés a hívás után, 4 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  byte kilövése a verembő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089-6DCE-4DCC-8445-E8590997821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UTASÍTÁSKÉSZLET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9080" y="1066680"/>
            <a:ext cx="58485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Egyetlen akkumulátor regisz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EDSAC 19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3440" y="1549440"/>
            <a:ext cx="4462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kk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umul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or + 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dex 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gis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er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62320"/>
            <a:ext cx="7848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A programozási modell és az implementáció  szét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6240" y="3124080"/>
            <a:ext cx="4094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Magasszintű nyelvre alapoz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3560" y="3124080"/>
            <a:ext cx="363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A „gépcsalád” koncepci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94080" y="3886200"/>
            <a:ext cx="5976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Általános célú regisztereket alkalmazó gép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200" y="4902120"/>
            <a:ext cx="327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mplex 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utasításkész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5960" y="4902120"/>
            <a:ext cx="3305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oad/Store 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chite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ú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8160" y="5740560"/>
            <a:ext cx="854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5283360"/>
            <a:ext cx="26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ax, Intel 432 1977-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2240" y="5207040"/>
            <a:ext cx="306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CDC 6600, Cray 1 1963-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0040" y="6045120"/>
            <a:ext cx="459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Mips,Sparc,HP-PA,IBM RS6000, . . .198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5560" y="1828800"/>
            <a:ext cx="4554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Manchester Mark I, IBM 700 series 195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505320"/>
            <a:ext cx="1520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B5000 196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9080" y="3429000"/>
            <a:ext cx="1712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IBM 360 19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3716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9051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560" y="2666880"/>
            <a:ext cx="11430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666880"/>
            <a:ext cx="144756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429000"/>
            <a:ext cx="14479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3505320"/>
            <a:ext cx="12952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362320" y="4267080"/>
            <a:ext cx="129528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267080"/>
            <a:ext cx="13716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4864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B00-8D49-4EBA-929B-9388393300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ck frame v. keret: a stack egy függvényhívás alatt használt része. Új hívás új keretet hoz lé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okális változó: csak az adott függvényen belül látható, visszatéréskor megszűnik. A stack keretben 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lobális változó: minden függvényből, eljárásból elérhető, a program teljes futása alat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457200"/>
            <a:ext cx="3276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lokális válto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914400"/>
            <a:ext cx="3276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ívó ke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286000"/>
            <a:ext cx="3276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1.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828800"/>
            <a:ext cx="3276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2.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371600"/>
            <a:ext cx="3276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isszatérési c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17524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rem mély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143000"/>
            <a:ext cx="37339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609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ívott keretének kezd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41E-1985-4C79-A70B-D66C2555DD8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oduláris programoz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első programok egyetlen egységet alkottak. Ha voltak is előre megírt részek, összemásolták őket az újakkal. Nem hatéko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obb megoldás: a programot kisebb részekből, modulokból állítjuk öss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ogram formá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r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s: ahogyan a programozó írja, a gép számára értelmetlen. Szimbolikus nevek a címek helyet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rgykód v. objekt kó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orrásprogramból fordítással keletk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zbenső forma, más hasonló formájúakkal történő egyesítés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ég nincsenek benne abszolút cí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67A-4118-4C95-ACFF-631EEA126D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ölthető kó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összefűző-szerkesztő állítja 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oldja a modulok közötti hivatkozás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címek még itt is relokálhatók (áthelyezhető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-ké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betöltőprogram állítja 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ár abszolút címeket tartalm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 előre megírt, tesztelt programrészek használata gyorsítja a munkát, növeli a megbízhatóságot. Az előre megírt modulokat könyvtárakba szerve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nyvtári programok változásakor nem kell  újrafordítani, legfeljebb szerkeszte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E78-971E-4606-8B81-2AFE30E8452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inamikus könyvtárak (DL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ívott modul kódja még betöltéskor sem kerül a memóriába. A helyükre egy „csonk” (stub) kerül, amit az első híváskor az operációs rendszer a tényleges kóddal helyettesí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ny: kisebb méret, a DLL változása esetén még újraszerkeszteni sem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egmentálás: a program végrehajtható részének, adatainak és a veremnek egymástól történő elválasztása a memóriában. Ezek szerint van kód, adat és stack szegm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ímzésükre külön regisztereket szoktak alkalma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66E-258F-44A9-95C5-5FEBA54B642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ő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egyes szegmensekhez különféle védelmi mechanizmus rendelhető, pld. kódszegmensre nem szabad ír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gbízhatóbb alkalmazás készít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élda: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ódszegmens címzése: CS +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tack szegmens címzése SS + 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 szegmens címzése DS + B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56A-568A-4378-A3C9-12D1D8468BE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Z UTASÍTÁSKÉSZLET  FEJLŐD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790640"/>
            <a:ext cx="88390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égycímes 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több művelet két operandusú és egy eredményt szolgá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árhol folytatható a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kell: adatmozgatás, ug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terjedt el, nem volt ilyen gép (mikroprogram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üntetünk egy címet: legyen a következő utasítás mindig az éppen végrehajtott utáni, akkor nem kell a következő utasítás cí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17841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űveleti 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990720"/>
            <a:ext cx="15238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99072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990720"/>
            <a:ext cx="16002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redmé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990720"/>
            <a:ext cx="16002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övetk. 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611-9B81-4834-A205-BAD61408F9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romcímes utasítás tí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yertünk: egy cí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sorrendben hajtjuk végre, akkor is kell egy mutató, ami megmutatja a következő utasítást, ez a program v. utasításszámláló (PC, ill. 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el kell térni a sorrendtől, pld. feltételes elágazás, akkor ez új utasítás csoportot igényel: a vezérlésátadó utasítás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lapodjunk meg, hogy az eredmény mindig az egyik operandus helyén keletkezik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kell eredmény c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04920"/>
            <a:ext cx="17845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űveleti 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04920"/>
            <a:ext cx="15238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0492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304920"/>
            <a:ext cx="16002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redmé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EC9-1EE6-4903-838B-D81910E65C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tcímes 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ra: az operandusok megőrzéséhez új utasítás csoport kell: az adatmozgató utasítások. Minimum: LOAD és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80880"/>
            <a:ext cx="17845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űveleti 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80880"/>
            <a:ext cx="15238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8088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2. operandus 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redmé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88-40CC-4680-A86D-3BB67AD5E0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Utolsó egyszerűsítés: ha az egyik operandust és az eredményt egy kitüntetett regiszterben tartjuk, ez az 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akkumulátor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kor az egycímes utasításhoz jut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,5 címes utasítás: 1. operandus címe, regisz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0 címes utasítás: az operandus fix helyen van, pld. a verem tetején (verem-szervezésű gé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i él a gyakorlat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őleg egy és kétcímes utasítások, néhány CPU-nál három cím is van, de mindhárom operanduscí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880"/>
            <a:ext cx="17845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Műveleti kó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80880"/>
            <a:ext cx="15238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1. operand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CA4-0808-4020-9B33-A1D808E907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VÁBBI SZEMPONT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llandó vagy változó utasításhos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landó: gyorsabb, egyszerűbb dekódolni, kevesebb utasít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ltozó: sok utasítás, bonyolult dekódolás, lass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rtogonalitás: minden utasítás képes-e bármely regiszterrel működni. Általában nem áll fe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rem vs. általános regiszt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rem alapú: művelet a két legfelső szint között, eredmény a verem tetej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24F-12ED-4FCE-A199-3AB5FF3E83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5-09-20T19:23:58Z</dcterms:modified>
  <cp:revision>135</cp:revision>
  <dc:subject/>
  <dc:title>INFORMATIKA I.</dc:title>
</cp:coreProperties>
</file>