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D65-00F3-4C5C-9B7F-1C8FE654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9E1-EA2A-4BA6-A82C-654AAFA5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969-5C91-4769-8817-7B2FBB55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021-A99A-41C5-8445-36808EC4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A2C-0DA9-46CF-9AD4-51F1838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F31-D275-4EBD-9ECE-55A6FA5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932-884C-44A9-A26F-395B48F1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04F-2906-49D9-964E-AD45C48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13E-960A-40B9-8532-B128DEB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B0C-3B10-4345-A6D2-519924D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847-33D9-4D48-BA5C-F80A9AC7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B86-E3F1-42B3-AB70-B0DF391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655-FD3A-4CF1-8AFB-EA34010797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PÁRHUZAMOSSÁG KEZELÉSE MAGASZINTŰ NYELVI ESZKÖZÖKK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különféle helyz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n közös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közös memória (laza csatol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ritikus régió (ne keverjük a kritikus szakasszal!), (critical region, CR): alkalmazzunk egy osztott használatú közös változót, aminek az elérése csak különleges utasítással lehetséges, ez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io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uta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542-4DBE-48C5-9C2E-E1D18A14C6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onitorok( Hoare, Brinch Hans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bsztrakt adattípus, azaz együtt keletkezik és létezik maga az adat és a rajta végezhető műveletek halmaza. A halmazban nem szereplő művelet nem végezhető el az adat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rőforrás defíníció és a műveletek definíciója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nitor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k nevezett adattípusban valósul me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503-BCDF-494D-AA86-89C1B6A905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is kitérő: az absztrakt adattíp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bsztrakt adattípus olyan egység, ami az adatokat és a rajtuk értelmezett műveletek is tartalmazza. Önmaga nem használható csak külön művelettel létrehozott példányai (ezért absztrak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észe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példány-változó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amelyek egy-egy példányhoz tartoznak, általában nem érhetik el más példányok és nem az adattípushoz tartozó műveletek, csak ha erről külön intézkedün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osztály-változó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amelyek közösek minden példányra nézve, tehát csak egy van belőlü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adatokon értelmezett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művelete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amelyeket a  példányok közösen használn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C3E-0D77-465E-9201-8E74BEA12A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oncepció legismertebb megvalósítása a C, ill. C++ nyelvben alkalmazott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móriaké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828800"/>
            <a:ext cx="2590920" cy="39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éldány-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209680"/>
            <a:ext cx="2590920" cy="39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éldány-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590920"/>
            <a:ext cx="2590920" cy="39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éldány-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352680"/>
            <a:ext cx="25909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sztály művele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971800"/>
            <a:ext cx="2590920" cy="396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sztály-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495680"/>
            <a:ext cx="12952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on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495680"/>
            <a:ext cx="11430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e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32A-1380-4A97-942F-01650FFF06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gvalósításnak biztosítania kell, h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rőforráshoz kizárólag a monitor műveletein keresztül lehessen hozzáfé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adott időben egyetlen folyamat lehessen a monitor „belsejében”, minden további, a monitor eljárásait hívó folyamat várakozásra kényszerüljö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onitor eltér az eddig tárgyalt módszerektől annyiban, hogy azok csak közös adatot használtak, a monitornál közös kód is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issza a monitorh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EAC-F769-4096-8B4B-326E7A59E2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onitoron belül a szinkronizálás eszköze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ltéte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k (condition) nevezett különleges változó és a rajta értelmezett két művelet. Figyelem: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ltéte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k nincs érték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áltozó megadá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AR C : CONDITION;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ét művelet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gna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rtelmezésü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c.wai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: az ezt végrehajtó folyamat blokkolt állapotban a c feltétel várakozási sorába kerül, és nem vezérli a monit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c.signa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: a c feltétel sorában várakozó egyik folyamat újraind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BE6-8322-4F34-B932-4256F6E987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Útvonalkifejezés (path expres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az eljárás is absztrakt adattípusra épül. A szinkronizációt az objektum elején elhelyezett, előírt szabályok szerint felépített kifejezés, az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tvonalkifejezé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biztosít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útvonalkifejezés az objektum oprátorainak végrehajtási (hívási) sorrendjével kapcsolatos előírásokból á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m biztosít automatikusan kölcsönös kizárást és nincsenek a wait és signal műveletnek megfelelő műveletei s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4F8-22EA-4E06-9C13-366D106A46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útvonakifejezés képzésének szabályai (rekurzív!). Jelölje P, P1, P2, ... Pn az egyes eljárások nevé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Önmagában álló P nem jelent semmilyen kiköt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1,P2 : konkurrens végrehajtás, P1-re illetve P2-re egyidejűleg tetszőleges számú folyamatban lévő hívás le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1;P2 : szekvenciális végrehajtás, P1 és P2 bármennyi végreahajtása folyamatban lehet, feltéve hogy a folyamatban lévő P2 hívások száma kisebb, mint a befejeződött P1 hívások 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:(P1) : P1-nek egyidőben legfeljebb n aktív végrehajtása le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8B6-9E85-4A2F-920C-260CFB97FD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éldá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path 1:(P1), 2:(P2) end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:egyidejűleg P1-nek 1 és P2-nek két hívása lehet aktí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path 5:(P1;P2) end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:P1 és P2 aktív hívásainak együttes száma max. 5 lehet. P2 minden hívását meg kell előznie P1 egy befejeződésé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orlátos puffer probléma megoldása útvonalkifejezé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7AB-CE74-4516-BCBA-E748E40C1B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type buffer = objec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const n = 10;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(* a puffer mérete 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path n:(1:(put);1:(get)) en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*egy put és egy get lehet egyidejűleg, a put-nak meg kell előznie a get-et, és legfeljebb n put hívható meg egy get hívás előtt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type  item=...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(* a tétel deklarációja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type buffer= array[0..n-1] of ite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var buf : buffer; in, out : integ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251-86E5-458F-906B-047CD20906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procedure entry put( data : item )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buf[in] := data;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in := (in+1) mod 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procedure entry get( var data : item )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data := buf[out];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out := (out+1) mod 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begin in := 0; out :=0;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032-B2E2-45AB-A997-B7F24EB72B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ban: a V változót, ami valamilyen T típusú osztott használatúként deklaráljuk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     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AR V : SHARED T;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 változó csak az utasításoknak valamilyen, S-sel jelölt tartományában (ez a kritikus régió) érhető el a következőek szerin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    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GION V DO 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míg S utasításait hajtja végre a gép, más folyamat nem férhet hozzá V-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4E9-ED9E-4E04-82A8-D984A5ECCB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ermelő és a fogyasztó kód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ar b: buffer;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(* létrejön egy objektum *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procedure termel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b.put( ....);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(* az adat berakás hívása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procedure fogyasz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b.get( ....);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(* az adat kivétel hívása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DF9-649F-4A6F-9F91-3ED05C9C49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Üzeneteken alapuló szinkronizáci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izikailag távoli gépek, illetve közös memóriát nem használó folyamatok esetén alkalmazott megol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yen két, az üzenetváltást végző primitívünk, a küldés (send ) és a vétel (rece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akju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send(p, msg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z msg üzenet elküldése a p folyamat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receive(q, msg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z msg üzenet vétele a q folyamatt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66B-1C05-4F78-96FE-E31C7D7B3C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fajtájuk lehetsé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inkron v. blokkoló, amikor a küldő várakozik az üzenet elfogadására, illetve a vevő várakozik az üzene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szinkron vagy nem blokkoló, amikor a küldő az üzenet küldése után azonnal továbbfut, illetve a vevő veszi az üzenetet, ha van és továbbhalad, ha nin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F0F-C810-4D4B-959B-41519EB01B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3520" y="304920"/>
          <a:ext cx="8076960" cy="5083200"/>
        </p:xfrm>
        <a:graphic>
          <a:graphicData uri="http://schemas.openxmlformats.org/drawingml/2006/table">
            <a:tbl>
              <a:tblPr/>
              <a:tblGrid>
                <a:gridCol w="1447560"/>
                <a:gridCol w="3200400"/>
                <a:gridCol w="3429000"/>
              </a:tblGrid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zink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zink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licit elneve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Üzenet küldés p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, várakozás elfogadás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Üzenet küldés p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, várakozás nélkü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plicit elneve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Üzenet küldés bárkinek,  várakozás elfogadás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Üzenet küldés bárkinek, várakozás nélkü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ce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zink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zink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lic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Üzenetre várakozás a p folyamattó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 jött üzenet p-től veszi, ha nem, tovább f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plic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Üzenetre várakozás bármely folyamattó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 jött üzenet bárkitől veszi, ha nem, tovább f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ED2-116D-4EE7-A5E4-4A0C4E40FEB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rmelő-fogyasztó megoldása szinkron explicit műveletekk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éldában nincs átemeneti táro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andevú mechanizmus: csak akkor jön létre a kommunikáció, ha mindkét fél kész 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1676520"/>
          <a:ext cx="7848720" cy="2911320"/>
        </p:xfrm>
        <a:graphic>
          <a:graphicData uri="http://schemas.openxmlformats.org/drawingml/2006/table">
            <a:tbl>
              <a:tblPr/>
              <a:tblGrid>
                <a:gridCol w="3962520"/>
                <a:gridCol w="3886200"/>
              </a:tblGrid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cess termelő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p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étrehoz(msg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nd(fogyasztó, msg); 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until false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cess fogyasztó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p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ceive(termelő, msg); 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elhasznál(msg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til false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243-F38D-43E7-BA04-4CE9DF9819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ommunikáló soros folyamat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lyan nyelvi keret, amelyik folyamat-orientált illetve elosztott rendszerek konkurrens programozását támogatja (Occ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lakpkoncepci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SP program soros folyamatok (önmagukban nem tartalmaznak konkurrenciát) halm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ok közötti adatcsere és szinkronizáció üzenetek váltásával törté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ok belső vezérlési szerkezetét az ú.n. őrzött parancsok (guarded com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d) határozzák me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71B-5A32-4A9F-9987-DBBFF27D5F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ok explicit megnevezéses, blokkoló és típust is alkalmazó kommunikációval érintkez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dó és vevő mindaddig blokkolt amíg a másik nincs ké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után létrejön a randevú és megtörténik az üzenetvá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üzenetváltás során közvetlen (explicit) folymat azonosítókat használ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SP nem csak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szinkronizálással kapcsolatos utasításokat tartalm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D98-0B79-4479-B5AC-108A0011568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üzenetküldés parancs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proc1 ! msg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( a ! neve „bang”) jelentése: üzenetküldés a proc1 folyamatnak, msg az üzenet, azaz send( proc1,ms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proc2 ? msg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( a ? neve „choose”) jelentése: az msg üzenet vétele a proc2 folyamattól, azaz receive(proc2,ms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lküldött és a várt üzenet típusának meg kell egyez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a kommunikációban résztvevő egyik folyamat befejeződik, ugyanaz történik a másikk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04B-DD56-48AF-8717-237A381D92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őrzött parancs része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opcionális logikai kifejezés 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kommunikációs primití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rmája BNF jelölésmódd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</a:rPr>
              <a:t>&lt;őrzött parancs&gt; ::= &lt;őr&gt; </a:t>
            </a:r>
            <a:r>
              <a:rPr b="1" lang="hu-HU" sz="32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ff00"/>
                </a:solidFill>
                <a:latin typeface="Times New Roman"/>
              </a:rPr>
              <a:t> &lt;utasításlista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</a:rPr>
              <a:t>&lt;őr&gt; ::= &lt;deklaráció&gt;&lt;logikai kifejezé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</a:rPr>
              <a:t>               </a:t>
            </a:r>
            <a:r>
              <a:rPr b="1" lang="hu-HU" sz="3200" spc="-1" strike="noStrike">
                <a:solidFill>
                  <a:srgbClr val="00ff00"/>
                </a:solidFill>
                <a:latin typeface="Times New Roman"/>
              </a:rPr>
              <a:t>&lt;kommunikációs primitív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őr akkor és csakis akkor teljesül, ha a logikai kifejezés értéke IGAZ és a kommunikációs primitív felkészült az adatcseré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C8F-7688-4363-81BA-160FE4EB72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ternatíva: a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||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|| …||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fej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ésben az őrök kiértékelése párhuzamosan törté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egyetlen őr sem teljesül a folyamat befejeződik, ha több akkor nemdeterminisztikus eljárással egyet kiválas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smétlés: a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*[G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||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||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.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||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hu-HU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]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kifejezés a zárójelen belüli rész ismétlését jel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872-1BDC-4F59-BD9F-7E0FCBDA7E3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ritikus régiót úgy is tekinthetjük, mint a szemaforok struktúrált használatá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rdítóprogram kb. a következő átalakításokat végzi 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AR V : SHARED T;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AR V_mutex : semaphore;  //dekla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_mutex := 1;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// kezdeti érté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GION V DO S;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wait( V_mutex 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ignal( V_mute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3F0-7FB1-412F-B01F-067123D7C2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rlátos puffer CSP-vel (nem a jegyzet példája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bounded_buffer :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buffer: (0..9) it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n, out 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n := out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*[in &lt;out+10; produc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?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ffer( in mod 10 )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:= in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out &lt; in; consumer ! buffer(out mod 10 )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out := out + 1;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D60-AD2D-4EBC-9507-7E43B464140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y kis Occam, részles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63480"/>
            <a:ext cx="838188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égrehajtás vezérlés: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SEQ: soros, PAR: párhuzamos, ALT: alternatí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A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A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a := 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ch ! 9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a &lt; b &amp; i ? x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b := 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w ? ch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o ! 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c := 4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tása w := 9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a &lt; c &amp; k ? x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tása a,b,c := 1,2,4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o ! x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TRUE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SKIP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bemenetű multiplex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HAN OF BOOL a,b,k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? x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- ha az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bemenetről jön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ki ! x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- kiírja a kimenetre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 ? x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- ha 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bemenetről jön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ki ! x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- akkor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79F-00A0-491C-9C2A-50BD13B5423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0"/>
            <a:ext cx="822960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dőkorlátos várakozás két csatorna valamelyik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IMER c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T m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OOL lej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L var IS 1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lock ?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jart :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 ?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 ?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Q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lock ? AFTER most PLUS 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jart := 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2B0-F44A-463E-AF84-BDE6B992731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ihelyezett eljáráshív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zán csatolt multiprocesszoros rendszerekben alkalmazzák, a rendszer „kiterjeszthetőségét” ezzel valósítják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ipikus alkalmazási területe a kliens-szerver alkalmaz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ényege, hogy egy folyamat bizonyos eljárásait nem ugyanazon a gépen valósítjuk meg, mit a többit, hanem „kihelyezzü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ihelyezett eljárások hívása, ha a megvalósítás részleteitől eltekintünk analóg a normál eljáráshívá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107-D041-4973-BB86-F36EAE3032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33526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ihelyezés átlátszó, azaz sem a kihelyezett eljárás, sem az azt hívó eljárások nem változhatnak a kihelyezés mi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 szinten oldható me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perációs rendsz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rdítás során a fordítóprogram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533520"/>
          <a:ext cx="8458200" cy="265428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gyik gé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c() { kérés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árakoz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lyta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ásik gé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érés vét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 végrehajt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redmény elküldé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276720" y="1295280"/>
            <a:ext cx="129528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828800" y="251460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AE1-36CB-42AF-A9A2-03E278E9617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XRPC2Fig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5438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B3F-80F6-44AB-8421-5B2C972E9C29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hagyományos eljáráshívást alkalmaz, mivel a tényleges címekre nem hivatkoz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ívási felület elválik a t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leges megvalósítást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PC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tehát egy protokoll, ami a magasszintű kommunikáció szabályait szabja me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ködés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ltételezi valamilyen alacsonyszintű protokoll (TCP/IP, UDP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létét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ami az üzenetek továbbításáért felelő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PC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ogikai kliens-szerver kommunikációs rendszert valósít meg, amit kifejezetten hálózati alkalmazások támogatására tervez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154-E17A-437E-A0AE-F8608E57571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e a szemaforokkal szemben, hogy biztonságosabb, kizár bizonyos fajta hibákat (pld. két egymás utáni wait hívá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sem csodaszer, a következő példa holtpontot jel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743200"/>
          <a:ext cx="7924680" cy="312408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31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GION 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GION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S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GION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GION 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S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0E5-FB4B-44BF-B915-BB38DDC137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kerülhető a holtpont, ha az osztott változók használatát nyomon követi a fordító és megköveteli a teljes rendezettséget, vagyis ha már létezik a használt változóknak egy sorrendje az új folyamat nem használhat ezzel ellentétes sorrend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kalmas a kritikus szakasz problémájának a kezel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2CE-F6A7-4288-845C-B743BC318C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Times New Roman"/>
              </a:rPr>
              <a:t>Feltételes kritikus régió (Hoare-Brinch Hansen ’7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truktúrált jelölésmód a kölcsönös kizárás és szinkronizáció leír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sztott használatú változókat erre a célra kialakított csoportokb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erőforrá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kba helye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osztott használatú változó legfeljebb egy erőforrásban szerepelhet és csak olyan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ltételes kritikus régió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utasítással érhető el, ami megnevezi az erőforr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87E-C83F-4DCC-8D4D-C34791944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deklaráció formá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SOURCE R : V1, V2, ..., V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entése: a V1, ...Vn változók az R azonosítójú erőforráson belül osztottan használ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hozzáférés formája, a feltételes kritikus régió utasít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GION R WHEN B DO 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utasításban B egy logikai feltételt jelö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égrehajtás csak akkor jut a kritikus régióba ha B értéke IG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élda: korlátos puffer CCR-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B64-D47B-4F6F-B8C8-659BC453DC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NST N = 10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AR buf : ARRAY [1..N] OF item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, out, count : [1..N] := 0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OURCE bb : buf, in, out, count; (*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osztott változók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CESS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elő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 VAR i :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étel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 BEGIN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 LOOP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el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i)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     REGION bb WHEN count &lt; N DO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         buf[in] := i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         in := (in + 1 ) mod N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(* körbefordul!*)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         count := count + 1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     END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      END;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      END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elő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count: mennyi van benne, in: hová tegye, out: honnan veg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670-3583-45D0-A5FD-3567B43FE6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OCES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gyasztó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VAR i :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éte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EG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 LOOP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 REGION bb WHEN count &gt; 0 DO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 i := buf[out]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 out := (out + 1) MOD N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 count := count - 1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 END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gyasz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i)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 END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 END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gyasztó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ondok: nehézkes a megvalósítás, nem haték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F49-E502-4702-9FB2-BAD547B825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AJF</cp:lastModifiedBy>
  <dcterms:modified xsi:type="dcterms:W3CDTF">2003-11-24T20:16:04Z</dcterms:modified>
  <cp:revision>178</cp:revision>
  <dc:subject/>
  <dc:title>TELJESÍTMÉNYFOKOZÓ ARCHITEKTÚRÁLIS ELVEK</dc:title>
</cp:coreProperties>
</file>