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40C-8230-4D5F-BC17-3E369733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CC7-928F-4DF0-A84B-10855FA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9DA-8E7C-4F7A-8884-9BDD5211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83F-3578-49E6-B91E-FAAA600E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64D-776D-4EE9-A94F-432BCC2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6BF-2D73-4A94-9354-7CD13B1A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536-863F-4865-A624-A7B0166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341-EA52-4039-A59C-F5865273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003-AE9A-44D6-BD6B-30BD44D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475-838E-4504-B4C9-1A9A3F3F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2DE-186C-4480-BB78-0B978F3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658-19E6-466A-BF2E-194AAC4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78E-A5F0-44E5-A8F2-D62BF7F27C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PERIFÉRIAKEZELÉS ELV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indulási alap: a CPU gyors, a perifériák (általában, a mechanikai mozgás miatt) las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él: jól kihasználni mindkét erőforrást, anélkül, hogy erre a fel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nálónak figyelmet kellene fordí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 kell őrizni az egyes alkalmazásokhoz tartozó adatok integritását is (multitasking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pvető módszerek: programozott illetve megszakítá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2FD-2DB0-468B-9FD9-EC9F339B8B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indítása (pld. egyetlen vezérlő szó kiírásáv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aszk (ugyanaz vagy egy másik) folyt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egyes új adat kezelése DMA-val, a CPU közreműködése nélk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űvelet befejeződését jelző megszakítást az operációs rendszer kez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AF4-4DDD-4466-B156-CA30C202F9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Intelligens I/O kezelés: I/O processz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élprocesszor, aminek saját, az I/O műveletekhez igazított utasításkészlete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rlátozott adatfeldolgozást is képes vég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ipikus képviselője: Intel 8089 I/O társprocess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integrált vezérlőegységek (periféria és vezérlő egyetlen egységben, IDE) és a hatékony sínek miatt veszített jelentőségéből (8089-et már nem támogatja az Int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204-28C7-4B31-8BFE-BD4423E5E9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311040" y="-36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528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57200"/>
            <a:ext cx="8001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838080"/>
            <a:ext cx="79246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00200"/>
            <a:ext cx="1676160" cy="10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600200"/>
            <a:ext cx="1676520" cy="10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llesz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gység(BI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600200"/>
            <a:ext cx="1676520" cy="10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ssb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is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600200"/>
            <a:ext cx="1676160" cy="10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0 b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4568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83808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295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1295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971800"/>
            <a:ext cx="7619760" cy="763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590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2590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666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2666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429000"/>
            <a:ext cx="2286000" cy="243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429000"/>
            <a:ext cx="2286000" cy="243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657600"/>
            <a:ext cx="2286000" cy="3808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3657600"/>
            <a:ext cx="2286000" cy="3808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191120"/>
            <a:ext cx="2286000" cy="3808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191120"/>
            <a:ext cx="2286000" cy="3808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724280"/>
            <a:ext cx="2286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4724280"/>
            <a:ext cx="2286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181480"/>
            <a:ext cx="228600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gyes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5181480"/>
            <a:ext cx="2286000" cy="533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gyes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8672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58672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914400" y="60958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6248520"/>
            <a:ext cx="5334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80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vezér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8380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 és 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30481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0481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880"/>
            <a:ext cx="304920" cy="5791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733920"/>
            <a:ext cx="114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PUh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86800" y="380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181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M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5181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M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T k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3429000"/>
            <a:ext cx="114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z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610480" y="1523880"/>
            <a:ext cx="152640" cy="198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249-268F-4DFF-8CB9-BA507A736EE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3880" y="30492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csat. PB. mutat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csat. állap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99072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csat. paran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37160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 csat. PB. mutat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752480"/>
            <a:ext cx="312444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 csat. állap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05740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 csat. paran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259092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 program mutat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971800"/>
            <a:ext cx="31244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csat. paramé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502920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 csat. I/O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438280"/>
            <a:ext cx="312444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657600"/>
            <a:ext cx="312444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809880"/>
            <a:ext cx="312444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/O program mutat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191120"/>
            <a:ext cx="31244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 csat. paramé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876920"/>
            <a:ext cx="312444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5410080"/>
            <a:ext cx="312444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5562720"/>
            <a:ext cx="3124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 csat. I/O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5909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8862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049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3716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609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. csatorna vezérlő blokk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. csatorna vezérlő blokk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. csatorna paraméter blokk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191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. csatorna paraméter blokk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5029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. csatorna program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55627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. csatorna program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85800" y="457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457200"/>
            <a:ext cx="0" cy="2133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5909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80520" y="1523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523880"/>
            <a:ext cx="0" cy="221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9480" y="281952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195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10552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04920" y="403848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0384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56272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087-2472-4529-BFD7-F5671BE2DF8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311040" y="-36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mg06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ntel 960 RP PCI process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E35-7BCC-46FB-9803-34FBCED197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Intelligens I/O: a SCSI sín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CSI (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mall Computer System Interface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hardver eszközök közötti adatcsere   szabványosított módsz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gysebességű intelligens periféria I/O sín, eszközfüggetlen protokoll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ípustól függően 8 v. 16 periféria csatlakoztatható rá (IDE:2 EIDE: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ínen különféle perifériák lehetnek: merevlemez, CD, nyomtató, letapogató, .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igényel kizárólagosságot, összefér az IDE, EIDE-vel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06A-63F6-472C-AF49-B3CF865222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SCSI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pecifikáció meghatározza a sínt és azt a protokollt is, amellyel az eszközök közötti adatcsere törté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 SCSI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szközökben beépített vezérlő van, amely a gazda (host) adaptertől érkező parancsokat értelme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CSI adapter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ismeri és a CPU segítsége nélkül képes végrehajtani az össze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CSI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arancs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árhuzamos illesztést valósít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CSI sín egy gazda adapterből és a kábelből ál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88B-C80A-4E05-9EC8-BEE1D1E09E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aját programja, a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SCSI BIO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minden eszközhöz egy egyedi címe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ndel (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CSI ID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ímek a 8-bites, keskeny sínen 0 és 7 közöttiek, a 16 bites, széles sínen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0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s 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5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zöt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okat az eszközöket, amelyek I/O műveleteket kérnek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kezdeményező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k (initiator), azokat amelyek a kérést végrehajtják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célpon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k (target) nevezik.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B4B-2C4E-4793-98E4-01A2F78CF7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eépített vezérlőegységével minden egyes célpont további legfeljebb 8 eszközt, ú.n. logikai egységet (logical unit) fogad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ogikai egységeket, a logikai egység szám (LUN) azonosí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CSI vezérlő parancsai az egységeket a LUN alapján azonosít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SCSI cím célpont c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egegyszerűbb esetben a host adapter kártya (az első célpont a rendszerben) önmaga és további 7 (vagy 15) SCSI cím vezérlő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B79-EA2F-4BDE-8459-0C33DD31F2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a: tegyük fel, hogy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CSI adapter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merevlemezt, egy CDROM meghajtót és egy letapogatót kez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revlemez SCSI azonosítója 0, a CDROM-é 1, a letapogatóé 2 lesz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enti összes eszköz logikai egység száma (LUN) 0, mivel ezek a logikai egységek zárt, egyfunkciós perifériá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4038480"/>
          <a:ext cx="6096240" cy="2076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é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CSI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revlem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D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tapogat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AA4-C044-4A34-AB4B-CD1E3712E5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rogramozott I/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határozó jellemzője, hogy a periféria működése alatt állandóan a CPU felügyelete alatt á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programozott I/O fázis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előkészítése (memóriacím, adatméret meghatározás, vezérlő informácíó összeállítá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indítása (pld. egyetlen vezérlő szó kiírásáv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gramciklus indítása az alábbiak elvégzésé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I/O művelet előrehaladásának és a periféria állapotának folytonos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732-0E90-482B-9A9D-467BA874C6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űköd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ínt két végén le kell zárni (illeszt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ármely egység lehet kezdeményez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edetileg logikai egységenként egy parancsot lehetett küldeni, de a SCSI-2 szabvány megenged 256 parancsot logikai egységenké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élpont vezérlője a parancsokat átrendezheti a gyorsabb működés érdeké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datátvitel fázis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ezdeményező megállapítja, hogy a sín nincs másik eszköz vezérlete al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D58-54CB-4336-AFDB-CD8EC3E1AB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ínkiosztás, arbitráció: a kezdeményező egy vezérlőjellel foglalt állapotba igyekszik hozni a sínt, egyidejűleg saját azonosítójával közli ezt a szándék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egy másik kezdeményező hasonlóképpen jár el, a sín-sorrendező a legmagasabb azonosítójú eszköznek itéli a használat jog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választás: a kezdeményező egység meghatározza a célpontot és címére egy v. több parancsot küld (írás, olvasás,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mikor a célpont észleli a parancsot, saját azonosítóját ráteszi a sí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995-04E8-4622-A59D-BB617B5E96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vel egyidejűleg csak két aktív eszköz lehet a sínen, a sín a többi eszköz számára hozzáférhetetlenné vá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célpont felismeri a kezdeményező azonosítóját, tárolja azt a kapcsolat megszakadásának eset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osszú idejű művelet alatt a célpont felszabadíthatja a sínt a jobb kihasználás érdek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arancs végrehajtása után most a célpont veszi fel a kapcsolatot a kezdeményezővel, gyakorlatilag az eddig leírtak sze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arancs, adat, üzenet és állapot fáz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zekben a fázisokban a célpont parancsot vesz a kezdeményezőtől, a két egység adatot cserél, szükség esetén a kapcsolatra és egymás állapotára vonatkozó üzeneteket kü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3CC-EEEB-41F1-B7D9-7B7FCDD225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mikor a kapcsolatfelvétel elérte célját, a kezdeményező egy törlő vezérlőjelet ad és a sín szabaddá válik újabb műveletek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különböztetünk kötelező, opcionális és gyártó-specifikus parancsokat. Egy eszköz csak akkor csatlakoztatható SCSI sínre, ha minden az adott típusra előírt kötelező parancsot végre tud haj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példa SCSI parancsra: CD ROM (audio)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AUSE RESUME paran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5BD-CBAD-483B-A42B-8A7876ED59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04920" y="380880"/>
          <a:ext cx="6095880" cy="571032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553080" y="990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p. kó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447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 bit L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1055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: pause 1: res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5638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zérlő bi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AE4-34F3-4A02-BD9D-60A3FDC240F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3760" y="0"/>
            <a:ext cx="9119880" cy="6858000"/>
            <a:chOff x="23760" y="0"/>
            <a:chExt cx="9119880" cy="6858000"/>
          </a:xfrm>
        </p:grpSpPr>
        <p:grpSp>
          <p:nvGrpSpPr>
            <p:cNvPr id="223" name=""/>
            <p:cNvGrpSpPr/>
            <p:nvPr/>
          </p:nvGrpSpPr>
          <p:grpSpPr>
            <a:xfrm>
              <a:off x="28440" y="3600"/>
              <a:ext cx="9109800" cy="6850080"/>
              <a:chOff x="28440" y="3600"/>
              <a:chExt cx="9109800" cy="68500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28440" y="3600"/>
                <a:ext cx="1669320" cy="1162080"/>
                <a:chOff x="28440" y="3600"/>
                <a:chExt cx="1669320" cy="1162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7800" y="10800"/>
                  <a:ext cx="1650240" cy="11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TA Term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440" y="3600"/>
                  <a:ext cx="1669320" cy="11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698120" y="3600"/>
                <a:ext cx="2068200" cy="1162080"/>
                <a:chOff x="1698120" y="3600"/>
                <a:chExt cx="2068200" cy="11620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707480" y="10800"/>
                  <a:ext cx="2049480" cy="11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us Speed, MBytes/Se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698120" y="3600"/>
                  <a:ext cx="2068200" cy="11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767040" y="3600"/>
                <a:ext cx="1452960" cy="1162080"/>
                <a:chOff x="3767040" y="3600"/>
                <a:chExt cx="1452960" cy="11620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776760" y="10800"/>
                  <a:ext cx="1433520" cy="11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us Width (in bit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767040" y="3600"/>
                  <a:ext cx="1452960" cy="11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220360" y="3600"/>
                <a:ext cx="2257920" cy="501840"/>
                <a:chOff x="5220360" y="3600"/>
                <a:chExt cx="2257920" cy="501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229720" y="10800"/>
                  <a:ext cx="22388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ax Bus Lengths, meters (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220360" y="3600"/>
                  <a:ext cx="22579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478640" y="3600"/>
                <a:ext cx="1659600" cy="1162080"/>
                <a:chOff x="7478640" y="3600"/>
                <a:chExt cx="1659600" cy="1162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488000" y="10800"/>
                  <a:ext cx="1640880" cy="11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ax Device Sup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78640" y="3600"/>
                  <a:ext cx="1659600" cy="11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220360" y="520560"/>
                <a:ext cx="919080" cy="645120"/>
                <a:chOff x="5220360" y="520560"/>
                <a:chExt cx="919080" cy="6451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229720" y="527760"/>
                  <a:ext cx="9003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ingle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ded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220360" y="520560"/>
                  <a:ext cx="91908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140160" y="520560"/>
                <a:ext cx="658440" cy="645120"/>
                <a:chOff x="6140160" y="520560"/>
                <a:chExt cx="658440" cy="645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149880" y="527760"/>
                  <a:ext cx="6393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V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140160" y="520560"/>
                  <a:ext cx="65844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799320" y="520560"/>
                <a:ext cx="678960" cy="645120"/>
                <a:chOff x="6799320" y="520560"/>
                <a:chExt cx="678960" cy="645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808680" y="527760"/>
                  <a:ext cx="6598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V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799320" y="520560"/>
                  <a:ext cx="67896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8440" y="1180800"/>
                <a:ext cx="1669320" cy="501840"/>
                <a:chOff x="28440" y="1180800"/>
                <a:chExt cx="1669320" cy="5018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7800" y="118836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SI-1 (2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40" y="118080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698120" y="1180800"/>
                <a:ext cx="2068200" cy="501840"/>
                <a:chOff x="1698120" y="1180800"/>
                <a:chExt cx="2068200" cy="5018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707480" y="118836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98120" y="118080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767040" y="1180800"/>
                <a:ext cx="1452960" cy="501840"/>
                <a:chOff x="3767040" y="1180800"/>
                <a:chExt cx="1452960" cy="501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776760" y="118836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767040" y="118080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220360" y="1180800"/>
                <a:ext cx="919080" cy="501840"/>
                <a:chOff x="5220360" y="1180800"/>
                <a:chExt cx="919080" cy="5018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229720" y="118836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220360" y="118080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140160" y="1180800"/>
                <a:ext cx="658440" cy="501840"/>
                <a:chOff x="6140160" y="1180800"/>
                <a:chExt cx="658440" cy="501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149880" y="118836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40160" y="118080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799320" y="1180800"/>
                <a:ext cx="678960" cy="501840"/>
                <a:chOff x="6799320" y="1180800"/>
                <a:chExt cx="678960" cy="501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08680" y="118836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799320" y="118080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478640" y="1180800"/>
                <a:ext cx="1659600" cy="501840"/>
                <a:chOff x="7478640" y="1180800"/>
                <a:chExt cx="1659600" cy="501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488000" y="118836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478640" y="118080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8440" y="1697760"/>
                <a:ext cx="1669320" cy="501840"/>
                <a:chOff x="28440" y="1697760"/>
                <a:chExt cx="1669320" cy="501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7800" y="170532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ast SCSI (2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440" y="169776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698120" y="1697760"/>
                <a:ext cx="2068200" cy="501840"/>
                <a:chOff x="1698120" y="1697760"/>
                <a:chExt cx="2068200" cy="5018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707480" y="170532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98120" y="169776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767040" y="1697760"/>
                <a:ext cx="1452960" cy="501840"/>
                <a:chOff x="3767040" y="1697760"/>
                <a:chExt cx="1452960" cy="5018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776760" y="170532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767040" y="169776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220360" y="1697760"/>
                <a:ext cx="919080" cy="501840"/>
                <a:chOff x="5220360" y="1697760"/>
                <a:chExt cx="919080" cy="501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229720" y="170532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220360" y="169776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140160" y="1697760"/>
                <a:ext cx="658440" cy="501840"/>
                <a:chOff x="6140160" y="1697760"/>
                <a:chExt cx="658440" cy="501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149880" y="170532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140160" y="169776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799320" y="1697760"/>
                <a:ext cx="678960" cy="501840"/>
                <a:chOff x="6799320" y="1697760"/>
                <a:chExt cx="678960" cy="501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808680" y="170532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799320" y="169776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478640" y="1697760"/>
                <a:ext cx="1659600" cy="501840"/>
                <a:chOff x="7478640" y="1697760"/>
                <a:chExt cx="1659600" cy="501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488000" y="170532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78640" y="169776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440" y="2215080"/>
                <a:ext cx="1669320" cy="501840"/>
                <a:chOff x="28440" y="2215080"/>
                <a:chExt cx="1669320" cy="501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7800" y="222264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ast Wide SC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440" y="221508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698120" y="2215080"/>
                <a:ext cx="2068200" cy="501840"/>
                <a:chOff x="1698120" y="2215080"/>
                <a:chExt cx="2068200" cy="501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707480" y="222264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698120" y="221508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67040" y="2215080"/>
                <a:ext cx="1452960" cy="501840"/>
                <a:chOff x="3767040" y="2215080"/>
                <a:chExt cx="1452960" cy="501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76760" y="222264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767040" y="221508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220360" y="2215080"/>
                <a:ext cx="919080" cy="501840"/>
                <a:chOff x="5220360" y="2215080"/>
                <a:chExt cx="919080" cy="501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229720" y="222264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220360" y="221508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140160" y="2215080"/>
                <a:ext cx="658440" cy="501840"/>
                <a:chOff x="6140160" y="2215080"/>
                <a:chExt cx="658440" cy="501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149880" y="222264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40160" y="221508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799320" y="2215080"/>
                <a:ext cx="678960" cy="501840"/>
                <a:chOff x="6799320" y="2215080"/>
                <a:chExt cx="678960" cy="501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808680" y="222264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799320" y="221508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478640" y="2215080"/>
                <a:ext cx="1659600" cy="501840"/>
                <a:chOff x="7478640" y="2215080"/>
                <a:chExt cx="1659600" cy="5018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488000" y="222264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78640" y="221508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8440" y="2732040"/>
                <a:ext cx="1669320" cy="501840"/>
                <a:chOff x="28440" y="2732040"/>
                <a:chExt cx="1669320" cy="5018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7800" y="273960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ltra SCSI (2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440" y="273204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698120" y="2732040"/>
                <a:ext cx="2068200" cy="501840"/>
                <a:chOff x="1698120" y="2732040"/>
                <a:chExt cx="2068200" cy="5018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707480" y="273960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98120" y="273204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767040" y="2732040"/>
                <a:ext cx="1452960" cy="501840"/>
                <a:chOff x="3767040" y="2732040"/>
                <a:chExt cx="1452960" cy="5018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776760" y="273960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767040" y="273204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220360" y="2732040"/>
                <a:ext cx="919080" cy="501840"/>
                <a:chOff x="5220360" y="2732040"/>
                <a:chExt cx="919080" cy="5018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229720" y="273960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220360" y="273204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40160" y="2732040"/>
                <a:ext cx="658440" cy="501840"/>
                <a:chOff x="6140160" y="2732040"/>
                <a:chExt cx="658440" cy="5018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149880" y="273960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40160" y="273204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799320" y="2732040"/>
                <a:ext cx="678960" cy="501840"/>
                <a:chOff x="6799320" y="2732040"/>
                <a:chExt cx="678960" cy="501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808680" y="273960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99320" y="273204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478640" y="2732040"/>
                <a:ext cx="1659600" cy="501840"/>
                <a:chOff x="7478640" y="2732040"/>
                <a:chExt cx="1659600" cy="5018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488000" y="273960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478640" y="273204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40" y="3249000"/>
                <a:ext cx="1669320" cy="501840"/>
                <a:chOff x="28440" y="3249000"/>
                <a:chExt cx="1669320" cy="5018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37800" y="325656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ltra SCSI (2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40" y="324900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698120" y="3249000"/>
                <a:ext cx="2068200" cy="501840"/>
                <a:chOff x="1698120" y="3249000"/>
                <a:chExt cx="2068200" cy="501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707480" y="325656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98120" y="324900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767040" y="3249000"/>
                <a:ext cx="1452960" cy="501840"/>
                <a:chOff x="3767040" y="3249000"/>
                <a:chExt cx="1452960" cy="5018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776760" y="325656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67040" y="324900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20360" y="3249000"/>
                <a:ext cx="919080" cy="501840"/>
                <a:chOff x="5220360" y="3249000"/>
                <a:chExt cx="919080" cy="5018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29720" y="325656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20360" y="324900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40160" y="3249000"/>
                <a:ext cx="658440" cy="501840"/>
                <a:chOff x="6140160" y="3249000"/>
                <a:chExt cx="658440" cy="5018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49880" y="325656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40160" y="324900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799320" y="3249000"/>
                <a:ext cx="678960" cy="501840"/>
                <a:chOff x="6799320" y="3249000"/>
                <a:chExt cx="678960" cy="5018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808680" y="325656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99320" y="324900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478640" y="3249000"/>
                <a:ext cx="1659600" cy="501840"/>
                <a:chOff x="7478640" y="3249000"/>
                <a:chExt cx="1659600" cy="501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488000" y="325656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78640" y="324900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8440" y="3766320"/>
                <a:ext cx="1669320" cy="501840"/>
                <a:chOff x="28440" y="3766320"/>
                <a:chExt cx="1669320" cy="501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7800" y="377388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de Ultra SC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8440" y="376632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698120" y="3766320"/>
                <a:ext cx="2068200" cy="501840"/>
                <a:chOff x="1698120" y="3766320"/>
                <a:chExt cx="2068200" cy="501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707480" y="377388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698120" y="376632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767040" y="3766320"/>
                <a:ext cx="1452960" cy="501840"/>
                <a:chOff x="3767040" y="3766320"/>
                <a:chExt cx="1452960" cy="501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776760" y="377388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767040" y="376632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220360" y="3766320"/>
                <a:ext cx="919080" cy="501840"/>
                <a:chOff x="5220360" y="3766320"/>
                <a:chExt cx="919080" cy="501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229720" y="377388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220360" y="376632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140160" y="3766320"/>
                <a:ext cx="658440" cy="501840"/>
                <a:chOff x="6140160" y="3766320"/>
                <a:chExt cx="658440" cy="501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149880" y="377388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140160" y="376632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799320" y="3766320"/>
                <a:ext cx="678960" cy="501840"/>
                <a:chOff x="6799320" y="3766320"/>
                <a:chExt cx="678960" cy="501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808680" y="377388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799320" y="376632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478640" y="3766320"/>
                <a:ext cx="1659600" cy="501840"/>
                <a:chOff x="7478640" y="3766320"/>
                <a:chExt cx="1659600" cy="501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488000" y="377388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78640" y="376632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8440" y="4283280"/>
                <a:ext cx="1669320" cy="502200"/>
                <a:chOff x="28440" y="4283280"/>
                <a:chExt cx="1669320" cy="5022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800" y="429084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de Ultra SC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8440" y="4283280"/>
                  <a:ext cx="16693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698120" y="4283280"/>
                <a:ext cx="2068200" cy="502200"/>
                <a:chOff x="1698120" y="4283280"/>
                <a:chExt cx="2068200" cy="5022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707480" y="429084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98120" y="4283280"/>
                  <a:ext cx="20682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767040" y="4283280"/>
                <a:ext cx="1452960" cy="502200"/>
                <a:chOff x="3767040" y="4283280"/>
                <a:chExt cx="1452960" cy="502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776760" y="429084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767040" y="4283280"/>
                  <a:ext cx="145296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220360" y="4283280"/>
                <a:ext cx="919080" cy="502200"/>
                <a:chOff x="5220360" y="4283280"/>
                <a:chExt cx="919080" cy="5022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5229720" y="429084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20360" y="4283280"/>
                  <a:ext cx="91908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140160" y="4283280"/>
                <a:ext cx="658440" cy="502200"/>
                <a:chOff x="6140160" y="4283280"/>
                <a:chExt cx="658440" cy="5022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149880" y="429084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140160" y="4283280"/>
                  <a:ext cx="65844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6799320" y="4283280"/>
                <a:ext cx="678960" cy="502200"/>
                <a:chOff x="6799320" y="4283280"/>
                <a:chExt cx="678960" cy="502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808680" y="429084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799320" y="4283280"/>
                  <a:ext cx="67896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7478640" y="4283280"/>
                <a:ext cx="1659600" cy="502200"/>
                <a:chOff x="7478640" y="4283280"/>
                <a:chExt cx="1659600" cy="5022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488000" y="429084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478640" y="4283280"/>
                  <a:ext cx="16596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8440" y="4800240"/>
                <a:ext cx="1669320" cy="502200"/>
                <a:chOff x="28440" y="4800240"/>
                <a:chExt cx="1669320" cy="502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7800" y="480780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de Ultra SC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8440" y="4800240"/>
                  <a:ext cx="16693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698120" y="4800240"/>
                <a:ext cx="2068200" cy="502200"/>
                <a:chOff x="1698120" y="4800240"/>
                <a:chExt cx="2068200" cy="502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707480" y="480780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698120" y="4800240"/>
                  <a:ext cx="20682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67040" y="4800240"/>
                <a:ext cx="1452960" cy="502200"/>
                <a:chOff x="3767040" y="4800240"/>
                <a:chExt cx="1452960" cy="5022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776760" y="480780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767040" y="4800240"/>
                  <a:ext cx="145296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0360" y="4800240"/>
                <a:ext cx="919080" cy="502200"/>
                <a:chOff x="5220360" y="4800240"/>
                <a:chExt cx="919080" cy="5022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229720" y="480780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220360" y="4800240"/>
                  <a:ext cx="91908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140160" y="4800240"/>
                <a:ext cx="658440" cy="502200"/>
                <a:chOff x="6140160" y="4800240"/>
                <a:chExt cx="658440" cy="502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149880" y="480780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40160" y="4800240"/>
                  <a:ext cx="65844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799320" y="4800240"/>
                <a:ext cx="678960" cy="502200"/>
                <a:chOff x="6799320" y="4800240"/>
                <a:chExt cx="678960" cy="5022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808680" y="480780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799320" y="4800240"/>
                  <a:ext cx="67896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478640" y="4800240"/>
                <a:ext cx="1659600" cy="502200"/>
                <a:chOff x="7478640" y="4800240"/>
                <a:chExt cx="1659600" cy="502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488000" y="480780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478640" y="4800240"/>
                  <a:ext cx="16596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8440" y="5317560"/>
                <a:ext cx="1669320" cy="502200"/>
                <a:chOff x="28440" y="5317560"/>
                <a:chExt cx="1669320" cy="5022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7800" y="532512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ltra2 SCSI (2, 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40" y="5317560"/>
                  <a:ext cx="16693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698120" y="5317560"/>
                <a:ext cx="2068200" cy="502200"/>
                <a:chOff x="1698120" y="5317560"/>
                <a:chExt cx="2068200" cy="502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707480" y="532512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98120" y="5317560"/>
                  <a:ext cx="20682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767040" y="5317560"/>
                <a:ext cx="1452960" cy="502200"/>
                <a:chOff x="3767040" y="5317560"/>
                <a:chExt cx="1452960" cy="5022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776760" y="532512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767040" y="5317560"/>
                  <a:ext cx="145296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220360" y="5317560"/>
                <a:ext cx="919080" cy="502200"/>
                <a:chOff x="5220360" y="5317560"/>
                <a:chExt cx="919080" cy="502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229720" y="532512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20360" y="5317560"/>
                  <a:ext cx="91908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140160" y="5317560"/>
                <a:ext cx="658440" cy="502200"/>
                <a:chOff x="6140160" y="5317560"/>
                <a:chExt cx="658440" cy="5022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149880" y="532512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140160" y="5317560"/>
                  <a:ext cx="65844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799320" y="5317560"/>
                <a:ext cx="678960" cy="502200"/>
                <a:chOff x="6799320" y="5317560"/>
                <a:chExt cx="678960" cy="502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808680" y="532512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799320" y="5317560"/>
                  <a:ext cx="67896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478640" y="5317560"/>
                <a:ext cx="1659600" cy="502200"/>
                <a:chOff x="7478640" y="5317560"/>
                <a:chExt cx="1659600" cy="502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488000" y="532512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478640" y="5317560"/>
                  <a:ext cx="165960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8440" y="5834880"/>
                <a:ext cx="1669320" cy="501840"/>
                <a:chOff x="28440" y="5834880"/>
                <a:chExt cx="1669320" cy="5018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7800" y="584208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de Ultra2 SCSI (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8440" y="583488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1698120" y="5834880"/>
                <a:ext cx="2068200" cy="501840"/>
                <a:chOff x="1698120" y="5834880"/>
                <a:chExt cx="2068200" cy="5018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1707480" y="584208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698120" y="583488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767040" y="5834880"/>
                <a:ext cx="1452960" cy="501840"/>
                <a:chOff x="3767040" y="5834880"/>
                <a:chExt cx="1452960" cy="5018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776760" y="584208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767040" y="583488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220360" y="5834880"/>
                <a:ext cx="919080" cy="501840"/>
                <a:chOff x="5220360" y="5834880"/>
                <a:chExt cx="919080" cy="5018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229720" y="584208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220360" y="583488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40160" y="5834880"/>
                <a:ext cx="658440" cy="501840"/>
                <a:chOff x="6140160" y="5834880"/>
                <a:chExt cx="658440" cy="5018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149880" y="584208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40160" y="583488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799320" y="5834880"/>
                <a:ext cx="678960" cy="501840"/>
                <a:chOff x="6799320" y="5834880"/>
                <a:chExt cx="678960" cy="5018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808680" y="584208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99320" y="583488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7478640" y="5834880"/>
                <a:ext cx="1659600" cy="501840"/>
                <a:chOff x="7478640" y="5834880"/>
                <a:chExt cx="1659600" cy="5018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7488000" y="584208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478640" y="583488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8440" y="6351840"/>
                <a:ext cx="1669320" cy="501840"/>
                <a:chOff x="28440" y="6351840"/>
                <a:chExt cx="1669320" cy="5018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7800" y="6359040"/>
                  <a:ext cx="16502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ltra3 SCSI (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8440" y="6351840"/>
                  <a:ext cx="166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698120" y="6351840"/>
                <a:ext cx="2068200" cy="501840"/>
                <a:chOff x="1698120" y="6351840"/>
                <a:chExt cx="2068200" cy="5018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707480" y="6359040"/>
                  <a:ext cx="20494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698120" y="6351840"/>
                  <a:ext cx="20682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767040" y="6351840"/>
                <a:ext cx="1452960" cy="501840"/>
                <a:chOff x="3767040" y="6351840"/>
                <a:chExt cx="1452960" cy="5018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776760" y="6359040"/>
                  <a:ext cx="14335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767040" y="6351840"/>
                  <a:ext cx="1452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220360" y="6351840"/>
                <a:ext cx="919080" cy="501840"/>
                <a:chOff x="5220360" y="6351840"/>
                <a:chExt cx="919080" cy="501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229720" y="6359040"/>
                  <a:ext cx="900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220360" y="6351840"/>
                  <a:ext cx="91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140160" y="6351840"/>
                <a:ext cx="658440" cy="501840"/>
                <a:chOff x="6140160" y="6351840"/>
                <a:chExt cx="658440" cy="5018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149880" y="6359040"/>
                  <a:ext cx="63936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140160" y="6351840"/>
                  <a:ext cx="6584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799320" y="6351840"/>
                <a:ext cx="678960" cy="501840"/>
                <a:chOff x="6799320" y="6351840"/>
                <a:chExt cx="678960" cy="5018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808680" y="6359040"/>
                  <a:ext cx="659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5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799320" y="6351840"/>
                  <a:ext cx="67896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478640" y="6351840"/>
                <a:ext cx="1659600" cy="501840"/>
                <a:chOff x="7478640" y="6351840"/>
                <a:chExt cx="1659600" cy="5018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488000" y="6359040"/>
                  <a:ext cx="164088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78640" y="6351840"/>
                  <a:ext cx="1659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"/>
            <p:cNvSpPr/>
            <p:nvPr/>
          </p:nvSpPr>
          <p:spPr>
            <a:xfrm>
              <a:off x="23760" y="0"/>
              <a:ext cx="9119880" cy="6858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0" y="7610400"/>
            <a:ext cx="91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74F-7735-4684-B900-7BFCF19B770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ükség szerint adatok kezelése (írás/olvasás) a cikluson bel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efejeződésre vonatkozó feltétel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ek, számlálók módos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lezárása, (periféria leállítá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E05-FF3A-47BA-AD35-7CF4F9C088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51051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trl: vezérlőszó írás címe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tat: állapot olvasás 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ata: adatolvasás cí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1280" y="308520"/>
            <a:ext cx="2614680" cy="113544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D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L,Puffer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D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,Byteszá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D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,Móds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1759320"/>
            <a:ext cx="266724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UT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trl,A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521440"/>
            <a:ext cx="266724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N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,Stat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2080" y="3171960"/>
            <a:ext cx="2616480" cy="7970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iba v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960" y="4227480"/>
            <a:ext cx="2667960" cy="7970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yte kés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0360" y="143676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21985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296064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0360" y="395136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28800" y="228600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463716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52840" y="2274840"/>
            <a:ext cx="0" cy="2362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275800"/>
            <a:ext cx="266688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N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,Data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4952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780120"/>
            <a:ext cx="266688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D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HL),A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465920"/>
            <a:ext cx="266688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NC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L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151720"/>
            <a:ext cx="266688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EC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943360"/>
            <a:ext cx="2361960" cy="7970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352680" y="2260080"/>
            <a:ext cx="152640" cy="25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28600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62520" y="33526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6360" y="22860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1219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590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733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4920" y="35812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57150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943600"/>
            <a:ext cx="2362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80880"/>
            <a:ext cx="0" cy="5562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3808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3808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657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81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876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3886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114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304920" cy="1905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056480"/>
            <a:ext cx="266688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D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,Stopkó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666320"/>
            <a:ext cx="2666880" cy="3988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UT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trl,A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495680"/>
            <a:ext cx="0" cy="152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03848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D25-9D5A-4D82-8CC6-90035B48FF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: egyszerű, nincs v. kevés a járulékos tevékeny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azarlás a CPU idej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támogatja a multitasking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lehet a perifériákat fontosság szerint sorba állí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nne rejlik a nagyon hosszú (végtelen) várakozás lehetősé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kalmazása: célrendszerekbe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hol nincs más tennivaló, mint a (kevés és viszonylag lassú) periféria kezelése (beágyazott  rendszere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C15-C380-4C41-844F-13BA493492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egszakításos I/O kez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ényege: a CPU az I/O művelet indítása után magára hagyja a perifériát, az pedig a művelet befejeződését megszakításkéréssel jel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űködés fázis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előkészítése (memóriacím, adatméret meghatározás, vezérlő informá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ó összeállítá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indítása (pld. egyetlen vezérlő szó kiírásáv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aszk végrehajtás (ugyanaz, vagy egy másik) folytató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A40-37D9-4770-A7D3-D6B5EF3DAD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llépő megszakításkérés(eke)t az operációs rendszer kezeli, végzi a szükséges ellenőrzéseket, adminisztráció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819520"/>
            <a:ext cx="20574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581280"/>
            <a:ext cx="2286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3434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81952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124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/O művelet k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3733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/O művelet ind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és taszkvál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66880" y="3580920"/>
            <a:ext cx="1526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343400"/>
            <a:ext cx="2133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581280"/>
            <a:ext cx="15228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657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szakításk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2819520"/>
            <a:ext cx="1143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91520" y="28954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44197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szakítás kezelé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szk újraind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800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sz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181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sz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715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p. ren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029200"/>
            <a:ext cx="685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410080"/>
            <a:ext cx="6858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94360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850-9E93-403C-99BA-0539914043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tékony, nem pazarol a CPU-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mogatja a több taszkos működ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/O eszközök között prioritás állítható fel, ez akár dinamikusan változtatható (IT szint és stratég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lehet (könnyen) „lefogni” a rendsz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ár, amit fizetünk ér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onyolultabb I/O progra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agyobb adminisztr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Összetettebb periféria vezérl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talános célú gépekben egyeduralkodó módszer (DMA-val kiegészít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BED-712E-49B8-B7EA-E1EBBB068B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DMA használ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yors működésű és sok adatot szolgáltató/fogadó I/O eszközöknél (mágneslemez, CD) a  byte-onkénti megszakítás kérés kezelése elfog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tlan lassulással jár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yen csak egy IT, a működés végén, a tényleges memória-periféria átvitelt pedig bízzuk egy DMA egysé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űködés fázisa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velet előkészítése (memóriacím, adatméret meghatározás, vezérlő informácíó összeállítása, DMA paraméterek beállítá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43A-F074-4D31-AFC2-51ABD38DD0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AJF</cp:lastModifiedBy>
  <dcterms:modified xsi:type="dcterms:W3CDTF">2003-10-14T20:28:46Z</dcterms:modified>
  <cp:revision>114</cp:revision>
  <dc:subject/>
  <dc:title>TELJESÍTMÉNYFOKOZÓ ARCHITEKTÚRÁLIS ELVEK</dc:title>
</cp:coreProperties>
</file>