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872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525-6758-43CB-95C3-6BC302DE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296-6CCA-4BC9-AE52-6F2A8127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2E9-9D86-4C2B-8A89-2F7F645A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372-547B-4406-BDD1-2533720D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9E1-495B-480F-9938-32DD18E9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031-079C-452B-9B32-AC03499C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D0C-A397-4E21-94B6-F58F2630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E77-61E8-4733-A573-C95ABD9A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5D2-7ADD-4C79-9585-18C3C3B0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10D-29E7-44B5-A8C4-CEB393F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008-0401-4A86-9D2E-990ABFED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6AF-5D63-4550-887C-ADCAB3E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23D9-DFC4-4BD4-95F4-AB4741443A1B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ZÁMÍTÓGÉP ARCHITEKTÚRÁK -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émeth Gá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6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RENDSZERSÍNRE ALAPOZOTT SZERVEZ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430524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14680" y="428544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RENDSZERSÍ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4286160"/>
            <a:ext cx="0" cy="362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458200" y="4286160"/>
            <a:ext cx="0" cy="362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5048280"/>
            <a:ext cx="2019240" cy="104760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676520" y="4683240"/>
            <a:ext cx="0" cy="3650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0280" y="5477040"/>
            <a:ext cx="178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0280" y="5567400"/>
            <a:ext cx="178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00280" y="5476680"/>
            <a:ext cx="0" cy="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581200" y="5476680"/>
            <a:ext cx="0" cy="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30240" y="5191200"/>
            <a:ext cx="1451160" cy="190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31320" y="5190480"/>
            <a:ext cx="144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ff33"/>
                </a:solidFill>
                <a:latin typeface="Times New Roman"/>
              </a:rPr>
              <a:t>RENDSZERSÍN ILLESZTŐ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76520" y="50479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5381640"/>
            <a:ext cx="0" cy="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0240" y="5653080"/>
            <a:ext cx="650880" cy="347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247760" y="5567400"/>
            <a:ext cx="4680" cy="85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1880" y="566388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ff33"/>
                </a:solidFill>
                <a:latin typeface="Times New Roman"/>
              </a:rPr>
              <a:t>KÖZÖ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ff33"/>
                </a:solidFill>
                <a:latin typeface="Times New Roman"/>
              </a:rPr>
              <a:t>MEMÓRI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920" y="556740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imes New Roman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imes New Roman"/>
              </a:rPr>
              <a:t>MODU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752480"/>
            <a:ext cx="3543480" cy="209556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381400" y="3847680"/>
            <a:ext cx="0" cy="4381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1160" y="3168720"/>
            <a:ext cx="3098880" cy="4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81400" y="3600360"/>
            <a:ext cx="0" cy="247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33840" y="318708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RENDSZERSÍN VEZÉRL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30240" y="2914560"/>
            <a:ext cx="3079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30240" y="2733840"/>
            <a:ext cx="3079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930240" y="2733840"/>
            <a:ext cx="0" cy="18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010040" y="2733840"/>
            <a:ext cx="0" cy="18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381400" y="2914560"/>
            <a:ext cx="0" cy="254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95720" y="2723400"/>
            <a:ext cx="71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5050"/>
                </a:solidFill>
                <a:latin typeface="Times New Roman"/>
              </a:rPr>
              <a:t>BELSŐ SÍ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30240" y="1905120"/>
            <a:ext cx="1069920" cy="434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42120" y="1999440"/>
            <a:ext cx="103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OCESSZ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11480" y="1905120"/>
            <a:ext cx="841320" cy="434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15440" y="1913760"/>
            <a:ext cx="83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AJÁ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93920" y="1905120"/>
            <a:ext cx="816120" cy="434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02640" y="1923480"/>
            <a:ext cx="5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AJÁ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/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428840" y="2339640"/>
            <a:ext cx="0" cy="3841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619360" y="2339640"/>
            <a:ext cx="0" cy="3841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600360" y="2339640"/>
            <a:ext cx="0" cy="3841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6480" y="1752480"/>
            <a:ext cx="1371600" cy="2095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1752480"/>
            <a:ext cx="1371600" cy="2095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88120" y="2338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313240" y="384804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810560" y="3847680"/>
            <a:ext cx="19080" cy="4381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32480" y="2310120"/>
            <a:ext cx="14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32960" y="2306880"/>
            <a:ext cx="14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95680" y="3827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83560" y="38469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09480" y="5176080"/>
            <a:ext cx="38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tszőlegesen bővíthető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7BC-3279-4B7F-B25E-47E8251C25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7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RENDSZERSÍNRE ALAPOZOTT SZERVEZÉS 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5050"/>
                </a:solidFill>
                <a:latin typeface="Times New Roman"/>
              </a:rPr>
              <a:t>Master modul: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magához ragadhatja a rendszersín vezérlésé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5050"/>
                </a:solidFill>
                <a:latin typeface="Times New Roman"/>
              </a:rPr>
              <a:t>Slave modu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nem ragadhatja magához a rendszersín vezérlésé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közös erőforrás(oka)t tartalma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A rendszer (elvben) tetszőlegesen bővíthető és átkonfigurálhat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9F7-3363-4F47-918E-CB5233DBF8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8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RENDSZERSÍNRE ALAPOZOTT SZERVEZÉS -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0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egyes processzorokon futó folyamatok (a slave modulban lévő) közös erőforráson keresztül kívánnak kommunikálni egymással. Fel kell oldani a közös erőforrás használatáért folyó versengé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E: a folyamatokat futtató master moduloknak előbb hozzá kell férniük a rendszersínhe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aster modulok versenyeznek a rendszersínhez való hozzáférés jogáér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Aft>
                <a:spcPts val="1500"/>
              </a:spcAft>
              <a:buClr>
                <a:srgbClr val="ffff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- SOROS (daisy chain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va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Aft>
                <a:spcPts val="1500"/>
              </a:spcAft>
              <a:buClr>
                <a:srgbClr val="ffff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- PÁRHUZAMOS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ozzáférés vezérlé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95A-CD1C-4474-AB77-8408CD3C43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9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OROS HOZZÁFÉRÉS VEZÉR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2000160"/>
            <a:ext cx="1809720" cy="1009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920" y="25516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33520" y="2551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52040" y="1999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M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48480" y="2000160"/>
            <a:ext cx="1809720" cy="1009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50280" y="25516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733880" y="2551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45200" y="1999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M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51320" y="3009960"/>
            <a:ext cx="0" cy="36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4320" y="3009960"/>
            <a:ext cx="0" cy="36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3760" y="3009960"/>
            <a:ext cx="0" cy="36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32000" y="337176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94320" y="3371760"/>
            <a:ext cx="606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62640" y="3371760"/>
            <a:ext cx="681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98560" y="3371760"/>
            <a:ext cx="372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78320" y="30661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85800" y="1999080"/>
            <a:ext cx="1809720" cy="1773000"/>
            <a:chOff x="685800" y="1999080"/>
            <a:chExt cx="1809720" cy="1773000"/>
          </a:xfrm>
        </p:grpSpPr>
        <p:sp>
          <p:nvSpPr>
            <p:cNvPr id="379" name=""/>
            <p:cNvSpPr/>
            <p:nvPr/>
          </p:nvSpPr>
          <p:spPr>
            <a:xfrm>
              <a:off x="685800" y="2000160"/>
              <a:ext cx="1809720" cy="1009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600" y="255168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B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71200" y="25516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K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89720" y="19990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M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9000" y="3009960"/>
              <a:ext cx="0" cy="36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32000" y="3009960"/>
              <a:ext cx="0" cy="36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61960" y="300996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70120" y="3009960"/>
            <a:ext cx="0" cy="150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2440" y="3009960"/>
            <a:ext cx="0" cy="150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732800" y="3009960"/>
            <a:ext cx="0" cy="150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451476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24280" y="300996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00880" y="300996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377208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52240" y="3313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Ó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61320" y="405648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GL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2000" y="451368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0? (ÓRA lefutó élek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48186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NEM: vá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00000" y="5142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IGEN: FOGLALT = 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94000" y="546624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NEM: vá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92200" y="3371760"/>
            <a:ext cx="552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93640" y="57902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IGEN: FOGLALT :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97520" y="4821480"/>
            <a:ext cx="3246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66"/>
                </a:solidFill>
                <a:latin typeface="Times New Roman"/>
              </a:rPr>
              <a:t>Aki hozzá akar férni a rendszersínhez, az PKI := 1-et állít be (az ÓRA felfutó élekor), egyébként megismétli a PBE bemenetén vett érték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042-D984-4385-A718-76279A5824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OROS HOZZÁFÉRÉS VEZÉRLÉS 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Aft>
                <a:spcPts val="751"/>
              </a:spcAft>
              <a:buClr>
                <a:srgbClr val="ff505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5050"/>
                </a:solidFill>
                <a:latin typeface="Times New Roman"/>
              </a:rPr>
              <a:t>ELŐNY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Aft>
                <a:spcPts val="1500"/>
              </a:spcAft>
              <a:buClr>
                <a:srgbClr val="ffffff"/>
              </a:buClr>
              <a:buFont typeface="Times New Roman"/>
              <a:buChar char=" 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agyon egyszer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Aft>
                <a:spcPts val="751"/>
              </a:spcAft>
              <a:buClr>
                <a:srgbClr val="ff505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5050"/>
                </a:solidFill>
                <a:latin typeface="Times New Roman"/>
              </a:rPr>
              <a:t>HÁTRÁNYA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Aft>
                <a:spcPts val="751"/>
              </a:spcAft>
              <a:buClr>
                <a:srgbClr val="ff5050"/>
              </a:buClr>
              <a:buFont typeface="Times New Roman"/>
              <a:buChar char=" 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terjedési késleltetés miatt csak nagyon kis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endszerekben alkalmazható (meg kell várni a leg-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aloldalibbtól is az igény végigfutását a lánc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Aft>
                <a:spcPts val="1500"/>
              </a:spcAft>
              <a:buClr>
                <a:srgbClr val="ff5050"/>
              </a:buClr>
              <a:buFont typeface="Times New Roman"/>
              <a:buChar char=" 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ehéz átkonfigurálni (vezetéket kell elvágni és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összekötni), de a kis rendszerek (nagy megbízha-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óság) miatt erre menetközben nincs szüksé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Aft>
                <a:spcPts val="1500"/>
              </a:spcAft>
              <a:buClr>
                <a:srgbClr val="ff5050"/>
              </a:buClr>
              <a:buFont typeface="Times New Roman"/>
              <a:buChar char=" 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A rögzített prioritás miatt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éhezés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léphet f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B4A-AABC-4607-8F33-86C9F8AADF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11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ÁRHUZAMOS HOZZÁFÉRÉS VEZÉR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00160"/>
            <a:ext cx="1809720" cy="1009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4120" y="2551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11440" y="2551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É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89720" y="1999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M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2000" y="3009960"/>
            <a:ext cx="0" cy="36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61960" y="300996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2000160"/>
            <a:ext cx="1809720" cy="1009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38320" y="25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89720" y="1999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M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32000" y="3009960"/>
            <a:ext cx="0" cy="1123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61960" y="300996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2000160"/>
            <a:ext cx="1809720" cy="1009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92760" y="2551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50080" y="2551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É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28360" y="1999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M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70280" y="3009960"/>
            <a:ext cx="0" cy="1123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00600" y="300996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48480" y="2000160"/>
            <a:ext cx="1809720" cy="1009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16800" y="2551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74120" y="2551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É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45200" y="1999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M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194680" y="3009960"/>
            <a:ext cx="0" cy="1123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24640" y="300996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2320" y="3772080"/>
            <a:ext cx="8205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90960" y="4476600"/>
            <a:ext cx="3176640" cy="933480"/>
          </a:xfrm>
          <a:prstGeom prst="rect">
            <a:avLst/>
          </a:prstGeom>
          <a:solidFill>
            <a:srgbClr val="ff5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IORITÁS ELDÖNT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4133880"/>
            <a:ext cx="0" cy="34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22640" y="4133880"/>
            <a:ext cx="1304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00600" y="4133880"/>
            <a:ext cx="0" cy="34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00600" y="4133880"/>
            <a:ext cx="769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76800" y="4018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48200" y="4133880"/>
            <a:ext cx="19080" cy="34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48200" y="4133880"/>
            <a:ext cx="234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27280" y="5410080"/>
            <a:ext cx="0" cy="438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088640" y="584820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089000" y="3009960"/>
            <a:ext cx="0" cy="2838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35520" y="5410080"/>
            <a:ext cx="0" cy="704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857680" y="6114960"/>
            <a:ext cx="1077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857680" y="337176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57680" y="3371760"/>
            <a:ext cx="66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527280" y="3009600"/>
            <a:ext cx="0" cy="36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67280" y="5410080"/>
            <a:ext cx="0" cy="438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5848200"/>
            <a:ext cx="118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43760" y="3009960"/>
            <a:ext cx="0" cy="2838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40240" y="5409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43520" y="33138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GL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16640" y="2227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51680" y="4416120"/>
            <a:ext cx="18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Akkor kér hozzáférést, ha a rendszersín nem fogla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4F2-3BAA-4FE1-A849-66FF396223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1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ÁRHUZAMOS HOZZÁFÉRÉS VEZÉRLÉS 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oritás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lehet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rögzítet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(a prioritás eldöntő egyszerű kombinációs áramkör), vagy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áltozó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(pl. körbenforgó - round robin - ekkor hosszabb idő alatt egyenlő esélyt kap minden modu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prioritás eldöntőt nagyobb rendszereknél elosztott módon valósítjuk meg (ellenkező esetben a rendszer kritikus része lenn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A9C-48F7-456E-BEBA-281907935F6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1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OSTAFIÓK EL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000" y="1408680"/>
            <a:ext cx="80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folyamatok kommunikációja a POSTAFIÓK elven alapu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3983040"/>
            <a:ext cx="77724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95440" y="2771640"/>
            <a:ext cx="1082880" cy="781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4200" y="2771640"/>
            <a:ext cx="1082520" cy="781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5680" y="2771640"/>
            <a:ext cx="1082520" cy="781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43360" y="3552840"/>
            <a:ext cx="0" cy="43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19680" y="3552840"/>
            <a:ext cx="0" cy="43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96240" y="29372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M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50600" y="29372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M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6720" y="2870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561760" y="1865880"/>
            <a:ext cx="4560840" cy="867960"/>
            <a:chOff x="2561760" y="1865880"/>
            <a:chExt cx="4560840" cy="867960"/>
          </a:xfrm>
        </p:grpSpPr>
        <p:sp>
          <p:nvSpPr>
            <p:cNvPr id="466" name=""/>
            <p:cNvSpPr/>
            <p:nvPr/>
          </p:nvSpPr>
          <p:spPr>
            <a:xfrm rot="5400000">
              <a:off x="4632480" y="243360"/>
              <a:ext cx="419400" cy="4560840"/>
            </a:xfrm>
            <a:custGeom>
              <a:avLst/>
              <a:gdLst>
                <a:gd name="textAreaLeft" fmla="*/ 267840 w 419400"/>
                <a:gd name="textAreaRight" fmla="*/ 419760 w 419400"/>
                <a:gd name="textAreaTop" fmla="*/ 118800 h 4560840"/>
                <a:gd name="textAreaBottom" fmla="*/ 4442040 h 456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30240" y="1865880"/>
              <a:ext cx="43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66ff33"/>
                  </a:solidFill>
                  <a:latin typeface="Times New Roman"/>
                </a:rPr>
                <a:t>feldolgozás saját erőforrásokk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219320" y="3552840"/>
            <a:ext cx="0" cy="43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1920" y="29372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M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962840" y="3552480"/>
            <a:ext cx="0" cy="43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2771640"/>
            <a:ext cx="1082520" cy="781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85800" y="2771640"/>
            <a:ext cx="7772400" cy="1211400"/>
            <a:chOff x="685800" y="2771640"/>
            <a:chExt cx="7772400" cy="1211400"/>
          </a:xfrm>
        </p:grpSpPr>
        <p:sp>
          <p:nvSpPr>
            <p:cNvPr id="473" name=""/>
            <p:cNvSpPr/>
            <p:nvPr/>
          </p:nvSpPr>
          <p:spPr>
            <a:xfrm>
              <a:off x="1219320" y="3552840"/>
              <a:ext cx="0" cy="43020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5800" y="3983040"/>
              <a:ext cx="7772400" cy="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962840" y="3552480"/>
              <a:ext cx="0" cy="43020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00" y="2771640"/>
              <a:ext cx="1082520" cy="781200"/>
            </a:xfrm>
            <a:prstGeom prst="rect">
              <a:avLst/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1271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3981600"/>
            <a:ext cx="77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termelő folyamat (pl. az MM1 master modulon) adatokat ír be a </a:t>
            </a:r>
            <a:r>
              <a:rPr b="1" lang="hu-HU" sz="2400" spc="-1" strike="noStrike">
                <a:solidFill>
                  <a:srgbClr val="ff5050"/>
                </a:solidFill>
                <a:latin typeface="Times New Roman"/>
              </a:rPr>
              <a:t>feladathoz rendelt terüle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e (postafiókb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0240" y="4803480"/>
            <a:ext cx="71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 adatot fogyasztó folyamat számára közömbös, hogy ki írta be az adatot a postafiókba (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átkonfigurálhatósá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81E-ECAF-42A0-A470-0DB1B338FB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14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OSTAFIÓK ELV 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3440" y="2771640"/>
            <a:ext cx="1082520" cy="781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95480" y="2771640"/>
            <a:ext cx="1082520" cy="781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02160" y="2771640"/>
            <a:ext cx="1082520" cy="781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05680" y="2771640"/>
            <a:ext cx="1082520" cy="781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33080" y="1751400"/>
            <a:ext cx="4560840" cy="867960"/>
            <a:chOff x="433080" y="1751400"/>
            <a:chExt cx="4560840" cy="867960"/>
          </a:xfrm>
        </p:grpSpPr>
        <p:sp>
          <p:nvSpPr>
            <p:cNvPr id="486" name=""/>
            <p:cNvSpPr/>
            <p:nvPr/>
          </p:nvSpPr>
          <p:spPr>
            <a:xfrm rot="5400000">
              <a:off x="2503800" y="128880"/>
              <a:ext cx="419400" cy="4560840"/>
            </a:xfrm>
            <a:custGeom>
              <a:avLst/>
              <a:gdLst>
                <a:gd name="textAreaLeft" fmla="*/ 267840 w 419400"/>
                <a:gd name="textAreaRight" fmla="*/ 419760 w 419400"/>
                <a:gd name="textAreaTop" fmla="*/ 118800 h 4560840"/>
                <a:gd name="textAreaBottom" fmla="*/ 4442040 h 456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560" y="1751400"/>
              <a:ext cx="43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66ff33"/>
                  </a:solidFill>
                  <a:latin typeface="Times New Roman"/>
                </a:rPr>
                <a:t>feldolgozás saját erőforrásokk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7786800" y="2771640"/>
            <a:ext cx="1082520" cy="781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362800" y="3552840"/>
            <a:ext cx="0" cy="561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6762600" y="3552480"/>
            <a:ext cx="0" cy="561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971640" y="3552480"/>
            <a:ext cx="0" cy="561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33680" y="3552840"/>
            <a:ext cx="0" cy="561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3552840"/>
            <a:ext cx="0" cy="561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0480" y="29325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M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72520" y="29325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M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79200" y="29325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M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95720" y="2932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747560" y="293256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84520" y="2932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M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3440" y="4114800"/>
            <a:ext cx="8435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33440" y="2771640"/>
            <a:ext cx="8435880" cy="1343160"/>
            <a:chOff x="433440" y="2771640"/>
            <a:chExt cx="8435880" cy="1343160"/>
          </a:xfrm>
        </p:grpSpPr>
        <p:sp>
          <p:nvSpPr>
            <p:cNvPr id="502" name=""/>
            <p:cNvSpPr/>
            <p:nvPr/>
          </p:nvSpPr>
          <p:spPr>
            <a:xfrm>
              <a:off x="8362800" y="3552840"/>
              <a:ext cx="0" cy="56196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762600" y="3552480"/>
              <a:ext cx="0" cy="56196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05680" y="2771640"/>
              <a:ext cx="1082520" cy="781200"/>
            </a:xfrm>
            <a:prstGeom prst="rect">
              <a:avLst/>
            </a:prstGeom>
            <a:noFill/>
            <a:ln w="7632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3440" y="4114800"/>
              <a:ext cx="8435880" cy="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01920" y="459000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 adatot fogyasztó folyamat kiolvassa a postafiók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7120" y="5168880"/>
            <a:ext cx="704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fogyasztó számára közömbös, hogy ki tette be az adatot a postafiókba (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átkonfigurálhatósá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20E-301E-429C-8E5D-C2185F2EEC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1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OSTAFIÓK ELV -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8120" y="1522440"/>
            <a:ext cx="834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Egyszerre csak egyetlen folyamat férhet hozzá a postafiókhoz (kölcsönös kizárá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8120" y="2345040"/>
            <a:ext cx="80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postafiók használatát (KRITIKUS SZEKCIÓ) megfelelő szemafór(ok) kezelésével biztosítju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38120" y="3395520"/>
            <a:ext cx="80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A szemafór vizsgálatának és átállításának oszthatatlan műveletnek kell lennie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egyébként egy másik folyamat is úgy érezhetné, hogy hozzáférhet a postafiókhoz)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8120" y="4902480"/>
            <a:ext cx="81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zt a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é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rimití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kkel oldjuk meg (sok processzor rendelkezik ilyen hardver utasításokka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1D0-9E8D-48C3-81E6-A14F416FE70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PROCESSZOROS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OROSAN CSATOLT RENDS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kommunikáció közös erőforráson keresztü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egyetlen operációs rendszer v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Bonyolult, gy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lapvető változata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crossbar szervezé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multiport memóriára alapozott szervezé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rendszersínre alapozott szervez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154-E06E-4CA8-888D-06E125704D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16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OSTAFIÓK ELV -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O FOREV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F S &gt; 0 THEN /*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SZEMAFÓR VIZSGÁLAT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UTPUT (BUS_LOCK) = 1; /* R.SÍN LEFOGLALÁSA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F S &gt; 0 THEN /*SZEMAFÓR ISMÉTELT VIZSGÁLATA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 = S - 1; /*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SZEMAFÓR ÁTÁLLÍTÁS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UTPUT (BUS_LOCK) = 0; /*R.SÍN ELENGEDÉSE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TURN; /*KILÉPÉS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UTPUT (BUS_LOCK) =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D; /*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SIKERTELEN KÍSÉRLET ESETÉN ISMÉTLÉ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D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79280" y="55807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5050"/>
                </a:solidFill>
                <a:latin typeface="Times New Roman"/>
              </a:rPr>
              <a:t>Nembináris szemafó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39F-0F9B-4745-A9F4-168A4D6762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17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OSTAFIÓK ELV -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UTPUT (BUS_LOCK) = 1; /*R.SÍN LEFOGLALÁSA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 = S + 1; /*SZEMAFÓR FELSZABADÍTÁSA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UTPUT (BUS_LOCK) = 0; /*R.SÍN ELENGEDÉSE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5000"/>
              </a:spcAft>
              <a:buClr>
                <a:srgbClr val="ffffff"/>
              </a:buClr>
              <a:buFont typeface="Times New Roman"/>
              <a:buChar char=" 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DV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5050"/>
              </a:buClr>
              <a:buFont typeface="Times New Roman"/>
              <a:buChar char=" 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ROBLÉMA: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oglalt postafiók esetén állandó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vizsgálatot végzünk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korlátozva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dszersín felhasználhatóságát a több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lyamat számár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55F-8CB8-497E-8462-0CD782CC38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18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OSTAFIÓK ELV -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380988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ÉT FOLYAMAT KÖZÖS POSTAFIÓK HASZNÁLATA S BINÁRIS SZEMAFÓR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380988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rmelő: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ogyasztó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380988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1:……………………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2:…………………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380988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ALL P(S)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ALL P(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380988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beírás a postafiókba)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kiolvasás a postafiókbó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380988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ALL V(S)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ALL V(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380988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………………………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………………………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6A3-6ED2-47E5-8770-5476B1D46B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19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OSTAFIÓK ELV -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390680"/>
            <a:ext cx="8210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oglalt postafiók esetén egy ahhoz hozzáférni kívánó folyamat állandóan vizsgálja a szemafórt (és használja a rendszersín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Wingdings" charset="2"/>
              <a:buChar char=""/>
              <a:tabLst>
                <a:tab algn="l" pos="76212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élszerű elaltatni a várakozó folyamatot és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elébreszteni, ha szabad a postafió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: MOVE (IDENTITYi) TO 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XCHANGE R, 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Aft>
                <a:spcPts val="901"/>
              </a:spcAft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F (R)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0 THEN WAI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: CLEAR 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XCHANGE R, 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F (R)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IDENTITYi THEN AWAKE PROCESS (R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11840" y="433404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Csak két folyamat esetén használhat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360-C1FE-4134-8D36-881001F0F0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OSTAFIÓK ELV -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Általános esetben egy postafiókba több folyamat tehet be adatokat és több folyamat vehet ki adatok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Wingdings" charset="2"/>
              <a:buChar char="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termelési és a fogyasztási sebesség eltérése miatt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orlódás léphet f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Wingdings" charset="2"/>
              <a:buChar char="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Újabb (nembináris) szemafórokat vezetünk b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Aft>
                <a:spcPts val="1500"/>
              </a:spcAft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postafiókban leveleket helyezünk el borítékokb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Aft>
                <a:spcPts val="1500"/>
              </a:spcAft>
              <a:buClr>
                <a:srgbClr val="ffffff"/>
              </a:buClr>
              <a:buFont typeface="Times New Roman"/>
              <a:buChar char=" 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levelet tartalmazó borítékok száma TELE, az üreseké Ü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961-8B1F-4DDE-9C91-E99C918E817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21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OSTAFIÓK ELV -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GYASZTÓ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……………………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ALL P(TELE)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/*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ele borítékok számának csökkenté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ALL P(SEMA); /*más nem férhet hozzá a postafiókhoz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adatok kivétele a postafiókbó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LL V(SEMA); /*jöhet más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LL V(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Ü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; /*üres borítékok számának növelése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……………………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DFOGY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SZTÓ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154-8887-44D6-BE51-C6AE7A64E8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2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POSTAFIÓK ELV 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RMELŐ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…………………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LL P(ÜRES); /*üres borítékok számának csökkentése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LL P(SEMA); /*más nem férhet a postafiókhoz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adatok berakása a postafiókb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LL V(SEMA); /*jöhet más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LL V(TELE); /*tele borítékok számának növelése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…………………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DTERMELŐ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" y="4902480"/>
            <a:ext cx="80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A postafiók kizárólagos használatát szervező mechanizmust körülvettük a torlódásvezérlő mechanizmuss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7B5-54BD-4478-9BA9-DDD3F098A7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26600" y="1245600"/>
            <a:ext cx="42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CROSSBAR SZERVEZ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14560"/>
            <a:ext cx="1533600" cy="723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95720"/>
            <a:ext cx="1533600" cy="723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315040"/>
            <a:ext cx="1533600" cy="723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09960" y="2013120"/>
            <a:ext cx="1533600" cy="723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91040" y="2013120"/>
            <a:ext cx="1533600" cy="723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24600" y="2013120"/>
            <a:ext cx="1533600" cy="723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9400" y="3257640"/>
            <a:ext cx="6619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9400" y="4438800"/>
            <a:ext cx="6619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9400" y="5676840"/>
            <a:ext cx="6619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2736720"/>
            <a:ext cx="0" cy="330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53160" y="2736720"/>
            <a:ext cx="0" cy="330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01120" y="2736720"/>
            <a:ext cx="0" cy="330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14840" y="3166920"/>
            <a:ext cx="190440" cy="190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76840" y="3162240"/>
            <a:ext cx="190440" cy="19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05720" y="3162240"/>
            <a:ext cx="190440" cy="19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19520" y="4343400"/>
            <a:ext cx="190440" cy="19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19520" y="5581800"/>
            <a:ext cx="190440" cy="19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7760" y="5581800"/>
            <a:ext cx="190440" cy="19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57760" y="4343400"/>
            <a:ext cx="190440" cy="19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05720" y="4343400"/>
            <a:ext cx="190440" cy="19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05720" y="5581800"/>
            <a:ext cx="190440" cy="19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5200" y="307404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szor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2880" y="426636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sz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2880" y="547740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sz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58280" y="220104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mória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85360" y="218196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mória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99840" y="218196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mória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19400" y="2736360"/>
            <a:ext cx="3533760" cy="521280"/>
            <a:chOff x="2219400" y="2736360"/>
            <a:chExt cx="3533760" cy="521280"/>
          </a:xfrm>
        </p:grpSpPr>
        <p:sp>
          <p:nvSpPr>
            <p:cNvPr id="75" name=""/>
            <p:cNvSpPr/>
            <p:nvPr/>
          </p:nvSpPr>
          <p:spPr>
            <a:xfrm>
              <a:off x="2219400" y="3257640"/>
              <a:ext cx="35337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753160" y="2736360"/>
              <a:ext cx="0" cy="520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200320" y="2736360"/>
            <a:ext cx="1609560" cy="2940480"/>
            <a:chOff x="2200320" y="2736360"/>
            <a:chExt cx="1609560" cy="2940480"/>
          </a:xfrm>
        </p:grpSpPr>
        <p:sp>
          <p:nvSpPr>
            <p:cNvPr id="78" name=""/>
            <p:cNvSpPr/>
            <p:nvPr/>
          </p:nvSpPr>
          <p:spPr>
            <a:xfrm>
              <a:off x="2200320" y="5676840"/>
              <a:ext cx="160956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809880" y="2736360"/>
              <a:ext cx="0" cy="29401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136560" y="462024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apcsol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867280" y="4620960"/>
            <a:ext cx="270000" cy="19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17480" y="3736080"/>
            <a:ext cx="134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sz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í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991040" y="3371760"/>
            <a:ext cx="0" cy="365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32480" y="3526560"/>
            <a:ext cx="11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í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67280" y="3736800"/>
            <a:ext cx="565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F3C-7BA8-4625-9E97-BA0B52ECD8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505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5050"/>
                </a:solidFill>
                <a:latin typeface="Times New Roman"/>
              </a:rPr>
              <a:t>CROSSBAR SZERVEZ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Előnyö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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szerű felépíté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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önnyen átkonfigurálhat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Hátrány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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sak kis rendszerek esetén használható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blémát jelent a szabadút keresés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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onyolult kapcsolókat igény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997-FD43-4A83-820E-FB492B790A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49560" y="97416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MULTIPORT MEMÓ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847880"/>
            <a:ext cx="145908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27720" y="1847880"/>
            <a:ext cx="145908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86240" y="1847880"/>
            <a:ext cx="243828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3520" y="385488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PROCESZ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SZO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55440" y="374400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PROCESZ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SZ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86360" y="5581800"/>
            <a:ext cx="134136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4880" y="5581800"/>
            <a:ext cx="134136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5600" y="509652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ATSÍ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7440" y="509652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ATSÍ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6360" y="4806720"/>
            <a:ext cx="213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KÉTKA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4880" y="4954680"/>
            <a:ext cx="13302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24520" y="4975200"/>
            <a:ext cx="13302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4000680"/>
            <a:ext cx="666720" cy="475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78080" y="4000680"/>
            <a:ext cx="666720" cy="475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90920" y="4476600"/>
            <a:ext cx="0" cy="47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44800" y="4248000"/>
            <a:ext cx="530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62600" y="4476600"/>
            <a:ext cx="0" cy="47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924520" y="4248000"/>
            <a:ext cx="519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449964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Í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1440" y="455688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Í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76520" y="4048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G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99320" y="404892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G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79520" y="4048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45080" y="4048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144880" y="2076480"/>
            <a:ext cx="1341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160" y="18770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24520" y="2076480"/>
            <a:ext cx="125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80560" y="18770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3520" y="187704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60160" y="18770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44880" y="2552760"/>
            <a:ext cx="1341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924520" y="2552760"/>
            <a:ext cx="1292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75800" y="23533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LV/Í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235332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LV/Í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2560" y="2354400"/>
            <a:ext cx="352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2040" y="2335320"/>
            <a:ext cx="352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2946240"/>
            <a:ext cx="318960" cy="60984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91280" y="2552760"/>
            <a:ext cx="0" cy="5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91280" y="3100320"/>
            <a:ext cx="25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62600" y="3252960"/>
            <a:ext cx="416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590920" y="2946240"/>
            <a:ext cx="318960" cy="60984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65480" y="2552760"/>
            <a:ext cx="0" cy="5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09880" y="3100320"/>
            <a:ext cx="25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144520" y="3252960"/>
            <a:ext cx="446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9880" y="3403440"/>
            <a:ext cx="565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24520" y="3403440"/>
            <a:ext cx="519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3520" y="34027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GLAL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32040" y="3403440"/>
            <a:ext cx="142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9240" y="294552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GLALT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71840" y="2946240"/>
            <a:ext cx="14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84120" y="304056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É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6160" y="30535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É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4EA-5FCE-47FA-AB36-F1B5702BE8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ZOROSAN CSATOLT RENDSZEREK - 4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MULTIPORT MEMÓRIA -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gymástól független két bemeneti/kimeneti old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138400"/>
            <a:ext cx="145908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27720" y="2138400"/>
            <a:ext cx="145908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86240" y="2138400"/>
            <a:ext cx="243828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3520" y="414540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Z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ZO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55440" y="403452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Z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Z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86360" y="5872320"/>
            <a:ext cx="134136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44880" y="5872320"/>
            <a:ext cx="134136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45600" y="53870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ATSÍ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87440" y="53870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ATSÍ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36360" y="5097240"/>
            <a:ext cx="213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ÉTKA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44880" y="5245200"/>
            <a:ext cx="13302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24520" y="5265720"/>
            <a:ext cx="13302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4290840"/>
            <a:ext cx="666720" cy="476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8080" y="4290840"/>
            <a:ext cx="666720" cy="476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590920" y="4767120"/>
            <a:ext cx="0" cy="47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44800" y="4538520"/>
            <a:ext cx="530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762600" y="4767120"/>
            <a:ext cx="0" cy="47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924520" y="4538520"/>
            <a:ext cx="519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479016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Í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51440" y="48474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Í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6520" y="433944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G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99320" y="433944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G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79520" y="43394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45080" y="43394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44880" y="2367000"/>
            <a:ext cx="1341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94160" y="21675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24520" y="2367000"/>
            <a:ext cx="125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80560" y="21675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3520" y="216756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60160" y="21675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44880" y="2843280"/>
            <a:ext cx="1341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924520" y="2843280"/>
            <a:ext cx="1292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75800" y="26438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LV/Í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6520" y="26438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LV/Í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2560" y="2644920"/>
            <a:ext cx="352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72040" y="2625840"/>
            <a:ext cx="352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236760"/>
            <a:ext cx="318960" cy="60984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91280" y="2843280"/>
            <a:ext cx="0" cy="5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1280" y="3390840"/>
            <a:ext cx="571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62600" y="3543480"/>
            <a:ext cx="416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590920" y="3236760"/>
            <a:ext cx="318960" cy="60984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65480" y="2843280"/>
            <a:ext cx="0" cy="5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590920" y="3390840"/>
            <a:ext cx="57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144520" y="3543480"/>
            <a:ext cx="446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3693960"/>
            <a:ext cx="88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24520" y="369396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3520" y="369324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GLAL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32040" y="3693960"/>
            <a:ext cx="142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9240" y="323604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GLALT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71840" y="3236760"/>
            <a:ext cx="14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84120" y="33310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É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56160" y="33440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É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DFB-9821-453E-AA05-4871469B22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OROSAN CSATOLT RENDSZEREK - 5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5050"/>
                </a:solidFill>
                <a:latin typeface="Times New Roman"/>
              </a:rPr>
              <a:t>MULTIPORT MEMÓRIA -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47520" y="111276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a a két oldalról azonos címhez kívánunk fordulni, akkor a beépített vezérlő áramkör a ”később” jövő felé foglalt jelet ad k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753160"/>
            <a:ext cx="9144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zt csak íráskor kell figyelembe venni, várakozásra késztetve a megfelelő oldali processz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847880"/>
            <a:ext cx="145908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27720" y="1847880"/>
            <a:ext cx="145908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86240" y="1847880"/>
            <a:ext cx="243828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3520" y="385488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Z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ZO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5440" y="374400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Z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Z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86360" y="5581800"/>
            <a:ext cx="134136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44880" y="5581800"/>
            <a:ext cx="134136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45600" y="509652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ATSÍ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87440" y="509652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ATSÍ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36360" y="4806720"/>
            <a:ext cx="213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ÉTKA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44880" y="4954680"/>
            <a:ext cx="13302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24520" y="4975200"/>
            <a:ext cx="13302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4000680"/>
            <a:ext cx="666720" cy="475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78080" y="4000680"/>
            <a:ext cx="666720" cy="475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90920" y="4476600"/>
            <a:ext cx="0" cy="47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44800" y="4248000"/>
            <a:ext cx="530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762600" y="4476600"/>
            <a:ext cx="0" cy="47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924520" y="4248000"/>
            <a:ext cx="519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449964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Í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51440" y="455688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Í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76520" y="4048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G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9320" y="404892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G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79520" y="4048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45080" y="4048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144880" y="2076480"/>
            <a:ext cx="1341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94160" y="18770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24520" y="2076480"/>
            <a:ext cx="125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80560" y="18770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3520" y="187704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60160" y="18770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44880" y="2552760"/>
            <a:ext cx="1341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924520" y="2552760"/>
            <a:ext cx="1292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75800" y="23533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LV/Í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6520" y="235332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LV/Í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62560" y="2354400"/>
            <a:ext cx="352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72040" y="2335320"/>
            <a:ext cx="352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2946240"/>
            <a:ext cx="318960" cy="60984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91280" y="2552760"/>
            <a:ext cx="0" cy="5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91280" y="3100320"/>
            <a:ext cx="571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62600" y="3252960"/>
            <a:ext cx="416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920" y="2946240"/>
            <a:ext cx="318960" cy="60984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65480" y="2552760"/>
            <a:ext cx="0" cy="5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590920" y="3100320"/>
            <a:ext cx="57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144520" y="3252960"/>
            <a:ext cx="446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90920" y="3403440"/>
            <a:ext cx="88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24520" y="340344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3520" y="34027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GLAL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32040" y="3403440"/>
            <a:ext cx="142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69240" y="294552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GLALT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71840" y="2946240"/>
            <a:ext cx="14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4120" y="304056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É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56160" y="30535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É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DC2-5E3F-4DF0-88E8-D2F9E56D58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OROSAN CSATOLT RENDSZEREK - 6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5050"/>
                </a:solidFill>
                <a:latin typeface="Times New Roman"/>
              </a:rPr>
              <a:t>MULTIPORT MEMÓRIA -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z utolsó regiszterbe a jobboldali processzor valamit beír. Ezt a baloldali felé egy INT B jelzi. A baloldali processzor kiolvasva a regisztert törli a jelzést (hardver </a:t>
            </a:r>
            <a:r>
              <a:rPr b="1" lang="hu-HU" sz="2600" spc="-1" strike="noStrike">
                <a:solidFill>
                  <a:srgbClr val="ff5050"/>
                </a:solidFill>
                <a:latin typeface="Times New Roman"/>
              </a:rPr>
              <a:t>SZEMAFOR</a:t>
            </a: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)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5480" y="2274840"/>
            <a:ext cx="145908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97760" y="2274840"/>
            <a:ext cx="145872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5920" y="2274840"/>
            <a:ext cx="2438280" cy="4038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3200" y="428220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Z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ZO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25480" y="417096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Z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Z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56400" y="6008760"/>
            <a:ext cx="134136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4560" y="6008760"/>
            <a:ext cx="134136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5280" y="5523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ATSÍ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57120" y="5523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ATSÍ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06040" y="5233680"/>
            <a:ext cx="213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ÉTKA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14560" y="5381640"/>
            <a:ext cx="13302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4200" y="5402160"/>
            <a:ext cx="133056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13320" y="4427640"/>
            <a:ext cx="667080" cy="476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47760" y="4427640"/>
            <a:ext cx="666720" cy="476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60600" y="4903560"/>
            <a:ext cx="0" cy="477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14480" y="4675320"/>
            <a:ext cx="530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632640" y="4903560"/>
            <a:ext cx="0" cy="477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794200" y="4675320"/>
            <a:ext cx="519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60600" y="49266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Í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21480" y="498384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Í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6200" y="447588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G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69360" y="447588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G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49200" y="4475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14760" y="4475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014560" y="2503440"/>
            <a:ext cx="1341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3840" y="23040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94200" y="2503440"/>
            <a:ext cx="125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50240" y="23040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73560" y="230400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29840" y="2304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14560" y="2979720"/>
            <a:ext cx="1341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794200" y="2979720"/>
            <a:ext cx="1292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45480" y="27802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LV/Í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16560" y="27802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LV/Í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32240" y="2781360"/>
            <a:ext cx="352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41720" y="2762280"/>
            <a:ext cx="352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13320" y="3373560"/>
            <a:ext cx="319320" cy="60948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60960" y="2979720"/>
            <a:ext cx="0" cy="5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60960" y="3527280"/>
            <a:ext cx="571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32640" y="3679920"/>
            <a:ext cx="41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460600" y="3373560"/>
            <a:ext cx="318960" cy="60948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35160" y="2979720"/>
            <a:ext cx="0" cy="5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460600" y="3527280"/>
            <a:ext cx="57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014200" y="3679920"/>
            <a:ext cx="446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60600" y="3830760"/>
            <a:ext cx="88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94200" y="383076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73200" y="38296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GLAL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02080" y="3830760"/>
            <a:ext cx="142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39280" y="337248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GLALT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41880" y="3373560"/>
            <a:ext cx="1400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53800" y="34678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É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26200" y="34804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É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58D-A6AA-4266-B464-2C0F833075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OROSAN CSATOLT RENDSZEREK - 7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5050"/>
                </a:solidFill>
                <a:latin typeface="Times New Roman"/>
              </a:rPr>
              <a:t>MULTIPORT MEMÓRIA -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ŐNY: egyszer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ÁTRÁNY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 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sak kevés (2 - 4) port valósítható meg a bonyolult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apurendszer miat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Wingdings" charset="2"/>
              <a:buChar char="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sak kis rendszer építhető k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 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is memória kapacitás valósítható meg a bonyolult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apurendszer miat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Times New Roman"/>
              <a:buChar char=" 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ehéz átkonfigurál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236-97B2-4E19-A124-DDADE00348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07:10:20Z</dcterms:created>
  <dc:creator>Németh Gábor</dc:creator>
  <dc:description/>
  <dc:language>en-US</dc:language>
  <cp:lastModifiedBy>Neuron BT</cp:lastModifiedBy>
  <cp:lastPrinted>1999-09-21T15:33:19Z</cp:lastPrinted>
  <dcterms:modified xsi:type="dcterms:W3CDTF">2006-04-17T15:01:59Z</dcterms:modified>
  <cp:revision>97</cp:revision>
  <dc:subject/>
  <dc:title>SZÁMÍTÓGÉP ARCHITEKTÚRÁK-2</dc:title>
</cp:coreProperties>
</file>