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05C-8829-4573-882C-EBEFFA2D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02C-54F2-47F5-8EC5-E0D4EA2B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D021-EB7B-4D75-AF98-DA4CDA8E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6522-7ECD-4370-8FF7-392D8B54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10FC-278C-452F-9BFD-64DAFABA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BAA8-4F35-4A70-8575-F3147C6B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0848-5E71-493D-8540-B47651D3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3B6-1D69-466E-A5E0-6FD2067A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43A-0A7C-406B-8440-6D8B2C24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7548-FE6E-4EA1-92E4-E08A80D8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BA3B-C8A5-4463-B981-260544BC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95A-E3F3-4FC2-B716-589C5190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237D-3911-453B-A236-68FF4025BD6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CPU TELJESÍTMÉNYÉNEK FOKOZÁSA: PIP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gyorsműködésű CPU-k kialakításának egyik fő eszköz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vi alapja: az utasítások végrehajtásának folyamatát bontsuk fel számos egyszerűbb lépésre, amelyeket különálló funkcionális egységek egymástól függetlenül végeznek el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zek az egységek a pipeline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állomása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pipeline az időbeli párhuzamosságot használja ki, az utasításokat időben átlapolva hajtja vég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C9DC-6CEE-41A2-AA5A-42A56F254AF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228600"/>
            <a:ext cx="8305560" cy="55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antidependens és a kimeneti függőséget szokás hamis adatfüggőségnek is nevez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dat hazárd: az utasítások függősége okozhatja, amikor U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és U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olyan közel van, hogy átfedésük a pipeline-ban megváltoztatja egy regiszterhez való hozzáférésük sorrendjét. Három típusa v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olvasás írás után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(RAW): U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gpróbálja olvasni az operandust, mielőtt U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iírta vo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írás olvasás után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(WAR): U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megpróbálja kiírni az operandust mielőtt U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olvasta vo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írás írás után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(WAW): U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megpróbálja kiírni az operandust mielőtt U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–kiírta vo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76E2-FCD7-447E-9CA2-9FC4E425C4A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Pipeline és interru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gszakítás esetén a pipeline-t ki kell üríteni, ez lassí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em biztos, hogy ugyanazon időben jelentkező megszakítás ugyanazt az állapotot találja egy pipeline gépben, mint egy átlapolás nélküliben, ez utasítás egymásrahatáshoz vezet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E66-8913-494A-80B9-291AD7FD070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Pipeline és utasítás-módosítá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 megengednénk az utasítások átírását (nem jó ötlet), a pipeline alkalmazása újabb problémát okoz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pipeline-ban legyen az n-2, n-1 és az n-edik utasí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ezelhetetlen helyzet alakul ki, ha az (n-1)-edik utasítás módosítja azt a memóriarekeszt, ahonnan az n.-edik utasítást lehívtu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E34-5BE0-4BF6-9A5B-4D3704CC0D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CISC ÉS RISC PROCESSZOR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rogram futási ideje: P = I*C*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 az utasítások szá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 az órajelciklusok  utasításonkénti átlagos szá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 az órajel cikluside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 csökkentésének módj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isebb T, azaz gyorsabb óra. Technológiai problémákat oko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 csökkentése, csináljon egy utasítás sokféle dolgot, akkor kevés kell belőle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CIS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 csökkentése: legyen C=1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RIS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553D-3295-49CA-8916-67CD813176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RIS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izsgálatok kimutatták, hogy a magas szintű nyelvekről lefordított programok a CISC utasításkészlet mintegy 30%-át használják cs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Bonyololult, CISC utasításokat mikroprogramozott vezérléssel lehet megvalósítani az viszont lassabb, mint a huzalozo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övetkeztetés: kevés, egyszerű utasítás, huzalozott, gyors vezérlés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E148-F5A9-405B-A697-9944A9819C3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nden utasítás legyen azonos hosszúságú, azonos szerkezet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ímzési módok legyenek egyszerűek, főleg regiszteres, memória címzéshez használjuk a regiszter-relatív címzé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móriareferens utasítások: csak 2, a Load és a Store, illetve a Swap (regiszter-memória cse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ok regiszter, a gyors működés érdeké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Regiszterek kezelése regiszterablakk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D4C-4233-4E5A-8744-5423D2E3EFF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228600"/>
            <a:ext cx="21333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kimene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egisz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990720"/>
            <a:ext cx="2133360" cy="75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hely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egisz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752480"/>
            <a:ext cx="21333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emene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egisz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0"/>
            <a:ext cx="0" cy="3581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6880" y="0"/>
            <a:ext cx="0" cy="3581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1981080"/>
            <a:ext cx="2133720" cy="75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kimene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egisz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2743200"/>
            <a:ext cx="2133720" cy="75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hely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egisz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3505320"/>
            <a:ext cx="2133720" cy="75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emene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egisz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1371600"/>
            <a:ext cx="0" cy="3581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1371600"/>
            <a:ext cx="0" cy="3581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3657600"/>
            <a:ext cx="213372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kimene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egisz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495680"/>
            <a:ext cx="213372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hely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egisz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5334120"/>
            <a:ext cx="213372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emene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egisz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124080"/>
            <a:ext cx="0" cy="358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29600" y="3124080"/>
            <a:ext cx="0" cy="358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220968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9625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666880" y="22860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486040" y="198108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8229240" y="365760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3808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WP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1371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WP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25909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WP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81480"/>
            <a:ext cx="213372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globá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egiszte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5181480"/>
            <a:ext cx="21333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globá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egiszte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819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ask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13716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ask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31240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ask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WP= aktuális munkaterület mutat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34340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23560" y="4003560"/>
            <a:ext cx="15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aram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átad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E00-BACB-4246-8CD2-546F04526E7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304920"/>
            <a:ext cx="21333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1. végrehaj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304920"/>
            <a:ext cx="213372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2. végrehaj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48520" y="304920"/>
            <a:ext cx="21333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3. végrehaj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600200"/>
            <a:ext cx="16002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utas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1447920"/>
            <a:ext cx="1600200" cy="75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ész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red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38880" y="1600200"/>
            <a:ext cx="16002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red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1447920"/>
            <a:ext cx="1600200" cy="75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ész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red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838080" y="114300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2193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505320" y="114264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11430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400800" y="114264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11430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2438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ipeline feldolgozás vázl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124080"/>
            <a:ext cx="213372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(n-1). utas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dekódol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213372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(n-2). utas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végrehaj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5105520"/>
            <a:ext cx="213372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(n-3). utas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redm. tárolá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3124080"/>
            <a:ext cx="21333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n. utas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dekódol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4114800"/>
            <a:ext cx="21333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(n-1). utas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végrehaj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5105520"/>
            <a:ext cx="21333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(n-2). utas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redm. tár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124080"/>
            <a:ext cx="213372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(n+1). utas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dekódol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4114800"/>
            <a:ext cx="213372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n. utas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végrehaj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5105520"/>
            <a:ext cx="213372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(n-1). utas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redm. tár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67480" y="32767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1. állo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42670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2. állo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5257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3. állo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006-B2F0-4F12-A767-8527C8279C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Állomások működhetn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szinkron, ilyenkor puffertároló kell közéjü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zinkron, közös órajellel, nem kell p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zinkron működés esetén az órajelet a leglassúbb állomás késleltetése határozza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ellő számú állomás esetén elérhető, hogy az utasítások –néhány kivétellel- egy óraciklus alatt végrehajtódja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ivétel: memória-referens utasítások és a feltételes vezérlésátad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683-50EE-4FA2-BA0B-883384A03BC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OAD/STO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étszer kell memóriához fordulni, lehíváskor és a végrehajtás sorá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goldás: a második memóriaművelet alatt a pipelinet egy óraciklusra leállítjuk, így egy „lyuk” keletkezik be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eltételes elágazá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em lehet tudni előre, hogy melyik ágon folytatódik a végrehajtás. Ez egyike az ú.n. utasítás egymásrahatásokn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B1C-9395-45EE-A9C6-4AFA4F7F259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Utasítás egymásrahatás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eldolgozási egymásrahatá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ét különböző utasítás ugyanazt az erőforrást igény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nincs szabad erőforrás a kívánt típusból, a második utasításnak meg kell várnia az előző befejeződésé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rocedurális egymásrahatá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 utasítás végrehajtása v. kihagyása függ az előző utasítástól, pld. feltételes ugr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1B2C-7C1C-499A-A7F7-CC0D270F09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egegyszerűbb megoldás: a feltételes ugrás kódjára leáll a pipeline működése és csak akkor indul újra, ha már nincs benne utasí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átrányos, mert éppen a pipeline erősségét szünteti m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ásik lehetőség: két pipeline, az egyikbe az egyik ág utasításait, a másikba a másikét töltjük. Ha kiértékelhető a feltétel, a nem teljesülő ág pipeline-ját kiürítjük. Bonyolult vezérlést igényel, nem alkalmazzá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Gyakori megoldás: megjósolják, hogy melyik ágon fog a program folytató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BAA4-CF63-4E3E-9CC8-5A098E3923B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zokásos jóslat: a feltétel nem teljesül, kivéve az indexekre vonatkozó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jósolt ág utasításait kezdjük végrehajtani, de mindet megjelöljü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egy jelölt utasítás már a végrehajtás fázisába kerül, akkor ott megáll, mindaddig amíg a feltétel ki nem értékelőd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a jóslás helyes volt, folytatódik a működés, ha nem, a jelölt utasításokat töröljük a pipeline-bó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a másik ág néhány utasítását egy átmeneti tárba, a „branch buffer”-be tesszük, onnan gyorsan feltölthető a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377-0B01-4E05-806C-B89E7723FF5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dat egymásrahatá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z utasítás egyik operandusa az előző utasítás eredmén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egoldás: NOP v. utasítás átrendez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Utasítás sorrend megváltoztatása gyorsí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2438280"/>
            <a:ext cx="457200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= b + c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 = e –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egye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, b, c, d ,e,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é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emóriába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oros kó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b,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,Rb,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W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,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,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,Re,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W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,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3200400"/>
            <a:ext cx="3581280" cy="29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ipeline kód (gyors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b,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c,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,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,Rb,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f,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W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,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,Re,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W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,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153280" y="42670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53280" y="5257800"/>
            <a:ext cx="76320" cy="533520"/>
          </a:xfrm>
          <a:custGeom>
            <a:avLst/>
            <a:gdLst>
              <a:gd name="textAreaLeft" fmla="*/ 0 w 76320"/>
              <a:gd name="textAreaRight" fmla="*/ 27360 w 763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480060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594360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9645-6684-4969-A21A-CEA7C2A5E0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28600"/>
            <a:ext cx="8305560" cy="66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üggőségek két utasítás között (feltesszük, hogy UT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után UT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következik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U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és U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özött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(valódi) adatfüggőség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van, ha U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bba a regiszterbe/memóriarekeszbe írja eredményét, ahonnan U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olvassa az operandusá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U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antidependen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U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–től, ha olyan regiszterből/memóriarekeszből olvas, amelyet U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felül fog ír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U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kimenet függő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U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–től, ha mindekettő ugyanabba a regiszterbe/memóriarekeszbe ír és U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ír késő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U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vezérlési függőségben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van U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–gyel, ha U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–nek be kell fejeződnie, hogy eldönthető legyen U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végrehaj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4A8-C7FD-449C-A0F7-CB5C97055AA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9:31:50Z</dcterms:created>
  <dc:creator>X</dc:creator>
  <dc:description/>
  <dc:language>en-US</dc:language>
  <cp:lastModifiedBy>Neuron BT</cp:lastModifiedBy>
  <dcterms:modified xsi:type="dcterms:W3CDTF">2006-01-21T19:18:32Z</dcterms:modified>
  <cp:revision>86</cp:revision>
  <dc:subject/>
  <dc:title>TELJESÍTMÉNYFOKOZÓ ARCHITEKTÚRÁLIS ELVEK</dc:title>
</cp:coreProperties>
</file>