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03F-0531-49E0-B107-956A1A5B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C96-F846-4319-BCB5-E68C6A55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D9F-137C-4ACC-BD18-5CCA6D46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908-140C-432B-A66E-147E0F14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049-F236-4AEB-AE3B-660BDA02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C54-376D-4B72-BBEB-CD93DEF3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5D4-5066-4C26-9584-280276CD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5B2-8AE7-4B56-83F2-87BBA048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E88-D543-48FD-BCCE-5A5C724A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613-63DC-44EE-AB85-750F045A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9D5-14B5-41A6-AAB2-79745080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C87-B822-44AC-9CE2-CFDBE005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6212-88B3-4E44-B1CA-98B286218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INFORMATIKA</a:t>
            </a:r>
            <a:br>
              <a:rPr sz="4000"/>
            </a:br>
            <a:br>
              <a:rPr sz="40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ilp And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3F6-1377-4DC4-B36B-175F081FD4A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ért foglalkozunk a számítógép architektúráv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rt állandóan változ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rt a számítástechnika minden ágára ki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rt érdekes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rt értékesíthető tu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F7E-F47B-4FBF-8760-F552C79AC8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Állandó változás, fejlődé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processzor teljesítőképessé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203720" y="4406760"/>
            <a:ext cx="1117440" cy="635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067200" y="1898640"/>
            <a:ext cx="4089240" cy="1587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365800" y="1695240"/>
            <a:ext cx="1257120" cy="271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099040" y="2546280"/>
            <a:ext cx="1968480" cy="774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22640" y="3568320"/>
            <a:ext cx="3784320" cy="1701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40240" y="2813040"/>
            <a:ext cx="749520" cy="1612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47840" y="2895120"/>
            <a:ext cx="3861000" cy="1575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35160" y="2311560"/>
            <a:ext cx="3060720" cy="119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35040" y="3676680"/>
            <a:ext cx="1567800" cy="27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inicompu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4880" y="2787480"/>
            <a:ext cx="1253520" cy="27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ain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02120" y="2330280"/>
            <a:ext cx="1736640" cy="27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upercompu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54920" y="1301760"/>
            <a:ext cx="1320840" cy="13208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8840" y="501804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8840" y="485136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8840" y="473220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8840" y="466236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8840" y="459108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8840" y="451944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8840" y="447192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8840" y="442440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8840" y="411624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8840" y="394956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8840" y="385596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8840" y="376092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8840" y="368928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8840" y="361800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8840" y="357012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8840" y="352260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8840" y="321480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8840" y="307188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8840" y="295416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8840" y="285912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8840" y="278748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8840" y="273996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8840" y="269244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8840" y="264492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8840" y="233676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8840" y="217008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8840" y="205272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8840" y="198108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8840" y="190980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8840" y="183816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8840" y="179064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174312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8840" y="437688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8840" y="349884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8840" y="259704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8840" y="1697040"/>
            <a:ext cx="55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65320" y="1671480"/>
            <a:ext cx="0" cy="361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01960" y="5278320"/>
            <a:ext cx="1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01960" y="4376880"/>
            <a:ext cx="1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01960" y="3498840"/>
            <a:ext cx="1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01960" y="2597040"/>
            <a:ext cx="1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1960" y="1697040"/>
            <a:ext cx="1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65320" y="5278320"/>
            <a:ext cx="5551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06532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3344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8140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55096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69892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6704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01464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8276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33072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50028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64824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1636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98448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13244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0200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44960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61808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76568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93380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08176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132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39892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56740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71500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8312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03108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20064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36912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51672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68484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83244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00236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14996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1844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46604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634160" y="51814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065320" y="5181120"/>
            <a:ext cx="0" cy="1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867040" y="5181120"/>
            <a:ext cx="0" cy="1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648240" y="5181120"/>
            <a:ext cx="0" cy="1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449600" y="5181120"/>
            <a:ext cx="0" cy="1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251320" y="5181120"/>
            <a:ext cx="0" cy="1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031080" y="5181120"/>
            <a:ext cx="0" cy="1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832440" y="5181120"/>
            <a:ext cx="0" cy="1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34160" y="5181120"/>
            <a:ext cx="0" cy="1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01960" y="1363680"/>
            <a:ext cx="88920" cy="10476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00360" y="5715000"/>
            <a:ext cx="4528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eneva"/>
              </a:rPr>
              <a:t>É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16600" y="5075280"/>
            <a:ext cx="5198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38000" y="41972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80320" y="329580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24440" y="2417760"/>
            <a:ext cx="592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68560" y="1515960"/>
            <a:ext cx="730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33680" y="5478480"/>
            <a:ext cx="730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196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5400" y="5478480"/>
            <a:ext cx="730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197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16600" y="5478480"/>
            <a:ext cx="730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197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18320" y="5478480"/>
            <a:ext cx="730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198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20040" y="5478480"/>
            <a:ext cx="730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198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99440" y="5478480"/>
            <a:ext cx="730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1160" y="5478480"/>
            <a:ext cx="730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02880" y="5478480"/>
            <a:ext cx="730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49680" y="4159080"/>
            <a:ext cx="1761120" cy="27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icro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838080"/>
            <a:ext cx="228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jesítőképessé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4F2-EC94-4091-B05F-12DA8A81509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74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83A-BA58-4674-9D31-3F41E58E8E0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24720" cy="5946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700360" y="5373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pecint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BE0-18A3-477A-B61C-D9ED6F0EA31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457200"/>
          <a:ext cx="8763120" cy="54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76312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FCD-D949-42B2-B29A-16400C32407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80-as évek közepétől a mikrogépek teljesítménye évenként 50%-kal nő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örés arc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ektúrális újdonságok (RISC, CISC), valamint a technológia fejlődéséne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redmén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rend rövid szummá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munkaállomások teljesítménye (Spec Marks-ban mérve) mintegy 50%-kal nő évenkén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egduplázódik 18 havon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teljesítmény/ár javulását évi 70%-ra becsül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ECB-7B0B-4434-8D7E-22B5F6DD7B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cesszor összeve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11320" indent="-2113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ljesítménynövekedé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0">
              <a:spcBef>
                <a:spcPts val="601"/>
              </a:spcBef>
              <a:buNone/>
              <a:tabLst>
                <a:tab algn="l" pos="0"/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BM POWER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ay Y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0">
              <a:spcBef>
                <a:spcPts val="601"/>
              </a:spcBef>
              <a:buNone/>
              <a:tabLst>
                <a:tab algn="l" pos="0"/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nkaállomá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zuper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0">
              <a:spcBef>
                <a:spcPts val="601"/>
              </a:spcBef>
              <a:buNone/>
              <a:tabLst>
                <a:tab algn="l" pos="0"/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É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0">
              <a:spcBef>
                <a:spcPts val="601"/>
              </a:spcBef>
              <a:buNone/>
              <a:tabLst>
                <a:tab algn="l" pos="0"/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gt; 200 MI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 50 M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0">
              <a:spcBef>
                <a:spcPts val="601"/>
              </a:spcBef>
              <a:buNone/>
              <a:tabLst>
                <a:tab algn="l" pos="0"/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pa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0 MFLOP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0 M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0">
              <a:spcBef>
                <a:spcPts val="601"/>
              </a:spcBef>
              <a:buNone/>
              <a:tabLst>
                <a:tab algn="l" pos="0"/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Á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20,00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M ($1.6M 1994-b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0">
              <a:spcBef>
                <a:spcPts val="601"/>
              </a:spcBef>
              <a:buNone/>
              <a:tabLst>
                <a:tab algn="l" pos="0"/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Óra fr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1.5 MHz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67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0">
              <a:spcBef>
                <a:spcPts val="601"/>
              </a:spcBef>
              <a:buNone/>
              <a:tabLst>
                <a:tab algn="l" pos="0"/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ch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6 K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25 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0">
              <a:spcBef>
                <a:spcPts val="601"/>
              </a:spcBef>
              <a:buNone/>
              <a:tabLst>
                <a:tab algn="l" pos="0"/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12 M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6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88-as szupercomputer 1993-ban szerv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r" pos="314316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upercomputer teljesítmény az ár tizedéé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C07-CB3C-41FF-A005-F7144C2168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nnan sz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ármazik ez a növekedé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logika sebessége: kétszereződik 3 évenké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gikai kapacitás: kétszereződik három évenké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redmény: négyszeres teljesítmén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mivel nem lehet 100%-os a kihasználtság, ténylegesen csak 3,3-sze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0D7-D7B0-489B-95D5-0070283E10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90720" y="3049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Teljesítménynövelő tényező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process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zervezé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206360"/>
            <a:ext cx="5931000" cy="5194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410080" y="1600200"/>
            <a:ext cx="373392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t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intű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párhuzamos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peli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e-ok alkalma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che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tárolók alkal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Utasításszintű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párhuzamos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öbbszálú végrehajtá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62F-1AE6-41B2-9800-B03B895D011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Teljesítménymérés eszköz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nchmark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programok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x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-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: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ltsé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éslelteté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elüle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ogya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ul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á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öbb szinten 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A, RT,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ap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áramkö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orbanállás elmé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Ökölszabál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lapvető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örvények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/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lv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t jelent az „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ámítógé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obb mint B” állítá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A továbbiakban ez alatt végrehajtási idők hányadosát fogjuk érte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DCD-BF49-4C3D-9F65-C9EBD5C19B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ÁRGY TEMATIKÁ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ámítógép architektúr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perációs rendsze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ZÁMÍTÓGÉP ARCHITEKTÚR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veze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PU jellemzése, szoftver modell, teljesítménynöve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móriaszervezés, tárkeze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öbbfelhasználós operációs rendszerek támoga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z Intel 386 process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966-FBBD-484D-909B-D5C108239A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Van-e felső határ, korlát: Amdahl törvény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t állítja, hogy a valahogyan elért gyorsabb programvégrehajtás sebességnövelő hatását korlátozza az a hányad, amilyen mértékben ezt a gyorsabb végrehajtási módot alkalmazni leh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törvény a teljesítőképesség tényezőt a gyorsító hatással definiálja: megmutatja, hogy mennyivel gyorsabban fog egy feladat (task) futni egy „feljavított” gépen az eredeti géphez viszonyít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83D-ACE1-4816-A63A-B614ABDC27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z „F” feljavítással elérhető sebességnövekedé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Végr_idő(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      Teljesítőképesség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Sebesség_növ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 = ------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------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= ----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Végr_idő(F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   Teljesítőképesség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együk fel, hogy egy lebegőpontos processzor 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leb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= 2-szer gyorsabb mint a lebegőpontos szubrutinok, továbbá programjainkban a lebegőpontos műveletek aránya H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leb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= 0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EA5-AC5C-4455-9FE2-9BDDBFCC48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tározzuk meg a lebegőpontos processzor gyorsító hatását (speedup):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égr_idő(F) =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leb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égr_idő() *   1 – H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leb 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+ --------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l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égr_idő()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 = -------------- = ----------------------- = 1,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égr_idő(F)                      H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leb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               1 – H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leb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+ ------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l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2133720"/>
            <a:ext cx="3581280" cy="11430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2438280"/>
            <a:ext cx="76320" cy="457200"/>
          </a:xfrm>
          <a:custGeom>
            <a:avLst/>
            <a:gdLst>
              <a:gd name="textAreaLeft" fmla="*/ 22320 w 76320"/>
              <a:gd name="textAreaRight" fmla="*/ 76320 w 76320"/>
              <a:gd name="textAreaTop" fmla="*/ 1872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2438280"/>
            <a:ext cx="76320" cy="533520"/>
          </a:xfrm>
          <a:custGeom>
            <a:avLst/>
            <a:gdLst>
              <a:gd name="textAreaLeft" fmla="*/ 0 w 76320"/>
              <a:gd name="textAreaRight" fmla="*/ 53640 w 7632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BEE-FE4D-4363-863C-2B89AC0698C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eljesítőképesség mérték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295280"/>
            <a:ext cx="2971800" cy="2286000"/>
          </a:xfrm>
          <a:custGeom>
            <a:avLst/>
            <a:gdLst>
              <a:gd name="textAreaLeft" fmla="*/ 653400 w 2971800"/>
              <a:gd name="textAreaRight" fmla="*/ 2318400 w 2971800"/>
              <a:gd name="textAreaTop" fmla="*/ 502560 h 2286000"/>
              <a:gd name="textAreaBottom" fmla="*/ 17834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Alkalma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057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Programnye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2666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Fordí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3657600"/>
            <a:ext cx="1447920" cy="46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304560" y="4190760"/>
            <a:ext cx="2971800" cy="2057400"/>
          </a:xfrm>
          <a:custGeom>
            <a:avLst/>
            <a:gdLst>
              <a:gd name="textAreaLeft" fmla="*/ 653400 w 2971800"/>
              <a:gd name="textAreaRight" fmla="*/ 2318400 w 2971800"/>
              <a:gd name="textAreaTop" fmla="*/ 452160 h 2057400"/>
              <a:gd name="textAreaBottom" fmla="*/ 16052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4191120"/>
            <a:ext cx="144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Adatút</a:t>
            </a:r>
            <a:br>
              <a:rPr sz="2400"/>
            </a:b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vezér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49528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Funkcionális eg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5715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Tranzisztor, huzalozá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16765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óránkénti válaszok száma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űveletek másodpercenké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819160" y="19051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2743200"/>
            <a:ext cx="5638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utasítás (milliók) másodpercenké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M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lebegőpontos műveletek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milli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ó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ásodpercenké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MFLOP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514240" y="36576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57600" y="4267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egabyte másodpercen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24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49528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iklusok másodpercenként (órajel frekv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42840" y="533412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12193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PEC mark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819160" y="152388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D62-7577-4F6B-8F1C-B3F2D616BB3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A feldolgozóegység (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) teljesítőképessé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róbáljunk meg felállítani egy képletet a CPU idő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logikát egy órajel vezér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t a ciklusidőve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s)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agy a frekvenciával mérjük( F,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PU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dő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 CPU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óraciklusok száma egy programban *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iklusidő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gszámolhatjuk a programban végrehajtott utasítások számát is: legyen ez I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543-0A94-4510-87CA-AE4C543FA0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 tudjuk az óraciklusok számát és az utasításszámot, kiszámolhatjuk az </a:t>
            </a:r>
            <a:r>
              <a:rPr b="1" i="1" lang="hu-HU" sz="3200" spc="-1" strike="noStrike">
                <a:solidFill>
                  <a:srgbClr val="ffffff"/>
                </a:solidFill>
                <a:latin typeface="Times New Roman"/>
              </a:rPr>
              <a:t>utasításonkénti átlagos ciklusszámot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P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CPU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óraciklusok a programban / I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zekkel: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PU idő = IC * CPI * T</a:t>
            </a:r>
            <a:br>
              <a:rPr sz="3200"/>
            </a:b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sak látszólag öncélú, ezek a mennyiségek jobban mérhető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ontsuk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ényezők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ásodperc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tasításszá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Ciklusszám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Másodpe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U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d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-------------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-------------------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---------------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----------------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rogram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tasít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Cik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981-19C3-4EF8-A24C-E4688ABDAAE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ásodperc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tasításszá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Ciklusszám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Másodper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U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d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-------------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-------------------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---------------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--------------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rogram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tasít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Ciklu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1676520"/>
          <a:ext cx="7010280" cy="40640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  <a:gridCol w="1828800"/>
                <a:gridCol w="16002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asítássz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tlagos ciklus utasításonké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Órajel frekvenci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fordít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asítás kész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ső szervez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hnoló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C55-6772-4914-B87B-27A49A57938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Használjuk a „józan észt”: azt gyorsítsuk, ami mindig (sokszor) k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dig kell: utasítás lehívás, nincs mindig: adat lehív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Optimizáljuk a lehívá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özelségi elv: térben és időben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következő utasítás valószínűleg az éppen végrehajtotthoz közel lesz, illetve a futási idő jelentős részét ugyanazokon a helyeken tölti a program.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3581280"/>
            <a:ext cx="1663920" cy="901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37339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41911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15200" y="388620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00800" y="380988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44760" y="381636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3733920"/>
            <a:ext cx="444240" cy="3682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3511440"/>
            <a:ext cx="1663560" cy="901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CD4-BCC6-49D5-8915-BA375F6400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is memóriához gyorsabb a hozzáfé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ároló-hierarchiát alakítunk ki úgy, hogy a leggyakoribb hozzáférések a legkisebb, így a leggyorsabb szinten történjen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971800"/>
            <a:ext cx="99072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Reg.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743200"/>
            <a:ext cx="129564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C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2362320"/>
            <a:ext cx="1828800" cy="1904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2286000"/>
            <a:ext cx="22860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Háttér t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33526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3526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35268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FFF-2C6E-4FB3-A281-7C4B28990CB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MIPS: egy másik mérőszá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CPU idő helyett használják. Egy adott programra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PS =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/ (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ég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jtási idő *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6).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Egyenlő az órafrekvenci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CPI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ifejezé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Jó jelzőszám, mivel nagyobb számítógépen nagyobb MIPS várható, de ne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eljesen megbízható, mer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443-F529-4E29-82D6-50752A0EF7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/O kezelés, periféri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öbbprocesszoros rendszerek, laza és szoros csato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ínek, sínvezér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9D8-78D2-42A0-8A28-8E39BE0CA0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PS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ügg az utasításkészlettől, igy két eltérő utasításkészletű gép összehasonlítása nehézk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PS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ég ugyanazon a gépen is változik különböző programok eseté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Legfontosabb: lehet ellentétes is a teljesítőképességge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!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ézzünk egy gépet, ahol van opcionális lebegőpontos utasításkészlet és társprocessz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z a gép gyorsabban elvégzi a számítást, de kisebb lesz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PS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érték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lebegőpontos szubrutinok egyszerű utasításokkal végzik ugyanazt, de jó sokkal! Ezért magas lesz a MIPS, de hosszabb a végrehajtási id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FLOPS: mint MIPS de lebegőpontos utasítások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729-8F6A-4B17-8B3A-B994173028B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OPERÁCIÓS RENDSZE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vezetés, történeti áttekin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ultiprogramozás, process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olyamatokból (processz) álló rendszer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oltponthely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PU üteme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árszervezés, virtuális tárkeze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Állománykeze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álózati rendszer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settanulmán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0E9-8E1A-466B-AB44-5960D93CFB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ZÁMÍTÓGÉP ARCHITEKTÚRÁ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vez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12C-AA5E-4721-AC11-B893788615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30440" y="2679840"/>
            <a:ext cx="1448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/O rends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8440" y="4089240"/>
            <a:ext cx="252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5320" y="2679840"/>
            <a:ext cx="18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sítás végre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82920" y="2660760"/>
            <a:ext cx="3111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05240" y="26607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20320" y="2120760"/>
            <a:ext cx="1043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dító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76400" y="2139840"/>
            <a:ext cx="1130400" cy="33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25880" y="1434960"/>
            <a:ext cx="12445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áció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5600" y="1689120"/>
            <a:ext cx="1078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ds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505320" y="144144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11440" y="1447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145404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960" y="1092240"/>
            <a:ext cx="1636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438280" y="983880"/>
            <a:ext cx="0" cy="14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9968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88160" y="3568680"/>
            <a:ext cx="19929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ális tervez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24120" y="3537000"/>
            <a:ext cx="2654280" cy="34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6240" y="3860640"/>
            <a:ext cx="20401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ramkör tervez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76400" y="3892680"/>
            <a:ext cx="224820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16160" y="2495520"/>
            <a:ext cx="3924360" cy="13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84800" y="233676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sításkész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chite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úra (I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93000" y="2120760"/>
            <a:ext cx="114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m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48000" y="2139840"/>
            <a:ext cx="1130400" cy="33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4760" y="99072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520" y="3102120"/>
            <a:ext cx="250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utak és vezérl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7040" y="3054240"/>
            <a:ext cx="2882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0640" y="4114800"/>
            <a:ext cx="210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rendezés (Lay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4114800"/>
            <a:ext cx="2044800" cy="29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 is a „számítógép architektúra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4952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vont jelölésmód, ami felületet alkot a hard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és a 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özöt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B93-68EA-4042-A313-4FC4B72652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em ugyanazt „látja” a hardver és a szoftver tervező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előbbi elemi áramkörökkel, azok összekapcsolásával, elrendezésével foglalk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szoftver tervező nem látja a hardver részleteit,  egy (remélhetőleg) magasszintű parancsnyelven keresztül kommunikál. Amit lát, azt joggal nevezhetjük „virtuális számítógépnek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rchitektúra: A = &lt;M, 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M: funkciókat biztosító modulok halmaz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: modulok közötti relációk halmaza, pl. az egy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odul  egy szolgáltatást kér egy má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odultó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ás megközelítésb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9B0-34FC-4EFF-A23D-4557FC38BC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90760" y="2825640"/>
            <a:ext cx="66927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60640" y="2908440"/>
            <a:ext cx="17748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sításkész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40040" y="2006640"/>
            <a:ext cx="1002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oft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0040" y="3911760"/>
            <a:ext cx="964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1928520" cy="2361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724280" y="1371600"/>
            <a:ext cx="1500480" cy="1405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895480" y="1371600"/>
            <a:ext cx="1500480" cy="1405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tasításkészlet: a kritikus felü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42B-2A73-417B-97F0-6FF63DC0B8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27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tasításkészlet architektúr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 számítógép architektúra részhalmaz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322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476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.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gy [számítógép]rendszer attribútumai, ahogyan azt a programozó látja, azaz a koncepcionális struktúra és a funkcionális viselkedés,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egkülönbözte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ün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z adatáramlás szervezésétől, a logikai vezérléstől és ezek fizikai megvalósításától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 Amdahl, Blaaw, and Brooks,  19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rogramozható tároló szervezé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attípusok és adatszerke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34272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ódolás és ábráz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tasításkész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tasítás formátum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ímzési módok, adatok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és utasítások elérési módj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ivételes állapotok keze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p Andr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C9D-9E24-41A7-A7E2-0044BF57A0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4:19:25Z</dcterms:created>
  <dc:creator>Tanulo P133</dc:creator>
  <dc:description/>
  <dc:language>en-US</dc:language>
  <cp:lastModifiedBy>Neuron BT</cp:lastModifiedBy>
  <dcterms:modified xsi:type="dcterms:W3CDTF">2006-02-12T09:37:32Z</dcterms:modified>
  <cp:revision>70</cp:revision>
  <dc:subject/>
  <dc:title>INFORMATIKA  Filp András</dc:title>
</cp:coreProperties>
</file>