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872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F4C-156A-49CA-BDEE-6D3E919B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2F1-0F35-4EE9-A059-CF73268D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1A6-E77A-4983-90B5-441E80BA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691-4C20-464A-9A9D-7A6366D4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668-FE27-4D59-AE40-07796218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A32-A825-4AD0-9DD0-F1B8B56E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EDC-6CF2-40F1-B019-9DEC795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3FA-EAEC-4CFE-911E-8B138094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3BA-0F4A-40F2-AC3D-188B28FE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C33-707E-4D8C-A1F9-E3C6C0D2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C88-7656-420A-A762-8073F70B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079-B19B-402A-AC71-14398C8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1B0-43F2-4594-A4F4-F98C69E1B64B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ZÁMÍTÓGÉP ARCHITEKTÚRÁK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émeth Gá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ZÁN CSATOLT RENDSZEREK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9480" y="1541880"/>
            <a:ext cx="58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RTUÁLISAN ELOSZTOTT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2280" y="2798640"/>
            <a:ext cx="1120680" cy="4622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2280" y="3260880"/>
            <a:ext cx="1120680" cy="46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12000" y="3848040"/>
            <a:ext cx="1120680" cy="461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03720" y="3260880"/>
            <a:ext cx="1120680" cy="4618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3720" y="3722760"/>
            <a:ext cx="112068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12000" y="2000160"/>
            <a:ext cx="1120680" cy="4618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12000" y="2462040"/>
            <a:ext cx="1120680" cy="46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12000" y="2924280"/>
            <a:ext cx="1120680" cy="4618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12000" y="3386160"/>
            <a:ext cx="1120680" cy="46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03720" y="4348080"/>
            <a:ext cx="1120680" cy="46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92280" y="3722760"/>
            <a:ext cx="1120680" cy="461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03720" y="4998960"/>
            <a:ext cx="1120680" cy="46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92280" y="4998960"/>
            <a:ext cx="1120680" cy="46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8040" y="4184640"/>
            <a:ext cx="0" cy="182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848040" y="4771800"/>
            <a:ext cx="0" cy="207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92280" y="4367160"/>
            <a:ext cx="1120680" cy="46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162160" y="4829040"/>
            <a:ext cx="0" cy="169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162160" y="4184280"/>
            <a:ext cx="0" cy="182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92280" y="5867280"/>
            <a:ext cx="3817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62160" y="5460840"/>
            <a:ext cx="0" cy="406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48040" y="5460840"/>
            <a:ext cx="0" cy="406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45120" y="4480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CESSZ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56200" y="44712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CESSZ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91200" y="2279880"/>
            <a:ext cx="111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PERATÍ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58000" y="2719800"/>
            <a:ext cx="111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PERATÍ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42600" y="5002920"/>
            <a:ext cx="122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KOMM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ALRENDS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49360" y="5002920"/>
            <a:ext cx="122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KOMM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ALRENDS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04200" y="4309920"/>
            <a:ext cx="0" cy="171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991120" y="4471560"/>
            <a:ext cx="244800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0200" y="4481640"/>
            <a:ext cx="0" cy="264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4746600"/>
            <a:ext cx="1257480" cy="501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10440" y="48697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CESSZ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12000" y="4746600"/>
            <a:ext cx="1257120" cy="501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12360" y="48697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CESSZ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504200" y="4481280"/>
            <a:ext cx="0" cy="27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81640" y="4288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460000" y="4686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3680" y="5461560"/>
            <a:ext cx="355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KOMMUNIKÁCIÓS ALRENDSZ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u-HU" sz="1600" spc="-1" strike="noStrike" u="sng">
                <a:solidFill>
                  <a:srgbClr val="ffffff"/>
                </a:solidFill>
                <a:uFillTx/>
                <a:latin typeface="Times New Roman"/>
              </a:rPr>
              <a:t>Logikai erőforrás cím</a:t>
            </a: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 leképzés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1600" spc="-1" strike="noStrike" u="sng">
                <a:solidFill>
                  <a:srgbClr val="ffffff"/>
                </a:solidFill>
                <a:uFillTx/>
                <a:latin typeface="Times New Roman"/>
              </a:rPr>
              <a:t>Fizikai erőforrás cím</a:t>
            </a: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 + üzenet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6D9-70A5-4BA8-9D84-FA58C4508E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ZÁN CSATOLT RENDSZEREK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kommunikációs alrendszer a logikai pont-pont összeköttetést leképzi a fizikai átviteli közeg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fizikai átviteli közeg korlátozott átviteli kapacitást biztosít, így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ORLÓDÁS VEZÉRLÉS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ke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nden processzor kap egy hitelértéket és akkor küldhet ki üzenetet, ha hitel érté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robléma: hitel elveszésének kezelése elvileg megoldhatatlan nagy rendszerekb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EEC-EF17-4B42-9C8C-2D64C9F962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ROCESSZOROS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ikroprocesszorok árának jelen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 csökkenése lehe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é teszi, hogy azokat egy bonyolult rendszerben univerzális épi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emekként használj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ULTIPROCESSZOROS RENDSZER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: egymástól független (rész)feladatok konkurrens feldolgozását végz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többprocesszoros rendsz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999"/>
              </a:spcAft>
              <a:buClr>
                <a:srgbClr val="ffffff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ét esemény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nkurrens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ha egyik sem tudja kauzálisan befolyásolni a másik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A3D-035F-47BA-9C29-F0C963F75E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ROCESSZOROS RENDSZEREK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67120" y="2068560"/>
            <a:ext cx="0" cy="3551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5440" y="4062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5440" y="49658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5440" y="283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5440" y="212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58240" y="49658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58240" y="4386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8240" y="380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58240" y="3227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8240" y="25718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62000" y="4641840"/>
            <a:ext cx="1886040" cy="596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961640" y="4386240"/>
            <a:ext cx="1886040" cy="85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961640" y="2419200"/>
            <a:ext cx="1886040" cy="416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62000" y="2068560"/>
            <a:ext cx="0" cy="355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96800" y="175248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 folya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96080" y="1752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Q folya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85760" y="3414240"/>
            <a:ext cx="0" cy="64764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5560" y="35640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3560" y="4995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3560" y="406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95360" y="2089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2128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21280" y="439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21280" y="390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60800" y="322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0800" y="2647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1080" y="520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19280" y="5283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1080" y="429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19280" y="4629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95360" y="2890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2040" y="3078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19280" y="4049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42960" y="2254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712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7120" y="2835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75440" y="2835360"/>
            <a:ext cx="2470320" cy="973440"/>
            <a:chOff x="1675440" y="2835360"/>
            <a:chExt cx="2470320" cy="973440"/>
          </a:xfrm>
        </p:grpSpPr>
        <p:sp>
          <p:nvSpPr>
            <p:cNvPr id="83" name=""/>
            <p:cNvSpPr/>
            <p:nvPr/>
          </p:nvSpPr>
          <p:spPr>
            <a:xfrm>
              <a:off x="3558240" y="32274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33"/>
                  </a:solidFill>
                  <a:latin typeface="Wingdings"/>
                  <a:ea typeface="Wingdings"/>
                </a:rPr>
                <a:t>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5440" y="28353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33"/>
                  </a:solidFill>
                  <a:latin typeface="Wingdings"/>
                  <a:ea typeface="Wingdings"/>
                </a:rPr>
                <a:t>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75440" y="2835360"/>
            <a:ext cx="2470320" cy="1565640"/>
            <a:chOff x="1675440" y="2835360"/>
            <a:chExt cx="2470320" cy="1565640"/>
          </a:xfrm>
        </p:grpSpPr>
        <p:sp>
          <p:nvSpPr>
            <p:cNvPr id="86" name=""/>
            <p:cNvSpPr/>
            <p:nvPr/>
          </p:nvSpPr>
          <p:spPr>
            <a:xfrm>
              <a:off x="3558240" y="38196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Wingdings"/>
                  <a:ea typeface="Wingdings"/>
                </a:rPr>
                <a:t>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5440" y="28353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Wingdings"/>
                  <a:ea typeface="Wingdings"/>
                </a:rPr>
                <a:t>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879800" y="4172040"/>
            <a:ext cx="388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konkurrens 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al és 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94920" y="4641840"/>
            <a:ext cx="39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és 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m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konkurrensek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80520" y="2644920"/>
            <a:ext cx="37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A folyamatok ÜZENETe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keresztül látják egymá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F29-88FE-4070-AAC2-47C7F495D1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ROCESSZOROS RENDSZEREK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752480"/>
            <a:ext cx="4210200" cy="1009800"/>
            <a:chOff x="2209680" y="1752480"/>
            <a:chExt cx="4210200" cy="1009800"/>
          </a:xfrm>
        </p:grpSpPr>
        <p:sp>
          <p:nvSpPr>
            <p:cNvPr id="93" name=""/>
            <p:cNvSpPr/>
            <p:nvPr/>
          </p:nvSpPr>
          <p:spPr>
            <a:xfrm>
              <a:off x="2209680" y="2324160"/>
              <a:ext cx="762120" cy="4381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324160"/>
              <a:ext cx="762120" cy="4381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3920" y="2324160"/>
              <a:ext cx="761760" cy="4381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7760" y="2324160"/>
              <a:ext cx="762120" cy="4381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2324160"/>
              <a:ext cx="247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95680" y="2762280"/>
              <a:ext cx="247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333760" y="2324160"/>
              <a:ext cx="323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333760" y="2762280"/>
              <a:ext cx="323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02000" y="1752480"/>
              <a:ext cx="16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KAPACITÁS </a:t>
              </a:r>
              <a:r>
                <a:rPr b="1" lang="en-US" sz="1600" spc="-1" strike="noStrike">
                  <a:solidFill>
                    <a:srgbClr val="66ff33"/>
                  </a:solidFill>
                  <a:latin typeface="Wingdings"/>
                  <a:ea typeface="Wingdings"/>
                </a:rPr>
                <a:t>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18760" y="2762280"/>
            <a:ext cx="929160" cy="3505320"/>
            <a:chOff x="518760" y="2762280"/>
            <a:chExt cx="929160" cy="3505320"/>
          </a:xfrm>
        </p:grpSpPr>
        <p:sp>
          <p:nvSpPr>
            <p:cNvPr id="103" name=""/>
            <p:cNvSpPr/>
            <p:nvPr/>
          </p:nvSpPr>
          <p:spPr>
            <a:xfrm>
              <a:off x="990720" y="2762280"/>
              <a:ext cx="457200" cy="66672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3429000"/>
              <a:ext cx="457200" cy="66672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4095720"/>
              <a:ext cx="457200" cy="66672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5600880"/>
              <a:ext cx="457200" cy="66672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476244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7920" y="476244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990720" y="525744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447920" y="525744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-32040" y="43250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Wingdings"/>
                  <a:ea typeface="Wingdings"/>
                </a:rPr>
                <a:t></a:t>
              </a: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FUNKCIÓ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445080" y="4654080"/>
            <a:ext cx="2465280" cy="917640"/>
            <a:chOff x="6445080" y="4654080"/>
            <a:chExt cx="2465280" cy="917640"/>
          </a:xfrm>
        </p:grpSpPr>
        <p:sp>
          <p:nvSpPr>
            <p:cNvPr id="113" name=""/>
            <p:cNvSpPr/>
            <p:nvPr/>
          </p:nvSpPr>
          <p:spPr>
            <a:xfrm>
              <a:off x="6883560" y="4654080"/>
              <a:ext cx="13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GYSZERŰ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45080" y="4991040"/>
              <a:ext cx="246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GHIBÁSODÁSOK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ÉRZÉKEN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447920" y="1693440"/>
            <a:ext cx="7463520" cy="4383360"/>
            <a:chOff x="1447920" y="1693440"/>
            <a:chExt cx="7463520" cy="4383360"/>
          </a:xfrm>
        </p:grpSpPr>
        <p:sp>
          <p:nvSpPr>
            <p:cNvPr id="116" name=""/>
            <p:cNvSpPr/>
            <p:nvPr/>
          </p:nvSpPr>
          <p:spPr>
            <a:xfrm>
              <a:off x="1447920" y="590544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7920" y="377208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308628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440064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43280" y="2933640"/>
              <a:ext cx="4971960" cy="343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43280" y="3581280"/>
              <a:ext cx="4971960" cy="34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3280" y="4229280"/>
              <a:ext cx="4971960" cy="342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43280" y="5734080"/>
              <a:ext cx="4971960" cy="342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17760" y="293328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PROCESSZ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23480" y="1693440"/>
              <a:ext cx="2487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STATIKUS FELADAT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HOZZÁRENDELÉS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egy processzor egy megha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tározott  funkciót lát 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62760" y="499068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2760" y="476208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2760" y="523512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D14-DFE6-4DA4-B388-CC0595D1EE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ROCESSZOROS RENDSZEREK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9680" y="1479600"/>
            <a:ext cx="4210200" cy="1009440"/>
            <a:chOff x="2209680" y="1479600"/>
            <a:chExt cx="4210200" cy="1009440"/>
          </a:xfrm>
        </p:grpSpPr>
        <p:sp>
          <p:nvSpPr>
            <p:cNvPr id="131" name=""/>
            <p:cNvSpPr/>
            <p:nvPr/>
          </p:nvSpPr>
          <p:spPr>
            <a:xfrm>
              <a:off x="2209680" y="2050920"/>
              <a:ext cx="762120" cy="4377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1800" y="2050920"/>
              <a:ext cx="762120" cy="4377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2050920"/>
              <a:ext cx="761760" cy="4377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57760" y="2050920"/>
              <a:ext cx="762120" cy="4377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5680" y="2050920"/>
              <a:ext cx="247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5680" y="2489040"/>
              <a:ext cx="247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333760" y="2050920"/>
              <a:ext cx="323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33760" y="2489040"/>
              <a:ext cx="323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02000" y="1479600"/>
              <a:ext cx="16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KAPACITÁS </a:t>
              </a:r>
              <a:r>
                <a:rPr b="1" lang="en-US" sz="1600" spc="-1" strike="noStrike">
                  <a:solidFill>
                    <a:srgbClr val="66ff33"/>
                  </a:solidFill>
                  <a:latin typeface="Wingdings"/>
                  <a:ea typeface="Wingdings"/>
                </a:rPr>
                <a:t>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202440" y="4633920"/>
            <a:ext cx="2730240" cy="1385280"/>
            <a:chOff x="6202440" y="4633920"/>
            <a:chExt cx="2730240" cy="1385280"/>
          </a:xfrm>
        </p:grpSpPr>
        <p:sp>
          <p:nvSpPr>
            <p:cNvPr id="141" name=""/>
            <p:cNvSpPr/>
            <p:nvPr/>
          </p:nvSpPr>
          <p:spPr>
            <a:xfrm>
              <a:off x="6202440" y="4633920"/>
              <a:ext cx="273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BONYOLULT OPERÁCIÓ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NDSZER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8600" y="5195160"/>
              <a:ext cx="2453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GHIBÁSODÁSO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ETÉ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ÁTKONFIGURÁLHAT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760" y="2762280"/>
            <a:ext cx="929160" cy="3505320"/>
            <a:chOff x="518760" y="2762280"/>
            <a:chExt cx="929160" cy="3505320"/>
          </a:xfrm>
        </p:grpSpPr>
        <p:sp>
          <p:nvSpPr>
            <p:cNvPr id="144" name=""/>
            <p:cNvSpPr/>
            <p:nvPr/>
          </p:nvSpPr>
          <p:spPr>
            <a:xfrm>
              <a:off x="990720" y="2762280"/>
              <a:ext cx="457200" cy="66672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0720" y="3429000"/>
              <a:ext cx="457200" cy="66672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4095720"/>
              <a:ext cx="457200" cy="66672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720" y="5600880"/>
              <a:ext cx="457200" cy="66672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90720" y="476244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7920" y="476244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990720" y="525744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447920" y="525744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-32040" y="43250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Wingdings"/>
                  <a:ea typeface="Wingdings"/>
                </a:rPr>
                <a:t></a:t>
              </a: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FUNKCIÓ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43240" y="2052720"/>
            <a:ext cx="6551280" cy="3986280"/>
            <a:chOff x="2343240" y="2052720"/>
            <a:chExt cx="6551280" cy="3986280"/>
          </a:xfrm>
        </p:grpSpPr>
        <p:sp>
          <p:nvSpPr>
            <p:cNvPr id="154" name=""/>
            <p:cNvSpPr/>
            <p:nvPr/>
          </p:nvSpPr>
          <p:spPr>
            <a:xfrm>
              <a:off x="6422400" y="377172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PROCESSZ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21680" y="2052720"/>
              <a:ext cx="24728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NAMIKUS FELADAT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HOZZÁRENDELÉS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gy processzor mind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funkciót  elláthat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kapacitás egy részé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52760" y="2489040"/>
              <a:ext cx="0" cy="44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02000" y="2489040"/>
              <a:ext cx="0" cy="44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33880" y="2508120"/>
              <a:ext cx="0" cy="44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00840" y="2508120"/>
              <a:ext cx="0" cy="44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43240" y="2933640"/>
              <a:ext cx="419040" cy="3086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0400" y="2952720"/>
              <a:ext cx="419040" cy="3086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05280" y="2952720"/>
              <a:ext cx="419040" cy="3086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2240" y="2933640"/>
              <a:ext cx="419040" cy="3086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70720" y="4304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. . 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6F2-5AAF-41A9-8804-BDE7E28327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ROCESSZOROS RENDSZEREK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AZÁN CSATOLT RENDS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üzenet kommunikáció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minden processzornak saját operációs rendszere v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999"/>
              </a:spcAft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Egyszerű, lass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OROSAN CSATOLT RENDS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kommunikáció közös erőforráson keresztü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 egyetlen operációs rendszer v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Bonyolult, gy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5A0-9944-457A-8372-FAA5A909C2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ZÁN CSATOL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5320" y="1508040"/>
            <a:ext cx="599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KOMMUNIKÁCIÓS ALRENDSZEReken keresztül megvalósítot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ffffff"/>
                </a:solidFill>
                <a:uFillTx/>
                <a:latin typeface="Times New Roman"/>
              </a:rPr>
              <a:t>logikailag pont-pont összeköttetés</a:t>
            </a: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2089080"/>
            <a:ext cx="7772400" cy="3822480"/>
            <a:chOff x="685800" y="2089080"/>
            <a:chExt cx="7772400" cy="3822480"/>
          </a:xfrm>
        </p:grpSpPr>
        <p:grpSp>
          <p:nvGrpSpPr>
            <p:cNvPr id="170" name=""/>
            <p:cNvGrpSpPr/>
            <p:nvPr/>
          </p:nvGrpSpPr>
          <p:grpSpPr>
            <a:xfrm>
              <a:off x="685800" y="2089080"/>
              <a:ext cx="7772400" cy="3822480"/>
              <a:chOff x="685800" y="2089080"/>
              <a:chExt cx="7772400" cy="3822480"/>
            </a:xfrm>
          </p:grpSpPr>
          <p:sp>
            <p:nvSpPr>
              <p:cNvPr id="171" name=""/>
              <p:cNvSpPr/>
              <p:nvPr/>
            </p:nvSpPr>
            <p:spPr>
              <a:xfrm>
                <a:off x="685800" y="4641840"/>
                <a:ext cx="1998720" cy="126972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1. PROCESSZ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08320" y="4641840"/>
                <a:ext cx="1173240" cy="126972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ÁTMENET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TÁROLÓ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59480" y="4641840"/>
                <a:ext cx="1998720" cy="126972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. PROCESSZ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08320" y="2746080"/>
                <a:ext cx="1173240" cy="9032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ÁLLAPO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TÁROLÓ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281560" y="5308560"/>
                <a:ext cx="11779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684160" y="5308560"/>
                <a:ext cx="142380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432320" y="3648960"/>
                <a:ext cx="0" cy="99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978440" y="3648960"/>
                <a:ext cx="0" cy="99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807240" y="4152240"/>
                <a:ext cx="0" cy="489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978440" y="4152600"/>
                <a:ext cx="18288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2286000" y="4152240"/>
                <a:ext cx="0" cy="489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86000" y="4152600"/>
                <a:ext cx="214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432320" y="2425680"/>
                <a:ext cx="0" cy="320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1257120" y="2425680"/>
                <a:ext cx="3174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57480" y="2425680"/>
                <a:ext cx="0" cy="221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281560" y="5308560"/>
                <a:ext cx="1177920" cy="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6807240" y="4152240"/>
                <a:ext cx="0" cy="489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978440" y="4152600"/>
                <a:ext cx="18288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78440" y="3649320"/>
                <a:ext cx="0" cy="9925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77000" y="3816000"/>
                <a:ext cx="266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6600"/>
                    </a:solidFill>
                    <a:latin typeface="Times New Roman"/>
                  </a:rPr>
                  <a:t>ÉRVÉNYES ÜZENET V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2286000" y="4152240"/>
                <a:ext cx="0" cy="48924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86000" y="4152600"/>
                <a:ext cx="21463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432320" y="3649320"/>
                <a:ext cx="0" cy="99252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85600" y="3816000"/>
                <a:ext cx="140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ff33"/>
                    </a:solidFill>
                    <a:latin typeface="Times New Roman"/>
                  </a:rPr>
                  <a:t>BEOLVASÁ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32320" y="2425680"/>
                <a:ext cx="0" cy="32040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257120" y="2425680"/>
                <a:ext cx="3174840" cy="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57480" y="2425680"/>
                <a:ext cx="0" cy="221616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49240" y="2089080"/>
                <a:ext cx="180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66"/>
                    </a:solidFill>
                    <a:latin typeface="Times New Roman"/>
                  </a:rPr>
                  <a:t>ÚJ ÜZENET V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64720" y="483840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ADATSÍ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898000" y="483840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ADATSÍ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4978440" y="2425680"/>
                <a:ext cx="0" cy="320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78440" y="2425680"/>
                <a:ext cx="3003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81920" y="2425680"/>
                <a:ext cx="0" cy="221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684160" y="5308560"/>
                <a:ext cx="1423800" cy="0"/>
              </a:xfrm>
              <a:prstGeom prst="line">
                <a:avLst/>
              </a:prstGeom>
              <a:ln w="76320">
                <a:solidFill>
                  <a:srgbClr val="66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978440" y="2095200"/>
                <a:ext cx="3003480" cy="2546640"/>
                <a:chOff x="4978440" y="2095200"/>
                <a:chExt cx="3003480" cy="25466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736240" y="2095200"/>
                  <a:ext cx="190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808080"/>
                      </a:solidFill>
                      <a:latin typeface="Times New Roman"/>
                    </a:rPr>
                    <a:t>ÜZENET ELVÉV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978440" y="2425680"/>
                  <a:ext cx="0" cy="3204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78440" y="2425680"/>
                  <a:ext cx="3003480" cy="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981920" y="2425680"/>
                  <a:ext cx="0" cy="22161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853200" y="5451120"/>
              <a:ext cx="143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(PERIFÉRI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31360" y="5451120"/>
              <a:ext cx="11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(FORRÁ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818-F307-4102-8753-6904A06B0A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ZÁN CSATOLT RENDSZEREK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2155680"/>
            <a:ext cx="1927080" cy="75096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ILE KEZEL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1120" y="2155680"/>
            <a:ext cx="2216160" cy="75096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MEZ KEZEL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1120" y="3468600"/>
            <a:ext cx="2216160" cy="7509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MEZ VEZÉRL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1120" y="4653000"/>
            <a:ext cx="2216160" cy="7509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M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46400" y="25146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906640"/>
            <a:ext cx="0" cy="561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4219560"/>
            <a:ext cx="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37720" y="1415520"/>
            <a:ext cx="1018800" cy="740160"/>
            <a:chOff x="1737720" y="1415520"/>
            <a:chExt cx="1018800" cy="740160"/>
          </a:xfrm>
        </p:grpSpPr>
        <p:sp>
          <p:nvSpPr>
            <p:cNvPr id="221" name=""/>
            <p:cNvSpPr/>
            <p:nvPr/>
          </p:nvSpPr>
          <p:spPr>
            <a:xfrm>
              <a:off x="2171880" y="1752480"/>
              <a:ext cx="0" cy="403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37720" y="141552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File kéré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166480" y="55170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ile kezelés egyetlen számítógép eseté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905120"/>
            <a:ext cx="5200560" cy="1154160"/>
          </a:xfrm>
          <a:prstGeom prst="rect">
            <a:avLst/>
          </a:prstGeom>
          <a:noFill/>
          <a:ln w="381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4600" y="2155680"/>
            <a:ext cx="13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</a:rPr>
              <a:t>OPERÁCIÓ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</a:rPr>
              <a:t>RENDSZ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09920" y="3173400"/>
            <a:ext cx="2705040" cy="234468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63000" y="405108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ARD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8EA-F796-4D5B-A361-82F8A0FE71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ZÁN CSATOLT RENDSZEREK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9280" y="1881360"/>
            <a:ext cx="1041120" cy="580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02600" y="188136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 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EZEL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60400" y="2171880"/>
            <a:ext cx="411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1880" y="1881360"/>
            <a:ext cx="1041120" cy="580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00800" y="1881360"/>
            <a:ext cx="1041120" cy="580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05600" y="1881360"/>
            <a:ext cx="1041480" cy="580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1920" y="2171880"/>
            <a:ext cx="463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960" y="188136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 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EZEL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44880" y="188136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LEM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EZEL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78960" y="188136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LEM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EZEL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9280" y="2819520"/>
            <a:ext cx="2493720" cy="742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462040"/>
            <a:ext cx="0" cy="357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06200" y="2886120"/>
            <a:ext cx="24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ÍNILLESZTŐ H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OMMUNIKÁCIÓS S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00800" y="2819520"/>
            <a:ext cx="2546280" cy="685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543800" y="2461680"/>
            <a:ext cx="0" cy="357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2720" y="2924280"/>
            <a:ext cx="24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ÍNILLESZTŐ H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OMMUNIKÁCIÓS S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11320" y="3562200"/>
            <a:ext cx="0" cy="476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9280" y="4038480"/>
            <a:ext cx="7327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59240" y="370152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NDSZERSÍ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8160" y="35053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038480"/>
            <a:ext cx="0" cy="5241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98880" y="4562640"/>
            <a:ext cx="2673360" cy="618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18400" y="4581360"/>
            <a:ext cx="24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ÍNILLESZTŐ H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OMMUNIKÁCIÓS S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5181480"/>
            <a:ext cx="0" cy="400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59240" y="5581800"/>
            <a:ext cx="195732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59240" y="5702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MEZ VEZÉRL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6560" y="5816520"/>
            <a:ext cx="355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72240" y="5581800"/>
            <a:ext cx="123336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72680" y="56480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M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0400" y="1676520"/>
            <a:ext cx="2773440" cy="210168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10360" y="1650960"/>
            <a:ext cx="2938320" cy="208908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19320" y="2462040"/>
            <a:ext cx="5568840" cy="1576440"/>
            <a:chOff x="1219320" y="2462040"/>
            <a:chExt cx="5568840" cy="1576440"/>
          </a:xfrm>
        </p:grpSpPr>
        <p:sp>
          <p:nvSpPr>
            <p:cNvPr id="261" name=""/>
            <p:cNvSpPr/>
            <p:nvPr/>
          </p:nvSpPr>
          <p:spPr>
            <a:xfrm>
              <a:off x="1219320" y="2462040"/>
              <a:ext cx="0" cy="357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05520" y="2462040"/>
              <a:ext cx="0" cy="357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9320" y="2819520"/>
              <a:ext cx="792000" cy="742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05520" y="2819520"/>
              <a:ext cx="78264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11320" y="3562200"/>
              <a:ext cx="0" cy="476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88160" y="3505320"/>
              <a:ext cx="0" cy="533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11320" y="4038480"/>
              <a:ext cx="47768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219320" y="1352520"/>
            <a:ext cx="0" cy="52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05520" y="1352520"/>
            <a:ext cx="0" cy="52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72960" y="135216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ILE KÉR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06960" y="135216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ILE KÉR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émeth Gábor: Számítógép architektúrá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E0C-6EFA-40B5-B707-DDAD19CAA5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99</a:t>
            </a: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07:10:20Z</dcterms:created>
  <dc:creator>Németh Gábor</dc:creator>
  <dc:description/>
  <dc:language>en-US</dc:language>
  <cp:lastModifiedBy>AJF</cp:lastModifiedBy>
  <cp:lastPrinted>1999-09-21T15:33:19Z</cp:lastPrinted>
  <dcterms:modified xsi:type="dcterms:W3CDTF">2003-10-18T07:48:02Z</dcterms:modified>
  <cp:revision>52</cp:revision>
  <dc:subject/>
  <dc:title>SZÁMÍTÓGÉP ARCHITEKTÚRÁK-2</dc:title>
</cp:coreProperties>
</file>