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915-F7C5-4174-A75C-5FB932A1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679-F29E-48FE-B40D-BDCC52C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48B-8691-47AA-B7A8-2CA000AC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985-3C87-4283-A896-E2F0E56C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C61-31F0-4734-95A0-A79D855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C1C-0067-4078-8A39-7C834BC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AD5-F33E-46E5-AEA3-03BC461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876-256D-4BC7-8B26-4187ACDF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F3E-DC56-49F6-A894-8FDA411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6E9-377A-4620-8CDD-AC329B7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338-A532-4C6B-93A1-0071D71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AD9-9CB0-4B9B-BE09-8DD7111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D85-F295-412D-B3CD-BA4E9FF054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LYAMATOK ÉS ERŐFORR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lyamat: egy futó program, kiegészítve azokkal az információkkal, amelyeket az operációs rendszer használ a kezelés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 = végrehajtott kód + leírótá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őforrás: mindazon dolgok, amelyek a folyamatok végrehajtásához szükségesek (pld. CPU idő, memória, perifériák. stb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ajtái: megszakítható ill. nem megszakí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szakítható: az erőforrás úgy elvehető, hogy egyikük sem sér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megszakítható: az erőforrás a folyamattól csak valamelyikük sérülése árán vehető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FBC-7F05-41C7-B858-245A0310BC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l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matle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író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 memóriaképe a következő elemekből á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lkalmazás adatai (felhasználói adat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lkalmazás kódja (a folyamat kód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aját ve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leír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leíró olyan járulékos információ amit az operációs rendszer rendel a folyamathoz azért, hogy képes legyen a folymat állapotát kez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311-1A8C-42C9-888E-0A7304487E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leírót különböző operációs rendszerek más-más néven hívjá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gram Segment Prefix(DOS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Control Block (Win95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Descri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ask Stat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ész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azonosító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lyamat saját azonosít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szülő folyamat azonosít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elhasználó azonosít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48B-0715-48C2-B22F-7C764E11EE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zor állapot informá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elhasználó által látható regiszterek (GP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zérlő és állapot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remmut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vezérlő informá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Ütemezési és állapotinformáció:a folyamat állapota, prioritása, eseményre vonatkozó információ (ha v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közti kommunik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privilégium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ára vonatkozó információk: szegmens, laptábla címek, mér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birtokolt erőforrások adatai (állományok, állománymutató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EA4-3BC8-4A78-9A62-EA8B6EA048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609480"/>
            <a:ext cx="31240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olyamat azo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143000"/>
            <a:ext cx="31240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olyamat állapot inform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905120"/>
            <a:ext cx="312408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olyamat vezérlés inform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666880"/>
            <a:ext cx="31240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használói ve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809880"/>
            <a:ext cx="31240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 folyamat saját címtere (program és a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5105520"/>
            <a:ext cx="31240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zös címté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60948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219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lyamat leíró (P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6094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590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móriaké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CE0-2E3F-4121-8BD5-EFAB372065E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árakozás az erőforrások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ben általában találhatók olyan erőforrások, amelyeket a folyamatok nem kizárólagosan, hanem közösen használnak (pld. merevleme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lyen erőforrásokra több folyamait is várakozhat, ezért ezekhez egy-egy várakozási sort rendel az operációs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árakozási sorok szervezése az erőforrás használatának ütemezésétől fü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96F-4110-41D2-AA82-E043914171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féle ütemezési módszer isme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rkezési sorrendben (FCFS, First Come First served), az ehhez tartozó sor egy egyszerű F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oritás alapján, amikor a sor egy láncolt lista és a legmagasabb prioritású folyamat van az elej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lyan ütemezési módszerek, amelyekkel a rendszer valamelyik jellemzőjét (pld. kihasználtság,  átbocsátóképesség, átlagos várakozási idő, átlagos válaszidő) próbálják kedvező értékre hozni. Az ilyen startégiákkal ütemezett erőforrások várakozási sorának szervezése nem mutat jól meghatározható sajátosság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B6A-D28E-4BBB-91CD-B5E7E46DFD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amat és szál (threa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nak két jellegzetességét vegyük szemügy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az erőforrás birtoklásának egysége (nincs kisebb egység amihez erőforrást lehet rendel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a sorrendezés egysége, nincs kisebb egység ami sorrendez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 a két tulajdonság ugyanakkor egymástól függetl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jobb kihasználását eredményezheti, ha a sorrendezéshez kisebb egységet vezetünk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458-C330-4749-9034-1296D921BE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a kisebb egység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szá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thre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gy olyan rendszerhez jutunk, ahol egy folyamat több több egymástól elkülönülő, külön végrehajtható és sorrendezhető egységre bomlik, miközben az erőforrásokat változatlanul a folyamathoz rendeljük hozz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 jellemző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rőforrás hozzárendelés egys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 virtuális címtér, ami a memóriaképet tartalma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dett hozzáférés a CPU-hoz, más folyamatokhoz ,fáljokhoz és I/O eszközökhö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693-0CA5-4042-A682-1029235882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folyamatban lehet egy v. több sz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ál jellemző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aját végrehajtási állapota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aját környezete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aját verem memóriája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het saját statikus memóriá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zzáfér az őt tartalmazó folyamat memóriájához és erőforrásaih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D23-3749-43E3-BAF9-765FA27490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amat és szá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67652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90512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182880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67652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82880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182880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82880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42900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58128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42900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581280"/>
            <a:ext cx="17316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65760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42900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365760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429000"/>
            <a:ext cx="11430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581280"/>
            <a:ext cx="172800" cy="755640"/>
          </a:xfrm>
          <a:custGeom>
            <a:avLst/>
            <a:gdLst/>
            <a:ahLst/>
            <a:rect l="l" t="t" r="r" b="b"/>
            <a:pathLst>
              <a:path w="109" h="476">
                <a:moveTo>
                  <a:pt x="32" y="0"/>
                </a:moveTo>
                <a:cubicBezTo>
                  <a:pt x="14" y="55"/>
                  <a:pt x="22" y="68"/>
                  <a:pt x="70" y="100"/>
                </a:cubicBezTo>
                <a:cubicBezTo>
                  <a:pt x="66" y="121"/>
                  <a:pt x="63" y="142"/>
                  <a:pt x="57" y="163"/>
                </a:cubicBezTo>
                <a:cubicBezTo>
                  <a:pt x="50" y="188"/>
                  <a:pt x="32" y="238"/>
                  <a:pt x="32" y="238"/>
                </a:cubicBezTo>
                <a:cubicBezTo>
                  <a:pt x="85" y="289"/>
                  <a:pt x="109" y="345"/>
                  <a:pt x="20" y="376"/>
                </a:cubicBezTo>
                <a:cubicBezTo>
                  <a:pt x="0" y="434"/>
                  <a:pt x="17" y="436"/>
                  <a:pt x="57" y="4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066680"/>
            <a:ext cx="0" cy="4038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1430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gy folyamat, egy sz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143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gy folyamat,több sz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876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öbbfolyamat, folyamatonként egy sz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769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öbbfolyamat, folyamatonként több sz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0D5-ED95-40F8-8A2E-D29611ECD9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ok vizsgálata két egymástól különböző időszakot fedett fel: egyik során a programok főleg a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CPU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-t használták, a másik során főként valamilye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I/O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eszköz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eket „CPU burst”-nek illetve „I/O burst”-nek nevezik (burst = lök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ultiprogramozás alapja, hogy több programot indítunk el és az operációs rendszer gondoskodik arról, hogy az egyik folyamata CPU burst-je átlapolódjon egy v. több másik folyamat I/O burst-jé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multiprogramozás alap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A32-DA21-4479-8316-FB082904B8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img027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51" name="space" descr=""/>
          <p:cNvPicPr/>
          <p:nvPr/>
        </p:nvPicPr>
        <p:blipFill>
          <a:blip r:embed="rId2"/>
          <a:stretch/>
        </p:blipFill>
        <p:spPr>
          <a:xfrm>
            <a:off x="2111400" y="5380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43000" y="533520"/>
            <a:ext cx="67057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-szálú és több-szálú folyamat mo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D5D-F040-4C7C-9854-1494EE213EE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g020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B2F-A9A5-4D7C-BB96-B2D6D117F20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amat és szál Windows NT ala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NT-ben a folyamat is és a szál is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objek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végrehajtható folyamat több szálat tartalmaz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743200"/>
            <a:ext cx="176544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olya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962520"/>
            <a:ext cx="18288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ny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419720"/>
            <a:ext cx="18288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ny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4876920"/>
            <a:ext cx="18288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3. ny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3341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876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bjektumok táblá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733920"/>
            <a:ext cx="53316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8520" y="3809160"/>
            <a:ext cx="16671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80800" y="5028480"/>
            <a:ext cx="16671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4419000"/>
            <a:ext cx="150984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á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0384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6483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5105520"/>
            <a:ext cx="68580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971800"/>
            <a:ext cx="99036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297180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297180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31240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31240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1240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2004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3119040"/>
            <a:ext cx="456840" cy="92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06" y="7268"/>
                </a:moveTo>
                <a:arcTo wR="10800" hR="10800" stAng="-1145216" swAng="5972033"/>
                <a:lnTo>
                  <a:pt x="10800" y="10800"/>
                </a:lnTo>
                <a:close/>
              </a:path>
              <a:path fill="none" w="21600" h="21600">
                <a:moveTo>
                  <a:pt x="21006" y="7268"/>
                </a:moveTo>
                <a:arcTo wR="10800" hR="10800" stAng="-1145216" swAng="5972033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324120" y="403848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799160" y="1751040"/>
            <a:ext cx="381348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259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2594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400800" y="533412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irtuális cím-leír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C5A-CFA0-4CA2-B301-1DFF0DDB71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img035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433-FCC2-4A9C-ABED-F231843A55B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Ütemezés: preemptiv multitasking a szálak és a virtuális gépe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ütemező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sődleges üzemező, ami a végrehajtási prioritás alapján kiválasztja a következő futó szálat. A kiválasztás a VMM futása alatt törté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lsődleges ütemező egyik kliense (egyik kiválasztható szál) a másodlagos (v. idő-osztó) ütemez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égrehajtási prioritás nem állandó, futás közben megemel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sodlagos ütemező feladata, hogy a legmagasabb szinten lévő szálak között megossza a CPU-t, időosztásos ala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5A0-16FD-4A8B-85FE-84174DF2CB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IPC: folyamatközi kommunikáci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 közötti kommunikációnak számos módja van. Ezek mindegyike azon alapul, hogy az operációs rendszer valamilyen közösen használt erőforrást (memóriaterületet, fájlt) biztosít a folyamatok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NIX alatt az IPC eszköze a cső (pi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ső egy fájl alapú egyirányú mechanizmus, ami két összetartozó folyamat (pld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ülő és gyerek) közötti adatküldésre szolg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966-1C23-4A06-93A2-B2594AE3B2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ső egyben meghatározza az átvitel során követendő protokoll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irányú kommunikációhoz két cső k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 csak egy dolgot garantál: a csőből az adatok a beírás sorrendjében olvashatók ki, továbbá hogy adat nem vész el (hacsak valamelyik folyamat ki nem h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ső létrehozására egy rendszerhívás szolgá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ikeres hívás eredménye két fájl leíró, az egyik a cső olvasására, a másik az írásá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F95-4103-47E5-BAA8-43C623CE84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80880"/>
            <a:ext cx="815364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&lt;unistd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t pipe( int filedes[2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* filedes[0] read m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űvelettel olvas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filede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[1] write m\velettel 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írható 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étrehoz egy csövet és meg is nyitja, tehát nem kell ope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cső létrehozása után egy új folyamatot létesítünk (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rendszerhívással), az új folyamat örökli a szülő környezetét, a cső a gyerek számára is ismert le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után az egyik folyamat bezárja az olvasó-leírót, a másik az író-leírót és a nyitva maradt leíróval az egyik ír a csőba a másik olvas o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019-180B-44FF-A396-0AE0F8F0F84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28600"/>
            <a:ext cx="883908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int mai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n, fd[2]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hoss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z, cső azonosító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pid_t p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char lin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5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pipe(fd)&lt;0) error(“Nem siker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ült a cső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megnyitás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(pid=fork())&lt;0) error(“fork hiba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pid&gt;0) {  /* ez a sz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ülő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3300"/>
                </a:solidFill>
                <a:latin typeface="Courier New"/>
              </a:rPr>
              <a:t>close(fd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[0]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/* olvashat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ó vég nem kel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e, n be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ál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write(f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,line, n);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/* üzenet a gyerekne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... további utasí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close(f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); /*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írható vég bezárása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waitpid(pid,NULL,0); /* vár a gyerek végére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*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szülő vég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/* ---gyerek---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3300"/>
                </a:solidFill>
                <a:latin typeface="Courier New"/>
              </a:rPr>
              <a:t>close(fd[1]);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  /* írható vége nem kel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n = read(fd[0], line, 256); /* üzenet véte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... üzenet feldolgo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... További utasí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A80-72AE-4BCB-A03A-233A00E187D7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Windows alatt számos módszer létez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to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sztott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tex (kölcsönös kizár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ma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ritikus szekció (kölcsönös kizárás szálak számá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zen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LE/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FC4-55B2-4574-AABF-94606D90F4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ltiprogramozott rendszerben a folyamatok a következő állapotok valamelyikében le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ut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mikor a CPU az adott folyamat utasításait hajtja végre. Egyprocesszoros gépen csak egyetlen folyamat lehet ilyen állapot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utásra kész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mikor a folyamat futásának csak az a feltétele, hogy hozzájusson a CPU-hoz. Ebben az állapotban több folyamat is le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várakoz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mikor a folyamat valamiyen erőforrásra (kivéve a CPU-t), illetve valamilyen már elindított művelet befejeződését jelző eseményre vá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amatok állapotai és állapotátmene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097-05C9-4088-A149-ECFD8BA4DB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t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lobális változó, amelyet egy nyéllel azonosít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orlátozott mennyiségű adatot lehet kezelni vel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sztott memória: közös, minden folyamat által elérhető memória. Gond a védel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tex: a mutual exclusion-ból, egyidejűleg csak egy folyamat birtokolhatja. A további próbál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ók blokkolt állapotban várakozási sorba kerülnek. Hozzáférés vezérlésre használható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mafor: már ismer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534-F63E-4BF5-8E8D-9DC903F7938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304920"/>
            <a:ext cx="86868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tex haszn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lata. Két szál ugyanazokat a változókat ír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ass CMutex {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public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void Lock();   // Lock mutex before accessing data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void Unlock(); // Unlock mutex when done with data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z 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Var1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int Var1plus2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CMutex Var1Mutex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hread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1Mutex.Lock(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Var1 = 5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Var1plus2 = 7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Var1Mutex.Unlock(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ead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1Mutex.Lock(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1 = 3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1plus2 = 5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1Mutex.Unlo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971-1F04-4C5E-80B3-6215F30FC76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Üzenetek: egyirányú, várakozási sorokba rendezhető adatok, korlátozott mére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DE: a 16 bites Windows világa, az alkalmazások egyes objektumaikat (pld. egy Excel munkalap egy v. néhány celláját) „ismertté tették” egy másik folyamat számára. Az operációs rendszer automatikusan „értesítette” a fogadó folyamatot, amikor az adat megváltozot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32 bites Windows alatt a COM-ot használják hel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C20-2223-41B1-8777-67F403ADCBE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Állapotátmene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2388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1676520" cy="167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388620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4382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9810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ut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étreh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200400"/>
            <a:ext cx="11430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572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4290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orrendez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iválaszt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taszkvált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29200" y="2971440"/>
            <a:ext cx="106668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276720" y="2286000"/>
            <a:ext cx="2590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árakoz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3429000"/>
            <a:ext cx="144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eményt igény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pld. I/O művelet végére vá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447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rt esemény bekövetke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2742840"/>
            <a:ext cx="10666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42244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u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ak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preemptív ütemez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55627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55627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lya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ű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559-40C4-44D4-AFF6-589A041443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lőző ábra a legegyszerűbb esetet muta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akításos (preemptív) ütemezés: ha egy maga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b prioritású folyamat futásr kész lesz, az alacsonyabb prioritású futása megszakad, m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kkor is, ha semmilyen eseményre sem v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 várakoztatásához (blokkolt állapot) az egyes erőforrásokhoz várakozási sorokat rendelü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maguk a folyamatok is létrehozhatnak újabb folyamatokat, a rendszerben létező folyamatok száma igen magasra nő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472-1E6B-460A-8806-C5689DA090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nnek kedvezőtlen következmény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ok nyilvántartásához szükséges táblák, a várakoztatáshoz szükséges sorok mérete nagyon nagy le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ok mozgatása, az ütemező működése lelass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lacsony prioritású folyamat nagyon sokáig fog várni arra, hogy futhasson (éhez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eredményként a teljes rendszer hatékonysága csökkeni kez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goldás: vezessünk be egy új állapotot, a felfüggesztett állapotot. A felfüggesztett állapotba került folyamattól az általa birtokolt erőforrások elvehe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66B-F8EF-4EAE-A04A-46A1DAA246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324480" y="2819520"/>
            <a:ext cx="1676520" cy="167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419720"/>
            <a:ext cx="1676160" cy="167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5720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74320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57200"/>
            <a:ext cx="167616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56544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32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étreh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46483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orrendez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iválaszt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taszkvált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u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ak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57800" y="411444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343400"/>
            <a:ext cx="9144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733920"/>
            <a:ext cx="838080" cy="8380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4419720"/>
            <a:ext cx="144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eményt igény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pld. I/O művelet végére vá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2004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ut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9144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függesztve várakoz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429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árakoz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162920" y="213336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76720" y="3657600"/>
            <a:ext cx="3047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rt esemény bekövetke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elfügg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276720" y="1219320"/>
            <a:ext cx="3047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335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rt esemény bekövetke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7621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függesztve fut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057400" y="19807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810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133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elfügg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133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ktiv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5A7-7103-4938-B4EF-4B8A648BB26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amatok környez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ok nem izoláltan futnak. Az operációs rendszer tartalmaz olyan „változókat” amelyek értékét előzetesen az erre a célra szolgáló paranccsal beállították. Ezek az ú.n. környezeti változók, ezek összessége, néhány további információval együtt képezik a folyamat „környezeté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örnyezeti változók értékét a folyamat meg tudja vizsgálni, illetve módosítani is tudja (időleges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701-617B-438A-8DAE-DB238563D5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lyamatok maguk is létre tudnak hozni újabb folyamatokat. A létrejövő „gyermek” folyamat általában örökli a szülőtől a környeze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rnyezeti változókkal a folyamat általános viselkedése vezérelhető, tipikus lehető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ba beépített nyomkövetés ki/bekapcsolása, részletezettségének változt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ltozó helyen tárolt adatokhoz vezető útvonal kijelö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által használt nyelv meghatározása indításk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444-7BB6-483F-AE8C-086DADA5EE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vitez</cp:lastModifiedBy>
  <dcterms:modified xsi:type="dcterms:W3CDTF">2003-11-05T09:04:36Z</dcterms:modified>
  <cp:revision>154</cp:revision>
  <dc:subject/>
  <dc:title>TELJESÍTMÉNYFOKOZÓ ARCHITEKTÚRÁLIS ELVEK</dc:title>
</cp:coreProperties>
</file>