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2C6-486C-44EB-B31E-F5B4601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740-DB6C-42C9-A4D9-001363F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414-18F0-44BB-B6AA-D1C2C68C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A17-FED2-45BE-8FCB-0110BFB9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ABA-F847-4DA0-B276-6D13661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3FD-D622-4DB6-954E-EDD5ADA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958-FA24-4EB6-8620-E41483C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B3A-8989-4204-B0EA-AAB6C4A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CDA-8EE6-4B9E-BCE9-E2E0DD4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720-6D90-43C8-8ACE-EE6F9A4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BD3-7761-4D63-B78B-C346152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A2E-4DA9-4141-959B-52C4CCE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86B-69E4-471D-B99C-F31C3CAA08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ÓRIA KEZELÉS, SZERVE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 hierarchi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rtuális tár, nagy méret, lassú műkö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eratív tár, kisebb méret, gyors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orsítótár (cache): átmenet az OME és a regiszterek között, méretben és sebességbe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giszterek: kis kapacitás, de a leggyors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9AD-645F-4365-9E0F-CBEAC368A1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ét (ill. többutas) asszociatív leképez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utas asszociatív leképezés: egyszerre indul mindkét vezérlőtárban a keresés és egyszerre folyik a lapcím összehasonlítása is mindkét ú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 nő a találat valószínűsé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szer annyi tár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onyolultabb az eljá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alálati hiba esetén el kell dönteni, hogy hová kerüljön az új blokk (idő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309-2C3C-4E3F-9F5D-DFA1A02996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914400"/>
            <a:ext cx="175284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7652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914400"/>
            <a:ext cx="17524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67652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190512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181480"/>
            <a:ext cx="3429000" cy="381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5181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181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181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752480" y="3733560"/>
            <a:ext cx="1295280" cy="381240"/>
          </a:xfrm>
          <a:custGeom>
            <a:avLst/>
            <a:gdLst>
              <a:gd name="textAreaLeft" fmla="*/ 275040 w 1295280"/>
              <a:gd name="textAreaRight" fmla="*/ 1020240 w 1295280"/>
              <a:gd name="textAreaTop" fmla="*/ 81000 h 381240"/>
              <a:gd name="textAreaBottom" fmla="*/ 3002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491" y="21600"/>
                </a:lnTo>
                <a:lnTo>
                  <a:pt x="5109" y="216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648320" y="3733920"/>
            <a:ext cx="1295280" cy="380880"/>
          </a:xfrm>
          <a:custGeom>
            <a:avLst/>
            <a:gdLst>
              <a:gd name="textAreaLeft" fmla="*/ 275040 w 1295280"/>
              <a:gd name="textAreaRight" fmla="*/ 1020240 w 1295280"/>
              <a:gd name="textAreaTop" fmla="*/ 80640 h 380880"/>
              <a:gd name="textAreaBottom" fmla="*/ 300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491" y="21600"/>
                </a:lnTo>
                <a:lnTo>
                  <a:pt x="5109" y="216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895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2895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581280"/>
            <a:ext cx="76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58128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42670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4267080"/>
            <a:ext cx="76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26708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80060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42670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743200" y="1752120"/>
            <a:ext cx="0" cy="3429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17524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886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886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352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352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i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utas, részben asszociatív ( two way set associative) lekép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06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ach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06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ach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3048120"/>
            <a:ext cx="0" cy="213336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3048120"/>
            <a:ext cx="19051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3048120"/>
            <a:ext cx="83808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1904760"/>
            <a:ext cx="0" cy="114300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28800" y="1904760"/>
            <a:ext cx="0" cy="114300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295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 utas esetben n darab komparátor k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883-32D9-4C02-ADE9-DB51DD8A83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ovábbi gyorsítás érhető el négyutas leképez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özvetlen leképezést tekinthetjük „egyutasna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entium: kétutas, i80486: négyu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utas leképezés azonos méretű tárakkal is lehetséges, ilyenkor a blokk-szá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 felezzük, ill. negyedeljük, de a kevesebb blokk miatt nem érvényesül a több út elő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4F7-11ED-478F-A8FC-7EB5B09CAB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eljesen asszociatív leképez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ezérlőtárat cseréljük le tartalom szerint címezhető tárol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artalom szerint címezhető tároló minden egyes rekeszén azonos időben lehet keresni, tehát nincs szükség a blokkcím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vel nincs blokkcím, bármely blokk a cache tár bármely helyén elhelyez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ezérlőtárban a lapcím van, ezt hasonlítjuk össze a fizikai cím megfelelő részével, találat esetén a rekesz pozíciója címzi a cache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E68-509E-4E0A-9594-A2BB394D1E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685800"/>
            <a:ext cx="52578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apcím (lap sorszá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685800"/>
            <a:ext cx="14097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yte 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8440" y="228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228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28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2096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02920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yorsító vezérlő-t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= érvényesség jelző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029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yorsító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72428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219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3429000"/>
            <a:ext cx="32004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429000"/>
            <a:ext cx="32004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1219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1676520"/>
            <a:ext cx="2057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17524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001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5438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15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2448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58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457840" y="190512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209680"/>
            <a:ext cx="533520" cy="2819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429000"/>
            <a:ext cx="533520" cy="30492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581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352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lálat 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DBA-5E70-4F95-974A-B9567513807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ache helye, további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rtuális megvalósítás: a cache a processzor és a memóriakezelő egység (MMU) között található, így virtuális címekkel dolgo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ond: egy virtuális cím több valós címnek felelhet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lós megvalósítás: a cache az MMU és a memória között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memóriacímnek csak egy megfelelője lehet a gyorsítótá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yorsítótáras adatok lehívása leh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1C8-8CD0-4F56-AFEB-8D438ACCC4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Átnéző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: a vezérlő először a gyorsítótárban keres, és csak akkor fordul az operatív tárhoz ha nincs találat (egyszerűbb, de lass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lnéző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: a vezérlő egyszerre indítja a keresést a gyorsítótárban és a memóriában. Ha a gyorsítótárban találat van, a memória-keresést leáll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ehozási eljárás (fetch polic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gény esetén (ha nincs találat, ez a mi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relátással, az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edikkel együtt az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i+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e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lektíve, pld. adatot vagy utasít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4A2-9F7D-4FEC-B3E3-D79C17712A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yettesítési eljárások (közvetlen vezérlésre már láttuk, ott nem gon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életlenszer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régebben használt, 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ritkábban használt,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ső be- első ki , F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legutóbb használt, N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oldá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RU: számláló, adott időnként nő, hozzáférés törli, a max. értéket keress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FU: számláló, adott időnként törlés, hozzáférés növeli, a min. értéket keress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762-D28B-43CC-A053-6126D5A9AF8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gyorsítótár koherenciá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herencia: azonos adat a gyorsítótárban és a memóri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rissítési eljárá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Átírá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write through), minden írás két helyen történik: a gyorsítótárban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é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 memóriá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, de minden írást találati hibaként kell kezelni, ez lass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write through with write allocate: ír és behoz, OME-be és cache-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write through with no write allocate: csak ír, az OME-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isszamásolá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(write back), az írás csak a gyorsítótárat változtatja, ezt egy flag jelzi (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rty), és csak akkor másolódik az adata a memóriába, ha az adott blokkot a cache-ben felül kell í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evésbbé lassít, de a DMA gondot oko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E3A-9D0D-489A-B1B0-8FAED453CE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herencia több ad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rrás esetén (CPU &amp; DMA, multiprocessz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figyelés: a vezérlő figyeli a sínt és automatikusan törli az érvényesség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a V bitet), ha másvalaki a cache-ben lévő adatot tartalmazó címre í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MA keresztülírás: memóriába történő írás esetén az adat a gyorsítótárba is beíródik. Bonyolult vezérl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ltiprocesszoros rendszerek: MESI protoko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odified, Exclusive, Shared, Invalid jelzőkre alapozott eljárás, ennek alapján frissítendő a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7C5-994B-4FBF-B41C-B6DA63F3C4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3595320"/>
            <a:ext cx="838224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lálati hiba ará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miss rate): hány %-ban nem találjuk a keresett informáci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rtuális tár (ld. később) : 1% körül elfogad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orsítótár: kisebb a sebességkülönbség, ezért akár 10% is elfogad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18288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685800"/>
            <a:ext cx="1752480" cy="106668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yorsítót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ca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609480"/>
            <a:ext cx="167652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tí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80880"/>
            <a:ext cx="198144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irtuál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59092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~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0-2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5909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64~512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~10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5909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00~200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~1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5909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2~256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~2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AEB-2242-4958-9416-4E8C9E73F7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gyéb hozzáférés gyorsít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 átszövés (interlea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emóriát tömbökbe (bank) szervezik. Ha ugyanabból a tömbből olvassuk ki az egymás utáni byte-okat, két olvasás között a teljes hozzáférési időnek el kell teln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ervezzük úgy, hogy egy tömbben tároljuk az összes páros című byte-ot, egy másikban az össze páratlan című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gy egy szó kiolvasásakor a CPU elindítja az első olvasást a páros címről és még mielőtt az befejeződne, indítja az olvasást a másik tömbbő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ét tömb működése átfedi egymást, az eredmény: a hozzáférési idő kisebb le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ttól függően, hogy hány tömbünk van, beszélünk kétutas, négyutas átszövésrő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543-AC8C-4825-A601-3F60EBB72D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urst sínciklus: egyes processzorok (i386, i486) a 32 bites címet két részre osztjá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0~3: byte engedélyezés, az alsó két címbit dekódolt érté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2~A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talában egy tetszőleges címről két óraciklus alatt olvasható be a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címzés olyan, hogy a beolvasandó adat kezdőcíme xxxx xxx0, végcíme pedig xxxx xxxF, azaz csak az A4~A31 változik, akkor  lehetőség van lökésszerű olvasásra,ez a „burst”. Ilyenkor négy művelet 5 ciklus alatt lezaj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7ED-0960-4E3D-B74A-64F6890A51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TELJESÍTMÉNYFOKOZÓ ARCHITEKTÚRÁLIS ELV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árolókezelési problém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agyobb memóriára van szükség, mint amit a címtér megenged (tipikus a korai mikroprocesszorokná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óval nagyobb a címtér mint a meglévő operatív memória (tipikus a korszerű PC-k processzorainál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9C1-100D-47FC-9FE2-151294CD23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KIS CÍMTÉR       SOK MEMÓ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mbkapcs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0948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7840" y="2590920"/>
            <a:ext cx="6681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8160" y="2895480"/>
            <a:ext cx="1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58128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666880"/>
            <a:ext cx="1143000" cy="314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>
              <a:spcBef>
                <a:spcPts val="1250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z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4648320"/>
            <a:ext cx="17524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em kapcsolt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715000"/>
            <a:ext cx="55627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33412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952880"/>
            <a:ext cx="5562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5715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ím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334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495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ő 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1371240" y="2057400"/>
            <a:ext cx="1676160" cy="4572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352680"/>
            <a:ext cx="1523880" cy="114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352680"/>
            <a:ext cx="1523880" cy="114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352680"/>
            <a:ext cx="1524240" cy="114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EM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90920" y="44956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67080" y="44956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095880" y="44956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44953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495680" y="44956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324480" y="44953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24080" y="449532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724280" y="44956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553080" y="449532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54100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80060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9528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2590920"/>
            <a:ext cx="0" cy="3124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362320"/>
            <a:ext cx="0" cy="297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2057400"/>
            <a:ext cx="0" cy="289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0574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23623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590920"/>
            <a:ext cx="152280" cy="41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6765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16765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1846800"/>
            <a:ext cx="21333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ömbkiválasztó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og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39-3563-4E94-8371-F1AB32D3A1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tömbkiválasztó működése</a:t>
            </a:r>
            <a:br>
              <a:rPr sz="36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regiszter és 1 az n-ből dekó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részlet (Z-80 assemb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D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,0x04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Memória tömb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0x10,A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Beírás a regiszter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ei: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rev a memóriafelosz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ors, alig lassítja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 átlátszó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űködés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ndig kell nem kapcs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nnyen bővíthető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memóriatö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DA5-47C0-48BE-94A0-0769FC097F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élda (megvalósított rendsz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2286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51814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em kapcsolt EP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579132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80060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505320"/>
            <a:ext cx="22860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9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Nem kapcsolt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50532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3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209680"/>
            <a:ext cx="228600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666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apcsolt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096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7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914400"/>
            <a:ext cx="22860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1200240"/>
            <a:ext cx="18288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apcs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P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91440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10666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6 EPROM tömb (16*32 kBy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22860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6 RAM tömb        (6*16 kBy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3581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ndszeradatok, display memória,  8 k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51055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erációs rendszer rutinjai, 8 k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17C-AB1B-40FA-A31B-1ADB08ECF8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rchitektúrális változtatás kövekezmény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ubrutinhívás mód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ömbön belül, illetve közös memóriáb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ALL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ÖSSZEADÁS RU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ER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ELSŐ OPERAND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ER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MÁSOD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ás tömb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SCAL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HÍVÁST VÉGZŐ RU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OM4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MELYIK TÖMB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; ÖSSZEADÓ C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DW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OPER1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; TILOS, HIBÁ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utin-címtábla, szerkesztés, paraméter-átad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5181480"/>
            <a:ext cx="327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642-7D86-407D-B75B-F53696F8E8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KIS CÍMTÉR       SOK MEMÓ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6094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dexelt leképezés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2379960"/>
            <a:ext cx="2133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ndex( x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895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505320"/>
            <a:ext cx="373356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50532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3809880"/>
            <a:ext cx="3733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4114800"/>
            <a:ext cx="3733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572000"/>
            <a:ext cx="3733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4876920"/>
            <a:ext cx="3733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114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kiterj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ezér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z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5532480"/>
            <a:ext cx="42670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5532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55324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kiterj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t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1828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ogikai cím (processzortó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52578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320040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312408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434340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izikai cím (memóriáho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2379960"/>
            <a:ext cx="25146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ltolás (d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3200400"/>
            <a:ext cx="1218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4114800"/>
            <a:ext cx="37335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ezérlés      címkiterj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2324160"/>
            <a:ext cx="46483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ndex( x bit)     eltolás (d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2362320"/>
            <a:ext cx="0" cy="495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5532480"/>
            <a:ext cx="43052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kiterjesztés           elt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5532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9B8-1A75-48DB-AD81-C07F95ED44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z indexelt leképezés működ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móriát rögzített méretű lapokra osz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apok címét betöltjük a perifériaként címezhető indexregiszter-tömb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ogikai cím index-része kiválaszt egyet az indexregiszterek köz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választott regiszterben tárolt címkiterjesztést egyesítve a logikai címben lévő eltolással kialakul a fizikai c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izikai címből a címkiterjesztés egy lap kezdetére mutat, a lapon belüli címzést az eltolás oldja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ezérlőbitek a lapra vonatkozó információt, korlátozásokat tartalmazz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F91-3E04-40F2-9EFD-09709EBB50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it értünk 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függés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dexregiszterek száma: 2</a:t>
            </a:r>
            <a:r>
              <a:rPr b="1" lang="hu-HU" sz="2800" spc="-1" strike="noStrike" baseline="4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méret: 2</a:t>
            </a:r>
            <a:r>
              <a:rPr b="1" lang="hu-HU" sz="2800" spc="-1" strike="noStrike" baseline="4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ok száma: 2</a:t>
            </a:r>
            <a:r>
              <a:rPr b="1" lang="hu-HU" sz="2800" spc="-1" strike="noStrike" baseline="4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ljes memóriaméret: 2</a:t>
            </a:r>
            <a:r>
              <a:rPr b="1" lang="hu-HU" sz="2800" spc="-1" strike="noStrike" baseline="40000">
                <a:solidFill>
                  <a:srgbClr val="ffffff"/>
                </a:solidFill>
                <a:latin typeface="Times New Roman"/>
              </a:rPr>
              <a:t>n+d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idejűleg elérhető memória: 2</a:t>
            </a:r>
            <a:r>
              <a:rPr b="1" lang="hu-HU" sz="2800" spc="-1" strike="noStrike" baseline="40000">
                <a:solidFill>
                  <a:srgbClr val="ffffff"/>
                </a:solidFill>
                <a:latin typeface="Times New Roman"/>
              </a:rPr>
              <a:t>x+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gyük észre, hogy az egyszerre elérhető memória mérete azonos a címtér méreté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5C7-D57B-4D3E-9686-3AC8829C13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Gyorsítótár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mpont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érete: a benne tárolt adatok segítsék a találati hibák számának alacsony értéken tartás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imális hozzáférési idő találat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imális járulékos időveszteség téveszté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oherencia, azaz azonos adatok a gyorsítótárban és a memóriá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lálati hiba arány csökkent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elentős tényező a cache mérete: nagyobb cache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sebb hibaarány, DE drágább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rkezete: utasítás és/vagy adat ca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57D-5DC8-4177-89E4-F692C80E71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Az indexelt leképezés értékelé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ö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trán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szerű, rugalma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olcs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ím leképezés gyor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tt is kell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tlátszó (majdnem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ögzített lap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mogatja a multitasking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gramrészeknek nem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sszefüggő terü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DE8-A178-45CF-B88B-84CD9FB433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304920"/>
            <a:ext cx="807696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dexelt lekép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ogikai cím 16 bit, ebből a 4 MSB az index. A fizikai tár mérete 1 MB.  Mekkora az indexregiszter tábla mérete, ha a vezérléshez 2 bitet tartalm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MB tár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izikai cím: 20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ffset mérete 12 bit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lapméret 4 k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ímkiterjesztés = 20 – 12 = 8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bejegyzés a táblában: 2 + 8 = 10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dex 4 bit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bejegyzések száma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ndexregiszter tábla mérete 16 * 10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CD0-2116-46C2-A38B-3A66B9DC8AB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NAGY CÍMTÉR      KEVÉS MEMÓ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60948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rtuális tárol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kintsük a nagykapacitású háttértárat egy vituális memóriának, aminek mindig csak egy tört része található meg a fizikai memóriában, így a processzor (majdnem) teljes címterét kihasználhatjuk (Intel 386: 4GBy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sináljuk ezt olyan módon, hogy a felhasználó (a programot író) ne vegye ész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D0B-D279-4ECF-BDB8-6001320E5E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irtuális tár címzésére a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logikai cí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a valós tár címzésére a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fizikai cí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szolg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áttértár és az operatív memória között átvitelekre lesz szükség, de ezt a hardver és az operációs rendszer automatikusan vég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rre a célra szolgáló hardver elem a tárkezelő-egység (MMU, Memory Management Unit), feladata egyrészt annak nyilvántartása, hogy a virtuális tár melyik része van a memóriában és hol, másrészt ez végzi a cím logikai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izikai  átalakítás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8D4-CEC9-4876-BD09-FE3055F6599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LEKÉPEZÉS MÓD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028520"/>
            <a:ext cx="8610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árom elterjedt megoldás létezi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lapszervezé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zegmentálá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, é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lapozot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szegmentálás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ld. Intel 386-ná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pha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az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ltraSPARC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gépek egy negyedik eljárást alkalmaznak, a változó méretű lapokat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73B-457F-415C-B931-6A2BE5BD7D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95880" y="50292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LAPSZERVEZÉSŰ VIRTUÁLIS TÁROL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1371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9144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irtuális (logikai ) cím a processzort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1981080"/>
            <a:ext cx="182880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ap sorszá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1981080"/>
            <a:ext cx="198144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lt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2514600"/>
            <a:ext cx="14479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3300"/>
                </a:solidFill>
                <a:latin typeface="Times New Roman"/>
              </a:rPr>
              <a:t>Laptábla mutat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3429000"/>
            <a:ext cx="3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32004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2438280"/>
            <a:ext cx="0" cy="129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62160" y="373392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914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Operatív 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1447920"/>
            <a:ext cx="182880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4495680"/>
            <a:ext cx="228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426708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43434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47242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51055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54864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905120"/>
            <a:ext cx="1522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aptá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2057400"/>
            <a:ext cx="75960" cy="1981080"/>
          </a:xfrm>
          <a:custGeom>
            <a:avLst/>
            <a:gdLst>
              <a:gd name="textAreaLeft" fmla="*/ 48600 w 75960"/>
              <a:gd name="textAreaRight" fmla="*/ 7632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3623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2767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396252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3657600"/>
            <a:ext cx="17524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590920" y="37339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3809880"/>
            <a:ext cx="838080" cy="533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4038480"/>
            <a:ext cx="838080" cy="533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267080"/>
            <a:ext cx="1600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éd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4267080"/>
            <a:ext cx="25146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Lap kezdő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4952880"/>
            <a:ext cx="3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724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48720" y="24382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552720" y="525780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8640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590560" y="5638680"/>
            <a:ext cx="3733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5486400"/>
            <a:ext cx="17524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5105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izikai 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724280" y="1981080"/>
            <a:ext cx="3810240" cy="434880"/>
            <a:chOff x="4724280" y="1981080"/>
            <a:chExt cx="3810240" cy="434880"/>
          </a:xfrm>
        </p:grpSpPr>
        <p:sp>
          <p:nvSpPr>
            <p:cNvPr id="369" name=""/>
            <p:cNvSpPr/>
            <p:nvPr/>
          </p:nvSpPr>
          <p:spPr>
            <a:xfrm>
              <a:off x="4724280" y="1981080"/>
              <a:ext cx="1828800" cy="434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Lap sorszá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53080" y="1981080"/>
              <a:ext cx="1981440" cy="434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Eltol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505320" y="3505320"/>
            <a:ext cx="468360" cy="476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5045040"/>
            <a:ext cx="457200" cy="457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267080"/>
            <a:ext cx="41148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és             Lap kezdő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édelem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29200" y="4267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841-399A-45E6-A535-9B741665B94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űköd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operatív memóriát rögzített méretű lapokra osz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különítünk egy területet, ahol a lapok címe és egyéb adatok lesznek, ez a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laptá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aptábla kezdőcímét egy regiszterben, a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laptábl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mutató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an tar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irtuális cím két részből á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ívánt lap sor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apon belüli elto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4A9-E9E8-4E5E-B1DD-2A743A8AB5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apsorszám kijelöl egy laptábla bejegyz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bejegyzés két részből á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zérlőbitek (később tárgyalju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ap operatív memóriabeli kezdőcí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ívánt fizikai cím tehát a laptáblabeli kezdőcímnek és a virtuális cím eltolás részének egyesítéséből szárma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aptáblából történő olvasást az MMU végzi, azt a programozó nem észl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rtuális tár méretű memóriát látunk,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Két olvasás egy helyett!!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legjobb esetb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89A-EB6C-45E7-9CCC-7721F820F35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EZÉRLŐBI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ezérlőbite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zzáférési jogok, védelem (késő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nt van a lap vagy nin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nincs, akkor hol van a háttértárolón ( a címrésszel együt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benn van, akkor módosult-e a behozatal ó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lyen régen van be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 történik, ha a keresett lap nincs a memóriában?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MMU érzékeli ezt, és laphiba (page fault) keletkezik.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FF6-5368-46D2-9BB9-3190588B6F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aphibát az operációs rendszer kezeli. Beolvassa a lap tartalmát a háttértárolóról, kitölti a laptábla megfelelő bejegyzését, a vezérlőbiteket és a lap kezdőcímet egyará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ondot jelent, ha a lap behozatala idején nincs szabad hely a memóriában, azaz a laptábla minden bejegyzése érvényes lapot jelez. A megválaszolandó kérdés: melyik lap helyére hozzuk be az újat?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i válasz könnyű: a legrégebben használt (közelségi szabály) és nem módosított (nem kell kilapozni) lap helyé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662-4869-4C77-8334-4D2881BBBF7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asítások: sorban egymás után, mindig van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ok: az adatokra nem érvényesül a közelségi e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szerű cache: utasítások és adatok ugyanazt a gyorsítótárat használják.  Néha csak az utasításokra van gyorsítót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sszetett: külön utasítás és külön adat-cache van. Hatásosabb, mint az előz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de többe is ker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képezés: hogyan találjuk meg a cím alapján a szükséges információt a gyorsítótár alkalmazásával, azaz hogyan tároljuk az OME tartalmát (egy részét!) a gyorsítótá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C60-1047-494D-90D5-62ACB94CFD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yorsítási (inkább nem-lassítási) lehetősé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artalom szerint címezhető tárat alkalmazunk másod-laptáblaként. Csak néhány lap címe van benne(ár!). Egyszerre indul a keresés mindkét helyen, ha a tartalom szerint címezhető tár találatot jelez, a másik ágat leállítju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tábla méret probléma: jó lenne az MMU-ban tartani, de ahhoz mindenképpen túl nagy. Lehet akkora méretű is, hogy már az operatív memóriában is csak egy része fér el, ilyenkor a maradék a háttértáron van, és azt is lapozzuk (újabb lassulá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3B3-CED8-4AD4-99AD-FB917D736A6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apméret, laphiba és utasítás végrehajt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kkora legyen a lapméret? Mivel a háttértárolóhoz fordulás viszonylag lassú (~10 msec), az átviteli sebesség viszonylag nagy (~x Mbyte/sec) ezért célszerű nagy lapméretet választa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x lapméret következménye: a lapok végén üres helyek maradhatnak. Ezt belső fragmentációnak nevezzük. Amíg a memória  drága és kicsi volt, súlyos gondot jelentett, ez vezetett a szegmensszervezéshez. Ma már nincs jelentősé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3FA-5665-452F-BC62-956068367B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hiba és utasítás végrehajtás: egy utasítás a CPU egy regiszteréhez hozzá akarja adni egy memóriában tárolt változó értékét. Végrehajtás közben derül ki, hogy a kívánt lap nincs a memóriában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 laphiba megszakítást, pontosabban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kivétele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állapo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t ok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E: a programmegszakításokat a processzor az utasítás végrehajtása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utá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nem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közben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kezeli, ezért a hagyományos módszer nem alkalmaz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3BE-1386-4EA2-A3C4-FCA4B6EAB73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PRIVILEG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: csak ilyen vagy ennél kisebb privilégium szintű taszkok férhetnek hozzá a laph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TYP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: csak a lap típusának megfelelő műveletek hajthatók végre (pl. PUSH csak STACK típusú lap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RIGHT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: mit csinálhatunk, ha a laphoz hozzáfértünk (függ a típustól is, pl. csak olvasható, csak végrehajtható).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ÉDE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6E0-7B8E-4FB9-BFA3-1D4BE1459B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SZEGMENSSZERVEZÉSŰ VIRTUÁLIS TÁROL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990720"/>
            <a:ext cx="49528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nyv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     Szegmens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   Elt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990720"/>
            <a:ext cx="0" cy="43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990720"/>
            <a:ext cx="0" cy="43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816120"/>
            <a:ext cx="14475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nyv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zdő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9520" y="403848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03848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6280" y="375120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96960" y="375120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9520" y="230364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./vé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230364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. SIT kezdő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9520" y="259092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0200" y="259092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752480"/>
            <a:ext cx="333360" cy="33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3200400"/>
            <a:ext cx="333360" cy="33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05720" y="5105520"/>
            <a:ext cx="333360" cy="33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14479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371600" y="190512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124080" y="14479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9520" y="289548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89548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9520" y="3200400"/>
            <a:ext cx="112392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898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28600" y="19051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190512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32767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352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182880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18288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9720" y="2819520"/>
            <a:ext cx="213336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3300"/>
                </a:solidFill>
                <a:latin typeface="Times New Roman"/>
              </a:rPr>
              <a:t>j. szegmensleíró cí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3200400"/>
            <a:ext cx="2133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2286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i. szegmensindex tá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335268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33920"/>
            <a:ext cx="213336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16560" y="4724280"/>
            <a:ext cx="20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szegmensleírók táblá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981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felhasználói könyvtá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89280" y="5105520"/>
            <a:ext cx="1187640" cy="36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5105520"/>
            <a:ext cx="1008000" cy="36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Hos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84920" y="5105520"/>
            <a:ext cx="1366920" cy="36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ezdő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51840" y="5334120"/>
            <a:ext cx="353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72400" y="1828800"/>
            <a:ext cx="0" cy="327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552720" y="1828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14256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5438880"/>
            <a:ext cx="0" cy="352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1752480"/>
            <a:ext cx="333360" cy="3333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3200400"/>
            <a:ext cx="333360" cy="3333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05720" y="5105520"/>
            <a:ext cx="333360" cy="3333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76280" y="3182760"/>
            <a:ext cx="3019320" cy="287640"/>
            <a:chOff x="476280" y="3182760"/>
            <a:chExt cx="3019320" cy="287640"/>
          </a:xfrm>
        </p:grpSpPr>
        <p:sp>
          <p:nvSpPr>
            <p:cNvPr id="436" name=""/>
            <p:cNvSpPr/>
            <p:nvPr/>
          </p:nvSpPr>
          <p:spPr>
            <a:xfrm>
              <a:off x="476280" y="3182760"/>
              <a:ext cx="1123920" cy="28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96960" y="3182760"/>
              <a:ext cx="1898640" cy="28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419720" y="3200400"/>
            <a:ext cx="213336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3352680"/>
            <a:ext cx="698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51840" y="3352680"/>
            <a:ext cx="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124080" y="4572000"/>
            <a:ext cx="4127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457200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334120"/>
            <a:ext cx="565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689280" y="5105520"/>
            <a:ext cx="3562560" cy="369720"/>
            <a:chOff x="3689280" y="5105520"/>
            <a:chExt cx="3562560" cy="369720"/>
          </a:xfrm>
        </p:grpSpPr>
        <p:sp>
          <p:nvSpPr>
            <p:cNvPr id="445" name=""/>
            <p:cNvSpPr/>
            <p:nvPr/>
          </p:nvSpPr>
          <p:spPr>
            <a:xfrm>
              <a:off x="4876920" y="5105520"/>
              <a:ext cx="1008000" cy="3697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Hoss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89280" y="5105520"/>
              <a:ext cx="1187640" cy="3697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Vezérlé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84920" y="5105520"/>
              <a:ext cx="1366920" cy="3697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3300"/>
                  </a:solidFill>
                  <a:latin typeface="Times New Roman"/>
                </a:rPr>
                <a:t>Kezdőcí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82560" y="132552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42560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269712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89400" y="327672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34120" y="533412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70880" y="452592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DDB-74DF-4DFC-B532-16F37163879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gmensszervezésű virtuális tároló működése,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180800"/>
            <a:ext cx="86868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móriát tetszőleges számú, változó méretű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szegmensre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sztjuk (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nem kód, adat, stack!!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incs töredezés, alkalmazkodik a program/adatok méreté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yilván kell tartani a szegmens méret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irtuális cím három részből áll: könyv (context), szegmens (segment) és eltolás (offs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felhasználó programjaihoz tartozó szegmensindex-táblák címeit a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könyvtár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tartalmazza.  Ezek közül jelöl ki egyet a köny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C3D-696C-4F07-B0C3-F629A7E240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egmensindex-tábla kezdőcíme és a virtuális cím szegmens része kijelöli egy szegmensleíró címé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szegmensleíróban található a szegmens kezdőcíme, ezt az eltolással egyesítve létrejön a fizikai cí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yorsabb működés érdekében a szegmensleírók egy része tartalom szerint címezhető memóriában az ú.n. TLB-ben (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anslatio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okaside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ffer) talál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phiba kezelése: találni kell egy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gfelelő méretű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helyet a behozandó szegmensne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69A-E216-4AFE-B3FF-9CAF42D120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szegmensek közötti hely kisebb a szükségesnél, a lehető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elég nagy szegmens kivitele (legegyszerű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rakozás egy program befejeződésére (nem haték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egmensek egymás mellé illesztése, az ú.n.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dinamikus áthelyezé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bonyolult, hw támogatás  k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önyvtárak megfelelő ktitöltésével és megfelelő jogosultsággal ( a könytár védelmi része!) több felhasználó is hozzáférhet ugyanahhoz a szegmensh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340-72F9-409E-B060-7098E291286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özvetlen leképezés (direct mapp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yo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ítótár méretét tekintsük egy </a:t>
            </a:r>
            <a:r>
              <a:rPr b="1" lang="hu-HU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p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gyorsítótárban az adatokat több byte-ból álló egységekben, </a:t>
            </a:r>
            <a:r>
              <a:rPr b="1" lang="hu-HU" sz="3200" spc="-1" strike="noStrike" u="sng">
                <a:solidFill>
                  <a:srgbClr val="ffff00"/>
                </a:solidFill>
                <a:uFillTx/>
                <a:latin typeface="Times New Roman"/>
              </a:rPr>
              <a:t>blok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kban tárol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yen a blokk 32 byte, a lapméret 32 Kby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yen a fizikai cím 32 bites, (4 Gbyte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A közvetlen leképezés lényege, hogy az operatív memória egyes blokkjait </a:t>
            </a:r>
            <a:r>
              <a:rPr b="1" lang="hu-HU" sz="3200" spc="-1" strike="noStrike" u="sng">
                <a:solidFill>
                  <a:srgbClr val="99ff33"/>
                </a:solidFill>
                <a:uFillTx/>
                <a:latin typeface="Times New Roman"/>
              </a:rPr>
              <a:t>mindig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 a cache ugyanazon blokkjában tárolju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240-3F02-41CC-8FF5-76AF24E096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2819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apcím (T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85800"/>
            <a:ext cx="24386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lokk cím(C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685800"/>
            <a:ext cx="14097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yte cím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48440" y="228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28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28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22096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02920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yorsító vezérlő-t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= érvényesség jelző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502920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yorsító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1024x2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2920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219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219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676520"/>
            <a:ext cx="4419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676520"/>
            <a:ext cx="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5812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429000"/>
            <a:ext cx="32004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429000"/>
            <a:ext cx="32004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2209680"/>
            <a:ext cx="0" cy="2819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057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7524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001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438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715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2448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0" y="1752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63120" y="1676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457840" y="190512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209680"/>
            <a:ext cx="533520" cy="281952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429000"/>
            <a:ext cx="533520" cy="304920"/>
          </a:xfrm>
          <a:prstGeom prst="rect">
            <a:avLst/>
          </a:prstGeom>
          <a:solidFill>
            <a:srgbClr val="808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E96-A5B7-4CDA-B577-B56409B2F6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özvetlen leképezés működ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blokkcím(CBA) kijelöl egy bejegyzést a vezérlőtá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ott érvényes bejegyzés van (V bit jelzi), akkor összehasonlítja a lapcímmel (TA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megegyeznek, akkor a keresett információ a gyorsítótárban van és a cím alsó 5 bitje(O) választja ki a 32 byte valamelyik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lálati hiba esetén, a módszer lényegéből adódóan a blokkcím által kijelölt helyre be kell írn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D6A-70E6-4EE8-B215-587E75950F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gyorsítótárba a 32 byte-os blokk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ezérlőtárba a lapcí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 bitbe az érvényesség jelzés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Gondot kell fordítania koherenciára (ld. késő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rtékelés: a köz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n leképezés egyszerű, gyors (nincs csere!), de mivel azonos sorszámú blokk csak egy darab lehet benn,  viszonylag sok találati hibával működ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avítási lehetőség: növeljük a cache méret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89A-B275-4212-A763-921F6B17BA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24382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4382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 a blokkok számát szaporítsuk, hanem alakítsuk úgy, hogy több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azonos sorszámú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blokkot tudjon kezelni: tegyünk „mögé” egy ugyanolyan szerkeze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1240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124080"/>
            <a:ext cx="32004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466-3DCA-4394-BE05-7D5787DA7C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5-09-26T15:37:19Z</dcterms:modified>
  <cp:revision>97</cp:revision>
  <dc:subject/>
  <dc:title>TELJESÍTMÉNYFOKOZÓ ARCHITEKTÚRÁLIS ELVEK</dc:title>
</cp:coreProperties>
</file>