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A85-1942-495A-9880-A0DF7D2F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8C9-7686-4EE1-8056-0B386711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BC1-5B59-412C-ACC4-A3349D41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5CA-CAFD-4F58-AF9F-51E21B4C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BE1-3C40-4E99-8156-B6B70B23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FEC-8854-4B2D-9AAC-3ED5CCE4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A98-0D3A-4EC1-AE07-B56DE518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AD2-3638-4F5E-91A1-AF2B0C9E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77A-4A9F-4D6C-8F55-1A3995B1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5BD-75A9-4912-9403-C02FEF36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2E3-DB79-4A52-91FF-D9495F39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014-DAA4-4A76-90B5-078462E0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0F65-5543-47BA-9670-97B4440FA38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PÁRHUZAMOSSÁG KEZEL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ultiprogramozott operációs rendszerekben az operáció rendszer folyamatai és a felhasználói folyamatok együtt folyamatok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konkurren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halmazát alkotják. Egymásra hatásuk alapján a halmaz elemei lehetn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üggetlenek, amikor sem közös erőforrás, sem adatcsere nem teremt közöttük kapcsola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szinkronok, amikor rendszertelen időnként egymás működéséhez igazodnak és valamilyen mértékben együttműködn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58F0-F03F-4B69-87A5-6E8891D1640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24382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enti precedencia gráf értelmezése: 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utasításait 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és 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utasításai előtt kell végrehajtani, de 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és 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utasításai már konkurren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vel a precedencia gráf nem tartalmazhat hurkot, nem alkalmas ciklikusan ismétlődő számítások modellezés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228600"/>
            <a:ext cx="990360" cy="99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1219320"/>
            <a:ext cx="990360" cy="99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33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1295280"/>
            <a:ext cx="990720" cy="99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33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114440" y="1143000"/>
            <a:ext cx="228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066680"/>
            <a:ext cx="228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8E3-7786-4B47-B9B5-58DB6F829B8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megoldás lehetőségei (nem vizsgáljuk tovább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den egyes ciklikusan ismétlődő részt ábrázoljunk külön gráffal. Ez nem alkalmas az egyes ismétlések során esetleg fellelhető konkurrencia ábrázolásá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sználjunk Petri-hálót a precedencia gráf hely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onkurrencia szöveges megadására a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k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(elágazás, villa) és a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join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(csatlakozás) művelet alkalmazható (Dennis &amp; VanHorne, 1963)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ADF-C4C1-45B4-AEA3-CB9BAEB72E4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mikor a 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fork(címke)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utasítás végrehajtódik, egy új utasítássorozat keletkezik, amelynek első utasítását a címke jelöli ki. A két utasítássorozat (régi és új) konkurrensen hajtódik vég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743200"/>
            <a:ext cx="990360" cy="99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4876920"/>
            <a:ext cx="990360" cy="99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33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876920"/>
            <a:ext cx="990720" cy="99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33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294920" y="4724280"/>
            <a:ext cx="228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724280"/>
            <a:ext cx="228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2666880"/>
            <a:ext cx="31240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ork(LAB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LABEL:        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962520"/>
            <a:ext cx="990360" cy="99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37339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DC3-3AFC-4F6E-8408-24E8796E580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ork művelet párja a join. Formája: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join(számláló)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Értelmezése: minden egyes végrehajtásakor a számláló tartalma eggyel csökken. Ha a számláló nem nulla, akkor a join-t végrehajtó folyamat befejeződik v. felfüggesztőd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sználata: legyen a számláló értéke az összefutó ágak, szálak száma, így a join-t legutolsóként végrehajtó ág kivételével az összes befejeződik/felfüggesztőd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015-20E8-43A4-91E7-DE8B6A35D48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380988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ork/join ugró utasítás (goto)-szerű, struktúrálatlan nyelvi szerkez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precedencia gráf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lje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leírását adják, azaz ami a gráffal leírható az leírható fork/join-nal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304920"/>
            <a:ext cx="990360" cy="99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2743200"/>
            <a:ext cx="990720" cy="99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04920"/>
            <a:ext cx="990360" cy="99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1447920"/>
            <a:ext cx="990720" cy="99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251460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219320"/>
            <a:ext cx="2286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285640" y="1219320"/>
            <a:ext cx="2286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ED6-FE8E-4132-AF6E-02A6584703F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Két pél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3352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59092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600200"/>
            <a:ext cx="60984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60020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1295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590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5800" y="1066680"/>
            <a:ext cx="38088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1066680"/>
            <a:ext cx="30492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371240" y="2209680"/>
            <a:ext cx="3049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209680"/>
            <a:ext cx="30492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429000"/>
            <a:ext cx="19047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ount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K(L1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2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GOTO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1: 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2: JOIN(count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160020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90920"/>
            <a:ext cx="60984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590920"/>
            <a:ext cx="60984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160020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60020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53352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350532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371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1295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590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2590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505320" y="1066680"/>
            <a:ext cx="76176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11430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1066680"/>
            <a:ext cx="83844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2209680"/>
            <a:ext cx="22860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2057400"/>
            <a:ext cx="13716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962520" y="2209680"/>
            <a:ext cx="4572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133720"/>
            <a:ext cx="4572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334120" y="2209680"/>
            <a:ext cx="30456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3200400"/>
            <a:ext cx="381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800600" y="3200400"/>
            <a:ext cx="3808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304920"/>
            <a:ext cx="22096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ount5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ount6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ount7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K(L1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K(L2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2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K(L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GOTO 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1: 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K(L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GOTO 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2: 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JOIN(count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GOTO L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3: JOIN(count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5: JOIN(count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460-259B-435C-9FD0-B9A23C9E003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parbegin (CoBegin) és parend (CoEn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Dijkstra, 19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ork/join struktúrált megfelelője. Alak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;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parbegin 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Courier New"/>
              </a:rPr>
              <a:t>1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; 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Courier New"/>
              </a:rPr>
              <a:t>2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; ... 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Courier New"/>
              </a:rPr>
              <a:t>n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 par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Courier New"/>
              </a:rPr>
              <a:t>n+1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ét kulcsszó közötti utasítások különböző szálakban konkurrensen hajthatók végre. Miután az összes befejeződött, a 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parend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végrehajtásával a szerkezet lezár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em írható le vele minden precedencia grá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FC97-8D43-4682-BE5F-E25BB5263C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élda: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= x + y;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 = z + 1;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 = a – b;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w = c + 1;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lakítsuk át konkurrensen végrehajthatóvá: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arbegin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= x + y;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 = z + 1;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arend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 = a – b;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w = c +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BF3-2EB5-4988-884E-DCCCD93318E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kritikus szakasz problémá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 program kódjában a kritikus szakasz  olyan rész amelyben a más szálak által is elérhető adatok nem konzisztense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ás megfogalmazásban: a kritikus szakasz olyan prgramrész amelyben bizonyos adatok állapotával kapcsolatosan tett állítások nem biztosan igaz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más folyamatok, szálak hozzáférnek ezekhez az adatokhoz a kritikus szakaszban, az a vizsgált program helytelen működéséhez (összeomlás, helytelen eredmények, stb.) vezethet.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nnek megelőzésére más folyamatok, szálak hozzáférését a kritikus szakasz alatt meg kell gátoln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0C4-A469-4994-A4A0-F337CA3ABE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t rendszerint valamilyen zárolási mechanizmussal (lock) érjük 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úl hosszú kritikus szakaszok azonban kedvezőtlenül hatnak a rendszer működésé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81B-AE03-4AE2-8DA0-FE0E5240C23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együttműködés jellege szerint lehetn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őforrásokért versengő, egyéb kapcsola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 nem tartó folyamatok (pld. egyprocesszoros multitaszkos rendszer nem preemptálható erőforrását használó két foly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ooperáló folyamatok, amelyek közös cél érdekében működnek együtt, ugyanakkor es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ként erőforrásokért versengenek (termelő-fogyasztó kapcso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ükség van eszközökre a konkurrencia leírásásra, illetve a szinkronizáció megvalósításá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 lehet a közös memória vagy pedig üzenetvál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D22-71C2-4B81-952B-0A6974EEA6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Kritikus szakasz védelme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est and Set utasítás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Lock = false;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 // iniciali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zá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while( TestAndSet(Lock) 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/ Itt van a kritikus szakas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Lock = fals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4876920"/>
            <a:ext cx="1218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5181480"/>
            <a:ext cx="1067040" cy="4572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5181480"/>
            <a:ext cx="1066680" cy="4572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5181480"/>
            <a:ext cx="2057400" cy="4572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ovább f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5638680"/>
            <a:ext cx="1067040" cy="4572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5638680"/>
            <a:ext cx="1066680" cy="4572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5638680"/>
            <a:ext cx="2057400" cy="4572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Várakoz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4724280"/>
            <a:ext cx="1067040" cy="4572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724280"/>
            <a:ext cx="1066680" cy="4572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724280"/>
            <a:ext cx="2057400" cy="4572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03C-9B30-430C-944B-704F99C6522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Szemaforok alkalmaz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Jelölésmód: legyen </a:t>
            </a: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egy szemafor. Két oszthat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an műveletet értelmezü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raj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wait(s):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várakozás amíg s&gt;0 nem teljesül, akkor s csökkentése eggy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signal(s)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: s növelése eggy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C85-FEE2-4B8A-9D6B-FA465C7EACB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Kölcsönös kizárás szemaforr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YPE semaphore =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[0..1]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VAR mutex : semaphore := 1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ROCESS 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* 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belépési szakasz *)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   wait(mute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(* kritikus szakasz 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signal(mute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(* kilépési szakasz 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END p;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C86-347B-47A2-A70F-AEAE5A8E2AC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Szemaforra vonatkozó összefüggés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ktuális érték = kezdeti érték + signal műveletek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áma – wait műveletek szá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vel definíció szerint az aktuális érték &gt;= 0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ezdeti érték + signal műveletek száma – wait műveletek száma &gt;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zt a szemaforok invariancia feltételének szokták nevezni, felhasználható a szemaforokat alkalmazó programok helyességének ellenőrzésé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gazoljuk, hogy legfeljebb egy szál lehet kritikus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akaszban, ha azt egy szemafor vé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AB6-BB41-43BC-A25B-0603F5DA4E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szemafor kezelés logikájából következik, hogy minden (jó) programban a 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signal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műveletet megelőzi egy 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wait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együk fel, hogy N(&gt;=0) szál van saját kritikus szakaszában, akkor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 = wait(mutex) szám – signal(mutex) szám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sználjuk az invariancia feltételt és az előző összefüggést: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1 + signal(mutex) szám – wait(mutex) szám &gt;= 0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1 – (wait(mutex) szám – signal(mutex) szám)&gt;=0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1 – N &gt;= 0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1 &gt;= N &gt;= 0, azaz N vagy 1 vagy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34F-F0E6-4C99-A4B5-3B30DFFA289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Szemafor megvalósítás (o.s. kernelb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YPE semaphore =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          RECORD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              val : CARDINAL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              queue : Process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          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ROCEDURE wait( VAR s : semaphore )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 BEG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     IF s.val = 0 THE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        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hívó folyamatot az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.queue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sorba fűzi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        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hívó folyamatot leállítja (blokkolja)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     END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     DEC( s.val )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      END wai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980-6D40-43DC-932B-087A82157F0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ROCEDURE signal( VAR s : semaphore );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            VAR p : Process;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BEGI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     INC( s.val );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     IF NOT empty(s.queue) THE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            p :=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 folyamat az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.queue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sorból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             QInsert( p, ReadyQueue );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ND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ND sign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elytelen szemafor használat okoz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oltpontot, végtelen várakozást, kölcsönös kizárás sérülésé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380-B86F-4C0F-8A42-AD129E0EEB4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Szinkronizáció szemaforok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eladat: az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olyamat nem lépheti át az L1 pontot amíg a B át nem lépte L2-t. (aszimmetrikus szinkronizáció v, várakoztatás)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   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ar mehet : semaphore :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5800" y="2819520"/>
          <a:ext cx="8077320" cy="335268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ss A:</a:t>
                      </a:r>
                      <a:br>
                        <a:rPr sz="2800"/>
                      </a:b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.........</a:t>
                      </a:r>
                      <a:br>
                        <a:rPr sz="2800"/>
                      </a:b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it( mehet); { L1 pont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.</a:t>
                      </a:r>
                      <a:br>
                        <a:rPr sz="2800"/>
                      </a:br>
                      <a:br>
                        <a:rPr sz="2800"/>
                      </a:b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d 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ss B:</a:t>
                      </a:r>
                      <a:br>
                        <a:rPr sz="2800"/>
                      </a:b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..........</a:t>
                      </a:r>
                      <a:br>
                        <a:rPr sz="2800"/>
                      </a:b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gnal(mehet); { L2 pont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.</a:t>
                      </a:r>
                      <a:br>
                        <a:rPr sz="2800"/>
                      </a:br>
                      <a:br>
                        <a:rPr sz="2800"/>
                      </a:b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d B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0EB-48B7-48EF-BD1F-3368FDA00FA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38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immetrikus szinkronizáció v. korlátos puffer v. termelő-fogyaszt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CONST N = 10;  (*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p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uffer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éret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*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VAR   buffer : ARRAY [1..N] OF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éte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in,out : [1..10] := 0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_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ely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: semaphore := N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_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éte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: semaphore := 0;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 mutex : semaphore := 1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7B3-C9BC-4668-BAF0-0C463A755E5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457200" y="270000"/>
          <a:ext cx="8458200" cy="6588000"/>
        </p:xfrm>
        <a:graphic>
          <a:graphicData uri="http://schemas.openxmlformats.org/drawingml/2006/table">
            <a:tbl>
              <a:tblPr/>
              <a:tblGrid>
                <a:gridCol w="4114800"/>
                <a:gridCol w="4343400"/>
              </a:tblGrid>
              <a:tr h="66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SS 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melő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R i :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étel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GIN</a:t>
                      </a:r>
                      <a:br>
                        <a:rPr sz="2400"/>
                      </a:b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OP </a:t>
                      </a:r>
                      <a:br>
                        <a:rPr sz="2400"/>
                      </a:b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 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meli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; 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 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it(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_hely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;</a:t>
                      </a:r>
                      <a:br>
                        <a:rPr sz="2400"/>
                      </a:b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it(mutex); 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*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étel elhelyezése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)</a:t>
                      </a:r>
                      <a:br>
                        <a:rPr sz="2400"/>
                      </a:b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uffer[in] := i;</a:t>
                      </a:r>
                      <a:br>
                        <a:rPr sz="2400"/>
                      </a:b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 := (in+1) MOD N;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 signal(mutex);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 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gnal(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_tétel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D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D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ermelő</a:t>
                      </a: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  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SS 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gyasztó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</a:t>
                      </a:r>
                      <a:br>
                        <a:rPr sz="2800"/>
                      </a:b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R i : 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étel;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 BEGIN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 LOOP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it(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_tétel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;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it(mutex);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* 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étel kivétele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*)</a:t>
                      </a:r>
                      <a:br>
                        <a:rPr sz="2800"/>
                      </a:b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 := buffer[out]; </a:t>
                      </a:r>
                      <a:br>
                        <a:rPr sz="2400"/>
                      </a:b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 := (out+1) MOD N;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gnal(mutex);</a:t>
                      </a:r>
                      <a:br>
                        <a:rPr sz="2400"/>
                      </a:b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gnal(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_hely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;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fogyasztja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;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 END;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D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gyasztó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7CD-C2AB-4F9D-977A-EA348120DBC4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28600"/>
            <a:ext cx="815328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özös memórián át történő együttműködés: PRAM modell (Pipelined 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iegészítések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olvas-olva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ütközés: ugyanazt olvass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olvas-ír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ütközés: a rekesz felülíródik, az olvasott érték vagy a régi vagy a beírt, harmadik érték nem le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ír-ír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ütközés: a rekesz tartalma megegyezik az egyik beírt adattal, harmadik érték nem le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tás: előre nem ismert sorrendben történő végrehajtással egyezik meg, innen a né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E38-0A38-42ED-A38E-9EEA5CAE054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szinkronizáció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 folyamat működésének olyan időbeni korlátozása amelyik egy másik folyamat végrehajtásától függ. Leh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sőbbségi sorrend (precedencia) biztosítása. Jelölé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az a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folyamat S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utsításcsoportjának meg kell előznie a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folyamat S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utasításcsoportját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élda: egyik folyamat egy kamera képét digitalizáltan elhelyezi a memóriában, a másik élkiemelést végez és megjeleníti az eredmény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743200" y="2819520"/>
                <a:ext cx="25336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bSup>
                    <m:r>
                      <m:t xml:space="preserve">→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4D3-A841-414B-8244-46CCD5EAD1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idejűség (randevú), amikor a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folyamat S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utsításcsoportjához és a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folyamat S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utasításcsoportjához tartozó utasítások végrehajtását egyidejűleg (logikai értelemben!) kell elkezdeni. Úgy képzelhetjük, hogy a két külön-külön futó folyamat bevárja egymást, rövid ideig együttműködnek (pld. adatcsere), majd ismét külön futnak tová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ölcsönös kizárás, amikor a két utasításcsoport utasításai közül csak az egyikhez (mindegy, hogy melyikhez) tartozó utasítások hajthatók vég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18D-CCE1-48D2-9970-40D17C7F01E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párhuzamos végrehajtás feltétel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incs elvileg megalapozott feltételrendszer, inkább azokat a feltételeket adják meg, amelyek kizárják a párhuzamos végrehajtá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datfüggőség, azaz S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végeredményét használja S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nti-függés: bemeneti változó felülír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imeneti függés: közös eredményváltozó haszná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/O függés: írás ugyanabba a fájl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éb függé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emlineáris indexe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Indexelt indexek alkalma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iklusváltozóra nem hivatkozó indexe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5C5-4F16-4724-8DE7-799DA72280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ezérlés függés:azok az esetek, ahol a vezérlés függ az adatok értékétől, pld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 Unicode MS"/>
              </a:rPr>
              <a:t>for (i=1; i&lt;n; i++)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</a:rPr>
              <a:t> if (a[i-1]</a:t>
            </a:r>
            <a:r>
              <a:rPr b="1" lang="hu-H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</a:rPr>
              <a:t>==</a:t>
            </a:r>
            <a:r>
              <a:rPr b="1" lang="hu-H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</a:rPr>
              <a:t>0) a[i]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4B7-3B81-42D8-A105-0753D41D528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konkurrencia leírásának eszköz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onkurrens folyamatok utasításainak egymáshoz viszonyított sorrendje közömbö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konkurrens folyamatok utasításai (utasításcsoportjai) között viszont meg kell adni a sorrendet. Ennek grafikus leírása a precedencia grá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precedencia gráf csomópontokból és irányított élekből á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csomópontok utasítás(csoport)ok, az élek az előbb végrehajtandó csomóponttól a később végrehajtandóhoz mutatn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BA2-BD3C-49C5-8BBC-09FBBB34F4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precedencia gráf nem tartalmazhat hurkot, mivel semmi sem hajtható önmagánál előbb vég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, hogy a gráf csomópontjai egy utasítást, egy eljárást vagy egy egész folyamatot jelölnek, a gráf illetve a konkurrens végrehajtás „szemcsézettségének” (granularity) mérté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4876920"/>
            <a:ext cx="990720" cy="99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5410080"/>
            <a:ext cx="1752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4876920"/>
            <a:ext cx="990720" cy="99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33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E00-B5C9-4753-ADEC-B232FEFC717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filp</cp:lastModifiedBy>
  <dcterms:modified xsi:type="dcterms:W3CDTF">2004-11-22T13:03:06Z</dcterms:modified>
  <cp:revision>163</cp:revision>
  <dc:subject/>
  <dc:title>TELJESÍTMÉNYFOKOZÓ ARCHITEKTÚRÁLIS ELVEK</dc:title>
</cp:coreProperties>
</file>