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F51-A048-41DA-8293-5E20F85F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38C-F053-43F9-A7FC-36E93D74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144-70C5-4602-99DE-E04C8934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9E6-8341-444E-BA62-71FE37CE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688-DBE1-4FC2-93B9-38D433D4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3F8-ABED-4E0F-B4DB-F6A8258E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8C9-7C36-4CA9-9C4D-4ABDDA8A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817-ADAD-411F-92DE-259B1665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D7B-6E42-46B3-B1C4-4FD2E3C1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EA9-8C50-419D-8E38-3643AC81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D3C-DC06-487B-B0C2-0D453E44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003-DB06-4035-A38C-1811CB95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3DED-E5AE-44B0-8EC8-79A1A884F0F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SZÁMÍTÓGÉP FELÉPÍTÉSE,  FUNKCIONÁLIS EGYSÉG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eumann elvek (19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gép legyen teljesen elektronikus, külön funkcionális egységekből áll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sználja a kettes számrendsz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Adatokat és programokat ugyanabban a memóriában táro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gyen az általános Turing-gép megvalósítása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CA7-8A2C-4287-A5E6-5A5A5EC4CEA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tvitel végén a címregiszter tartalma módosul, a byte számláló csö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eléri a 0 értéket, a DMA vezérlő megszakítással jelez a CPU-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éb lehetőség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utomatikus újratöl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-memória közötti átvitel (szoftver DMA kér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gramozható csatornaprioritás (rögzített, körbeforgó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aszkádosítás, csatorna maszko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D32-42B1-4EE9-BB28-D4263D5480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TÁRSPROCESSZOR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: speciális feladatok elvégzésére  alkalmazzunk specializált eszközt (lebegőpontos aritmetika, I/O művelet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társprocesszor is a sínekre csatlakozik, de közvetlen kapcsolata is van az általános processzor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az általános processzor olyan kódot érzékel, amit a társprocesszor hajt végre (és érzékeli a társprocesszor jelenlétét), akk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elfüggeszti működését és vár a művelet eredményé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674640"/>
                <a:tab algn="r" pos="4087800"/>
                <a:tab algn="l" pos="418788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ovább fut, és akkor vár, amikor az eredmény kell neki (csak ha nem kell címet számítania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C17-037E-4D39-8CF0-8C020AC6BD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közben a társprocesszor végrehajtja a neki szóló utasítás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a társprocesszornak memóriához kell fordulnia, akkor a címszámítást az általános processzor végzi 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memóriaművelet végrehajtásának módj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általános processzor végzi és az adatot adja 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kiszámított címet adja át és a memóriaműveletet a társprocesszor vég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59D-143F-412C-B292-5E4A7D1E3B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380880"/>
            <a:ext cx="24382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057400"/>
            <a:ext cx="23623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ín vezér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124080"/>
            <a:ext cx="243864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Univerzál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rocessz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200400"/>
            <a:ext cx="243864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ársprocessz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3962520"/>
            <a:ext cx="23619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4419720"/>
            <a:ext cx="236196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990720"/>
            <a:ext cx="1143000" cy="304560"/>
          </a:xfrm>
          <a:prstGeom prst="leftArrow">
            <a:avLst>
              <a:gd name="adj1" fmla="val 50000"/>
              <a:gd name="adj2" fmla="val 9382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1066680"/>
            <a:ext cx="152280" cy="251460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3429000"/>
            <a:ext cx="2361960" cy="304920"/>
          </a:xfrm>
          <a:prstGeom prst="leftRightArrow">
            <a:avLst>
              <a:gd name="adj1" fmla="val 50000"/>
              <a:gd name="adj2" fmla="val 154206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600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álla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ezér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743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800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nyereség annyi, amennyivel a társprocesszor gyorsabb, mert általában csak az egyik processzor működ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B4F-D26E-4230-9952-53CF21DC1FB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FEJLŐDÉS IRÁNY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jtóerő: gyorsabb, nagyobb teljesítményű gépeket kívánnak az alkalmaz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datszélesség növeked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(8) 16, 32, 64 bites adatszéles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ebességnövekedést jelent, mert nem kell „több szavas” operandusokkal dolgoz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ímsín szélessége is nő az adatszélességgel, így nő  a megcímezhető tárolóterü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em csak a CPU, hanem a perifériák is több biten működnek: ez minőséget javít, gyorsít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A66-CB36-4721-BFEF-AE2F9634AB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TÖBBPROCESSZOROS GÉP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nem megy gyorsabban, csináljuk több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MultTile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3341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EB1-D5A1-4E07-AFAE-E7DA3EDF9D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NEUMANN-FÉLE FUNKCIONÁLIS FELOSZT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3276720"/>
            <a:ext cx="2057400" cy="11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Központi feldolgozó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1371600"/>
            <a:ext cx="2057400" cy="11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352680"/>
            <a:ext cx="2057400" cy="118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viteli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3276720"/>
            <a:ext cx="2057400" cy="11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Kiviteli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876920"/>
            <a:ext cx="2057400" cy="11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ezérlő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37339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37339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590920"/>
            <a:ext cx="304920" cy="685800"/>
          </a:xfrm>
          <a:prstGeom prst="upDownArrow">
            <a:avLst>
              <a:gd name="adj1" fmla="val 50000"/>
              <a:gd name="adj2" fmla="val 4477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16002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95680" y="4419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676520" y="541008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76520" y="44956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5410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315200" y="44956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71800" y="510552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71800" y="1980720"/>
            <a:ext cx="0" cy="3124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19810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27432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2514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ezér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B2E-84CA-4B37-BC0F-E14BF31FB4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redetileg az egységek között pont-pont összekött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felosztás alapjaiban ma is érvényes, a vezérlő egység funkciója megoszlik a többi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52892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kapcsolódás módja megváltozott: sín-rendszerű l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724280"/>
            <a:ext cx="2057400" cy="118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Központi feldolgozó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4724280"/>
            <a:ext cx="2057400" cy="118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724280"/>
            <a:ext cx="2057400" cy="118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Be/Kiviteli egység(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267080"/>
            <a:ext cx="8229600" cy="0"/>
          </a:xfrm>
          <a:prstGeom prst="line">
            <a:avLst/>
          </a:prstGeom>
          <a:ln w="114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343400"/>
            <a:ext cx="228600" cy="38088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4343400"/>
            <a:ext cx="228600" cy="38088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4343400"/>
            <a:ext cx="228600" cy="38088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A51-9B9B-4B80-AFA8-AECA8F57AD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funkcionális modulok szere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ínrendszer: a modulok közötti kapcsolat biztos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dat, cím és vezérlős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séges (szabványosított) mechanikai, elektromos, időzítési és működési előírások (ISA, EISA,PCI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PU: adatfeldolgozás, a vezérlés egyes feladata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gisztertömb, jelzőbi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ritmetikai/logikai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ínillesztő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: adatok és program táro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peratív: itt van a futó program és adat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52560"/>
                <a:tab algn="l" pos="2103480"/>
                <a:tab algn="l" pos="3711600"/>
                <a:tab algn="r" pos="60930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/O egységek: kapcsolat a külvilággal (blokk, karak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243-A5E4-4F1C-8D5B-AF0A777E8E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Részletezett struktúra (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914400"/>
            <a:ext cx="205740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914400"/>
            <a:ext cx="205740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914400"/>
            <a:ext cx="1219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438280"/>
            <a:ext cx="8229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66688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8229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295280"/>
            <a:ext cx="20574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giszt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676520"/>
            <a:ext cx="205740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LU  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1295280"/>
            <a:ext cx="205740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AM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12952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6765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1981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19810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15238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152388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152388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0574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0574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205740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914400"/>
            <a:ext cx="14479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T.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114300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352680"/>
            <a:ext cx="990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3352680"/>
            <a:ext cx="19051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UART(S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3352680"/>
            <a:ext cx="10666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3352680"/>
            <a:ext cx="14479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DD/H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352680"/>
            <a:ext cx="914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352680"/>
            <a:ext cx="7621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3623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6668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895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2895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895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2895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2895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2895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6668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26668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26668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26668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23623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3623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24382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23623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6668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438280"/>
            <a:ext cx="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14479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480060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480060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80060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952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ím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4952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ezérlő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49C-3375-4083-A2F0-9F9B82BDD8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EGY EGYSZERŰ CPU: i80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380952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hívás és végrehajtás időben átfedi egymá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tasítás pip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IU: címszámítás, adatmozgatás, sínvezér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U: utasítás dekódolás, végrehaj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IU és EU autonóm működik, sebesség-kiegyenlítésre a Q sor szolg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066680"/>
            <a:ext cx="19051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égrehajt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gység (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066680"/>
            <a:ext cx="190476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ínillesztő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gység (BI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1523880"/>
            <a:ext cx="19051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Utasít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égrehatá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or 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1295280"/>
            <a:ext cx="32767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00240" y="190512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5640" y="19051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83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743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utas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1371600"/>
            <a:ext cx="838440" cy="380880"/>
          </a:xfrm>
          <a:prstGeom prst="leftRightArrow">
            <a:avLst>
              <a:gd name="adj1" fmla="val 50000"/>
              <a:gd name="adj2" fmla="val 43823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990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666880"/>
            <a:ext cx="19051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Társprocessz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(opcioná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380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23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05A-3F4B-4A94-81B7-1411070A15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190512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28600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66688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04812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8088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H    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76212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BH    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14300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H   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H    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106668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144792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182880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220968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685800"/>
            <a:ext cx="20574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4038480"/>
            <a:ext cx="2057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5334120"/>
            <a:ext cx="13716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Flag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124080"/>
            <a:ext cx="137160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ér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5029200"/>
            <a:ext cx="106668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Ut. 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0"/>
            <a:ext cx="0" cy="5562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350532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6668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733920"/>
            <a:ext cx="2666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86200" y="289548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89548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09960" y="3695760"/>
            <a:ext cx="76320" cy="76320"/>
          </a:xfrm>
          <a:prstGeom prst="flowChartConnector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733920"/>
            <a:ext cx="75960" cy="75960"/>
          </a:xfrm>
          <a:prstGeom prst="flowChartConnector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857680"/>
            <a:ext cx="76320" cy="75960"/>
          </a:xfrm>
          <a:prstGeom prst="flowChartConnector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5105520"/>
            <a:ext cx="0" cy="358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464080"/>
            <a:ext cx="1028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638680"/>
            <a:ext cx="13334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105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6095880"/>
            <a:ext cx="2286000" cy="43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Vezérlő, időzí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733920"/>
            <a:ext cx="0" cy="2361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48120" y="52578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029200" y="518148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47242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50532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419112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3124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16-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4419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00-AD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80880"/>
            <a:ext cx="0" cy="160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876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5638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380880"/>
            <a:ext cx="609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76212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14300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D2B-324C-4783-BDB7-6616F309E14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ff"/>
                </a:solidFill>
                <a:uFillTx/>
                <a:latin typeface="Times New Roman"/>
              </a:rPr>
              <a:t>KIEGÉSZÍTŐ EGYSÉGE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MA: közvetlen memóriahozzáfé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datátvitel a memória és a perifériák között a CPU közreműködése 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nélk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űködés két fázisb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CPU beállítja a memória-címet, átviendő adatmennyiséget, átvitel módj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DMA önállóan működik: megszerzi a sín vezérlésének jogát, generálja a memóriacímet és a szükséges vezérlőjeleke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ny: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yorsabb működés, a CPU-t nem terheli az adatátvi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ódok: egy byte, blokk, periféria-vezér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CB1-B767-4D56-B197-576DBF7246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DMA és CPU kapcsol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DMA-hoz átvitelkérés érkezik a perifériától a DREQx bemeneten. (Legyen a művelet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írá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atására a HRQ kimeneten elkéri a CPU-tól a sínek használatának jogát, amit a CPU a HLDA jellel jel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t a DMA a DACKx kimeneten át tudatja a perifériával, kiadja a memória címet, az IOR és a MEMW jelet (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egyszerre!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). Közben a többi periféria tiltott (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DACKx a kiválasztójel!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143000"/>
            <a:ext cx="12193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1143000"/>
            <a:ext cx="12193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167652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236232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13716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67652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R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L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914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REQ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1752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ACK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D08-1C4E-4086-B17E-59EF7E3BEC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31:50Z</dcterms:created>
  <dc:creator>X</dc:creator>
  <dc:description/>
  <dc:language>en-US</dc:language>
  <cp:lastModifiedBy>Neuron BT</cp:lastModifiedBy>
  <dcterms:modified xsi:type="dcterms:W3CDTF">2006-01-22T20:14:53Z</dcterms:modified>
  <cp:revision>95</cp:revision>
  <dc:subject/>
  <dc:title>TELJESÍTMÉNYFOKOZÓ ARCHITEKTÚRÁLIS ELVEK</dc:title>
</cp:coreProperties>
</file>