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080-4C16-4B35-A5C2-FBA3433B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581-A3AC-4186-AA07-8F9FC3EA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5587-2A00-411D-B3AF-F39C29F9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6D50-C1F2-464B-AC8E-33C95762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ED4-83FB-43DF-9CC0-A3326CC4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45E-361F-4781-B8D1-52E6B69D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87CB-FA1E-4613-9913-0CBC1699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9861-37A1-41FA-ACF6-15D76290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A3B-5F0E-43FE-A84A-A1BF9A40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36F5-31E2-4CF0-B002-6267BFE4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AE1-12F0-49BA-A669-7DFF4C72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203-9625-4736-960E-5CC8BBAD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051A-0874-477B-8E8F-07EB6591C0D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HOLTPONTHELYZET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rőforrások használat szerint vizsgálva lehetn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Osztottan használhatóak, azaz több folyamat haszálhatja őket egyidejű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izárólagos használatúak azaz egy és csakis egy folyamat használha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rőforrások lefoglalási módj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tatikus, vagy előre történő: a folyamat az idulásakor egyszerre lefoglalja az összes erőforrást amire futása során szüksége les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gyszerű és biztonságos eljárá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Ha egy folymat el tud indulni (azaz minden erőforrást megkap), akkor erőforráshiány miatt már nem áll 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758-357F-4822-B385-CF4D272DC9F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Ciklikus várakozás felold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orszámozzuk az erőforrás osztályokat, valamilyen F függvénnyel rendeljünk hozzájuk egész számok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ezessük be az alábbi szabályoka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r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ő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r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k csak a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számok növekvő sorrendjében igényelhető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mégis kell egy az eddig igényelt legnagyobbnál kisebb számú erőforrás, akkor a már meglévő erőforrások közül az igényeltnél nagyobb számúakat fel kell szabadítani és újra igényelni (megint növekvő számok szer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828E-C255-4FDA-B994-99DCA30181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azonos számú erőforrásokat egyszerre kell igénye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Gond: milyen legyen az F függvény? Az lenne jó, ha a számok az igénybevétel ideje szerint növekednének, de ezt nem lehet előre lát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űködés bizonyítása: tegyük fel, hogy az algoritmus nem működik, ha ebből kiindulva logikai ellentmodásra jutunk, akkor a feltevés volt a hibás (kivéve, ha.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B6D-BC56-4B30-8220-3E7DF2D5EDE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együk tehát fel, hogy kialakul a fenti várakozási ciklus. Ilyenkor fenn kell állnia az: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(R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F(R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F(R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F(R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F(R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F(R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rekációnak. Mivel azonban a „kisebb” reláció tranzitív, az F(R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F(R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) ellentmondást jel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átrány: sok számítás és gyenge erőforrás kihasználá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1722240"/>
            <a:ext cx="684360" cy="62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1722240"/>
            <a:ext cx="684360" cy="62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1722240"/>
            <a:ext cx="684360" cy="62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682920"/>
            <a:ext cx="609480" cy="440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682920"/>
            <a:ext cx="609480" cy="440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682920"/>
            <a:ext cx="609840" cy="440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1722240"/>
            <a:ext cx="684360" cy="62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682920"/>
            <a:ext cx="609480" cy="440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1722240"/>
            <a:ext cx="684000" cy="62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682920"/>
            <a:ext cx="609480" cy="440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14300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114300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114300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114300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67480" y="114300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905120" y="914400"/>
            <a:ext cx="76176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352680" y="838080"/>
            <a:ext cx="60984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48320" y="1676160"/>
            <a:ext cx="152280" cy="15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952880" y="990720"/>
            <a:ext cx="457200" cy="457200"/>
          </a:xfrm>
          <a:prstGeom prst="line">
            <a:avLst/>
          </a:prstGeom>
          <a:ln w="38160">
            <a:solidFill>
              <a:srgbClr val="ffff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95880" y="1523520"/>
            <a:ext cx="304920" cy="304920"/>
          </a:xfrm>
          <a:prstGeom prst="line">
            <a:avLst/>
          </a:prstGeom>
          <a:ln w="381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629400" y="914400"/>
            <a:ext cx="457200" cy="38088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198108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8381880" y="304920"/>
            <a:ext cx="0" cy="1676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762120" y="304920"/>
            <a:ext cx="76197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04920"/>
            <a:ext cx="0" cy="533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83808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27C3-CCA7-4515-88DA-9AEA403E89E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Holtpont elkerü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eljárás lényege, hogy a rendszerben lévő folyamatokat csak „biztonságos” állapotokba engedjük jut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y állapot biztonságos, ha létezik a folyamatoknak olyan P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,P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,...P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sorozata, amelyben az adott állapotból kiindulva a folyamatok végehajthatók, úgy h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olyamatok befejezésekor erőforrásaik felszabadul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nden folyamat befejeződik, ha kellő erőforrása v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1D4-8571-4BCC-8AA6-67420F762A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öbb biztonságos sorozat is létez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rendszer állapotait ábrázolv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együk észre, hogy nem minden nem biztonságos állapot jelent holtponto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1828800"/>
            <a:ext cx="3809880" cy="198108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83720" y="2971080"/>
            <a:ext cx="2078280" cy="563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Biztonsá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11600" y="2056680"/>
            <a:ext cx="1638720" cy="56376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Holtp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2590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Nem biztonsá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30B2-7B9F-43AF-8AB3-B7DD8800E59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Bankár algorit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ezessünk feljegyzé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egyes folyamatok által maximálisan igényelhető erőforrás-számró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eddig már kielégített (allokált) erőforrásokró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még kérehető erőforrásokkró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rendszerben található még szabad erőforrásokró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k alapj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 minden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 ig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jelentke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zésekor vizsgáljuk meg, hogy ha kielégítenénk, nem biztonságos állapotba jutnánk-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8AE-5155-46EA-9D4D-6A2CBE34805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 igen, az igényt visszautasítjuk, ha nem az igényt kielégítjük és módosítjuk a nylvántartá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vel biztonságos állapotból indulunk, hiszen kezdetben még egyáltalán nem történt hozzárendelés, az algoritmus biztonságos állapotok sorozatán át vezeti a folyamato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sználjuk a következő adatok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60E-A4F5-4D11-9FFC-44B5BAA148D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NYILVÁNTARTOTT AD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AVAILABLE(1..m)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vektor, az egyes erőforrás-osztályokból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illanatnyilag rendelkezésre álló erőforrások szá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MAX(1..n,1..m)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mátrix, az egyes folyamatok maximál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rőforrás igén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ALLOCATION(1..n,1..m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) mátrix, az egyes folyamatokhoz má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hozzárendelt erőforrások szá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NEED(1..n,1..m)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mátrix, az egyes folyamatok által mé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igényelhető erőforrások szá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NEED = MAX –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EQUESTi(1..m)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vektor, az i-edik folyamat által bejelentet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ig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7984-2D2E-49E0-921A-A08C96044E5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Ha bármelyik folyamat új igénnyel jelentkezik, akko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övetkező algoritmussal kezeli az operációs 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if REQUESTi </a:t>
            </a:r>
            <a:r>
              <a:rPr b="1" lang="hu-HU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NEEDi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egin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{ a folyamat nem lépte túl a korláto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if REQUESTi </a:t>
            </a:r>
            <a:r>
              <a:rPr b="1" lang="hu-HU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AVAILABLE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egin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{elvileg kielégíthető, módosítsuk a táblá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AVAILABLE := AVAILABLE – REQUEST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ALLOCATION := ALLOCATION + REQUEST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if not Safe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egin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{ nem biztonságos, visszaállítjuk a táblákat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AVAILABLE := AVAILABLE + REQUESTi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ALLOCATION := ALLOCATION – REQUEST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wait(Pi);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{ a Pi folyamat várakoztatás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{ végrehajtjuk a tényleges hozzárendelé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lse wait(Pi);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{ nincs elég erőforrás, a folyamatnak várni kell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lse error;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{ a kérés illegális vol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16A1-D416-4806-89FD-4EB7EE91E67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z érdemi döntést a Safe függvény visszatérési értéké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lapozzuk.  A függvé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function Safe boolea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WORK(1..m);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{ a rendelkezésre álló erőforrások hely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FINISH(1..n);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{ feldolgoztuk-e a folyamatot vagy nem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{ Segédfüggvény, keresünk egy olyan i-t, hogy FINISH[i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=FALSE 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NEEDi 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WORK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function Next( var i:index ): boolea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Next := (</a:t>
            </a:r>
            <a:r>
              <a:rPr b="1" lang="hu-HU" sz="2400" spc="-1" strike="noStrike">
                <a:solidFill>
                  <a:srgbClr val="ff3300"/>
                </a:solidFill>
                <a:latin typeface="Symbol"/>
                <a:ea typeface="Symbol"/>
              </a:rPr>
              <a:t>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i) (( FINISH[i]=false </a:t>
            </a:r>
            <a:r>
              <a:rPr b="1" lang="hu-HU" sz="2400" spc="-1" strike="noStrike">
                <a:solidFill>
                  <a:srgbClr val="ff3300"/>
                </a:solidFill>
                <a:latin typeface="Symbol"/>
                <a:ea typeface="Symbol"/>
              </a:rPr>
              <a:t>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NEEDi </a:t>
            </a:r>
            <a:r>
              <a:rPr b="1" lang="hu-HU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WORK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WORK := AVAILABLE;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{kezdeti állapo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hu-HU" sz="2400" spc="-1" strike="noStrike">
                <a:solidFill>
                  <a:srgbClr val="ff3300"/>
                </a:solidFill>
                <a:latin typeface="Symbol"/>
                <a:ea typeface="Symbol"/>
              </a:rPr>
              <a:t>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i) (1 </a:t>
            </a:r>
            <a:r>
              <a:rPr b="1" lang="hu-HU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i </a:t>
            </a:r>
            <a:r>
              <a:rPr b="1" lang="hu-HU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n: FINISH[i]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while Next(i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WORK := WORK + ALLOCATION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FINISH[i]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Safe := (</a:t>
            </a:r>
            <a:r>
              <a:rPr b="1" lang="hu-HU" sz="2400" spc="-1" strike="noStrike">
                <a:solidFill>
                  <a:srgbClr val="ff3300"/>
                </a:solidFill>
                <a:latin typeface="Symbol"/>
                <a:ea typeface="Symbol"/>
              </a:rPr>
              <a:t>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i) FINISH[ i];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{ true, ha mindet sikerült befejezn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90C-D88D-4C34-91DF-04DFB95D74F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lnSpc>
                <a:spcPct val="85000"/>
              </a:lnSpc>
              <a:spcBef>
                <a:spcPts val="1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azarlás az erőforrásokkal (sokáig állnak kihasználatlanu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5000"/>
              </a:lnSpc>
              <a:spcBef>
                <a:spcPts val="1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Jelentős az éhezés veszélye (népszerű erőforrás gyorsan elf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inamikus, v. igény szerint történő: csak akkor foglalja le a folyamat az erőforrást amikor szüksége van 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Jó az erőforrás kihasználtsá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Javul a rendszer teljesítőképessége és átbocsátóképessé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folyamat gyakorlatilag azonnal el tud indul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utás közben erőforrás hiány miatt leáll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De: előállhat </a:t>
            </a:r>
            <a:r>
              <a:rPr b="1" lang="hu-HU" sz="2400" spc="-1" strike="noStrike" u="sng">
                <a:solidFill>
                  <a:srgbClr val="ffffff"/>
                </a:solidFill>
                <a:uFillTx/>
                <a:latin typeface="Times New Roman"/>
              </a:rPr>
              <a:t>holtponthelyz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oltpont (deadlock): olyan állapot amikor a rendszerben található egyetlen folyamat sem képes tovább haladni, mert mindegyik egy olyan erőforrásra vár, amit egy másik, ugyancsak várakozó folyamat tart lefoglal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B69-9A78-43D6-A38E-3B7C82EE859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Legyen P0, P1, P2, P3, P4 folyamat a rendszerben, legy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három erőforrás osztály A(10), B(5) és C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Legyen a rendszer a következő S0 állapot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2120" y="1397160"/>
          <a:ext cx="7924680" cy="4063680"/>
        </p:xfrm>
        <a:graphic>
          <a:graphicData uri="http://schemas.openxmlformats.org/drawingml/2006/table">
            <a:tbl>
              <a:tblPr/>
              <a:tblGrid>
                <a:gridCol w="1314360"/>
                <a:gridCol w="2135160"/>
                <a:gridCol w="1314360"/>
                <a:gridCol w="1865520"/>
                <a:gridCol w="129528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lyam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O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  B 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 B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 B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 B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 3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 1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 5 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 4 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 0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 2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 2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 0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  0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 0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 1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 2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 1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 0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 3 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 3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90D-0AEA-45EE-8FB8-7DE162EEA97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llenőrizzük, hogy S0 biztonságos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z, mivel létezik a &lt;P1, P3, P4, P0, P2&gt; biztonságos soroz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(Más biztonságos sorozat is v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együk fel, hogy a P1 folyamat most bejelenti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REQUEST1= (1, 0, 2) igényt. Kielégíthető-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1. REQUEST1 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NEED1 teljesül: az igény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2. REQUEST1 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AVAILABLE teljesül: az igény teljesíthet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3. Állítsuk elő az új állapotnak megfelelő tábl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80880" y="2819520"/>
          <a:ext cx="7924680" cy="3276360"/>
        </p:xfrm>
        <a:graphic>
          <a:graphicData uri="http://schemas.openxmlformats.org/drawingml/2006/table">
            <a:tbl>
              <a:tblPr/>
              <a:tblGrid>
                <a:gridCol w="1314360"/>
                <a:gridCol w="2135160"/>
                <a:gridCol w="1314360"/>
                <a:gridCol w="1865520"/>
                <a:gridCol w="1295280"/>
              </a:tblGrid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lyam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O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  B 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 B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 B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 B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  3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 1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 5 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 4 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  0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 2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  2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 0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  0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 0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 1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 2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 1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  0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 3 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 3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614-756E-4E33-806F-5C8709914F5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4. Alkalmazzuk a Safe függvény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éhány lépé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0 lehetséges igénye (7, 4, 3) a rendelkezésre álló (2, 3, 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rőforrásból nem teljesíthető, tehát P0 nem lehet a biztonság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orozat első el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1 lehetséges igénye (0, 2, 0) a rendelkezésre álló (2, 3, 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rőforrásból teljesíthető, tehát P1 lehet a biztonság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orozat első eleme &lt;P1&gt;. Felszabadulnak P1 erőforrásai, í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( 5, 3, 2) lesz a rendelkezésre álló erőforrások mennyisé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zzel akár P3 (0, 1, 1) igénye, akár P4 (4, 3, 1) igény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ielégíthető, tehát megvan a második és harmadik elem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iztonságos sorozatban &lt;P1, P3, P4&gt; vagy &lt;P1, P4, P3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Hasonlóan folytatva, kiderül, hogy létezik biztonságos soroz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&lt;P1, P3, P4, P0, P2&gt;, tehát az igény ténylegesen kielégíthet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94F-EB1E-4C0B-9054-1FC2C457B0D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UGYANAZ, MŰKÖDŐKÉPES C PROGRAMKÉ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rendszer erőforrás-osztályainak elemei: m elemű vektor, a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 az erőforrás osztályok szá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t Resources[ 3 ] = { 10, 5, 7 };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még hozzárendelhető erőforrások száma osztályonként: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lemű vektor, ahol m az erőforrás osztályok szá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t Available[ 3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z eddig hozzárendelt erőforrások, n*m elemű mátrix, ahol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folyamatok, m az erőforrások szá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t Allocation[ 5 ][ 3 ] = { { 0, 1, 0 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                         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{ 2, 0, 0 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                         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{ 3, 0, 2 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                         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{ 2, 1, 1 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                         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{ 0, 0, 2 }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99D-13BC-4ADB-939D-C3E9C9E19B3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z egyes folyamatok maximális erőforrás igénye: n*m elem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átrix, ahol n a folyamatok, m az erőforrások szá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int Max[ 5 ][ 3 ] = { { 7, 5, 3 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                               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{ 3, 2, 2 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                               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{ 9, 0, 2 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                               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{ 2, 2, 2 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                               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{ 4, 3, 3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                             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Valamelyik folymat által éppen támasztott igény: m elem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vektor, ahol m az erőforrás osztályok szá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t Requ[ 3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unkaváltozó, az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igények elbírálása során alkalmazz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t Work[ 3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unkaváltozó, azt jelzi, hogy egy folyamat az adott vizsgá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orán eljutott-e a befejeződéshez vagy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bool Finish[ 5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FB6F-B415-4E35-9543-03B60C19FE8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bool SafetyChe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bool 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or( i = 0; i &lt; 3; i++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Work[ i ] = Available[ i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or( i = 0; i &lt; 5; i++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inish[ i ]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tinue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AE88-7289-4F91-AA8A-AFD88F08731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while( Continue )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ontinue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for( i = 0; i &lt; 5; i++ )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if(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!Finish[ i ]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if( Work[ 0 ] &lt; Max[ i ][ 0 ]- Allocation[ i ][ 0 ] |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Work[ 1 ] &lt; Max[ i ][ 1 ] - Allocation[ i ][ 1 ] |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Work[ 2 ] &lt; Max[ i ][ 2 ] - Allocation[ i ][ 2 ]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endMsg( "Process can NOT be terminated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else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endMsg( "Process CAN be terminated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Finish[ i ]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for( int j = 0; j &lt; 3; j++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Work[ j ] += Allocation[ i ][ j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ontinue = true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if( !Continu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for( i = 0; i &lt; 5; i++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if( !Finish[ i ]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return i =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DAF-D091-40E4-9FFD-78EB3A51B8D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void ProcessNee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f( Requ[ 0 ] &gt; Max[ ReqProc ][ 0 ]- Allocation[ ReqProc ][ 0 ] 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equ[ 1 ] &gt; Max[ ReqProc ][ 1 ] - Allocation[ ReqProc ][ 1 ] 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equ[ 2 ] &gt; Max[ ReqProc ][ 2 ] - Allocation[ ReqProc ][ 2 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SendMsg( "Too high request!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SendMsg( "Request is legal.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f( Requ[ 0 ] &gt; Available[ 0 ] 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equ[ 1 ] &gt; Available[ 1 ] 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equ[ 2 ] &gt; Available[ 2 ] )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SendMsg( "Request can not be satisfied 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or( int i = 0; i &lt; 3; i++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llocation[ ReqProc ][ i ] += Requ[ i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317-C12D-488E-B513-60FF8C3AEAF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f( !SafetyCheck(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or( int i = 0; i &lt; 3; i++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llocation[ ReqProc ][ i ] -= Requ[ i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SendMsg( "Request would lead to an UNSAFE state!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SendMsg( "Request SATISFIED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 PROGRAMRÉSZLET VÉ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29E-BBA6-4261-BF54-37D57F31BA3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ondok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algoritmus bonyolult, a lépésszám m*n</a:t>
            </a:r>
            <a:r>
              <a:rPr b="1" lang="hu-H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-tel arány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őfeltétel, hogy a folyamatoknak be kell jelenteni a maximális erőforrás igényt, ezt nem lehet tudni és elvárni s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úl óvatos, mert minden nem biztonságos állapotot elkerül, nem csak a holtponto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03F7-A790-4509-B645-2A969F51BBD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étfajta csomópont v. hely: folyamat és erőfor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rányított él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P folyamattól az R erőforráshoz, azt jelzi hogy a P folyamat igényli az R erőforrá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R erőforrástól a P folyamathoz, azt jelzi, hogy a P folyamat megkapta és használja az R erőforrá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Erőforrás foglalási grá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4799880"/>
            <a:ext cx="684360" cy="563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4894920"/>
            <a:ext cx="6094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5029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4799880"/>
            <a:ext cx="684360" cy="563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4894920"/>
            <a:ext cx="6098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5029200"/>
            <a:ext cx="685800" cy="152280"/>
          </a:xfrm>
          <a:prstGeom prst="lef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41008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 igényli R-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54864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 használja (birtokolja)R-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05F-2782-4CEC-A32E-3F22388119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Holtpont elkerülés egyelemű erőforrások eseté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ódosítsuk az erőforrás hozzárendelési gráfo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igényt és a használatot jelző élek mellett vezessük be az „igényelheti” élt is. Jelöljük szaggatott vonall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igényelheti él csak folyamattól erőforrás irányba mutathat és azt jelenti, hogy az adott folyamat futása során valamikor igényelheti az adott erőforrá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őször a folyamatok bejelentik maximális erőforrás igényü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8D22-4A92-4326-9432-E9E3874BC2B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zek alapján megállapíthatók az igényelheti él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yilvántartjuk az igényeket, a már megtörtént allokációkat és megfelelően karbantarjuk az erőforrás hozzárendelési gráf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együk fel, hogy a P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folyamat igényt jelent be az R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erőforrás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algoritm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gvizsgálja, hogy a gráfban van-e „igényelheti” típusú él P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és R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közö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nincs, akkor az igény illegális, visszautasítj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van, akkor az igényelheti élt először igényli, majd használja típusúvá alakítj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923-A73B-44B5-B315-D51D9F98EC7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ndhárom esetben ciklust keresünk a gráfban, ha nem találunk, akkor az igény kielégíthet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együk fel, hogy a fenti állapotban P2 igényt jelent be R2-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igény jo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isszautasítjuk, mert amikor „használat” éllé alakul az „igényelheti”, akkor ciklus van a gráf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2179440"/>
            <a:ext cx="684360" cy="62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2179440"/>
            <a:ext cx="684360" cy="62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1445040"/>
            <a:ext cx="609840" cy="440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3121560"/>
            <a:ext cx="609480" cy="440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4419720" y="1676160"/>
            <a:ext cx="91440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895120" y="1676520"/>
            <a:ext cx="83844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495680" y="2743200"/>
            <a:ext cx="914400" cy="6094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2743200"/>
            <a:ext cx="1066680" cy="6094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9037-0854-49B9-A915-56C4C7ABB59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 holtpont megszüntet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őször is fel kell ismerni. Több elemet tartalmazó erőforrás osztályok esetében erre a Soshani-Coffman módszer alkal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sonlóan a bankár algoritmushoz feljegyzést vezetünk az allokációkró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eltételezzük, hogy a folyamatok a már hozzájuk rendelt és az éppen most igényelt erőforrásokon túl további igényt már nem jelentenek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zek alapján megpróbálunk biztonságos sorozatot keres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FED-968C-4DEA-852B-3445A105062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 nem találunk, akkor holtpont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 találunk, akkor sem biztos, hogy nincs holtpont, mert nem tudjuk, hogy a kinduló feltétel teljesül-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8E26-5A6E-4D22-976E-CA33FD8DD31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NYILVÁNTARTOTT AD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AVAILABLE(1..m)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vektor, az egyes erőforrás-osztályokból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illanatnyilag rendelkezésre álló erőforrások szá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ALLOCATION(1..n,1..m)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mátrix, az egyes folyamatokhoz má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hozzárendelt erőforrások szá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EQUESTi(1..m)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vektor, az i-edik folyamat által bejelentet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ig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B8E-0205-4CF4-A607-765A44558E8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function Deadlock(var DeadlockList ): boolea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WORK(1..m);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{ a rendelkezésre álló erőforrások hely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FINISH(1..n);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{ feldolgoztuk-e a folyamatot vagy nem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{ Segédfüggvény, keresünk egy olyan i-t, hogy FINISH[i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=FALSE 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NEEDi 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WORK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function Next( var i:index ): boolea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Next := (</a:t>
            </a:r>
            <a:r>
              <a:rPr b="1" lang="hu-HU" sz="2400" spc="-1" strike="noStrike">
                <a:solidFill>
                  <a:srgbClr val="ff3300"/>
                </a:solidFill>
                <a:latin typeface="Symbol"/>
                <a:ea typeface="Symbol"/>
              </a:rPr>
              <a:t>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i) (( FINISH[i]=false </a:t>
            </a:r>
            <a:r>
              <a:rPr b="1" lang="hu-HU" sz="2400" spc="-1" strike="noStrike">
                <a:solidFill>
                  <a:srgbClr val="ff3300"/>
                </a:solidFill>
                <a:latin typeface="Symbol"/>
                <a:ea typeface="Symbol"/>
              </a:rPr>
              <a:t>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REQUESTi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WORK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nd;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{REQUESTi alkalmazása jelzi, hogy szerintük ez az utolsó kéré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WORK := AVAILABLE;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{kezdeti állapo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hu-HU" sz="2400" spc="-1" strike="noStrike">
                <a:solidFill>
                  <a:srgbClr val="ff3300"/>
                </a:solidFill>
                <a:latin typeface="Symbol"/>
                <a:ea typeface="Symbol"/>
              </a:rPr>
              <a:t>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i) (1 </a:t>
            </a:r>
            <a:r>
              <a:rPr b="1" lang="hu-HU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i </a:t>
            </a:r>
            <a:r>
              <a:rPr b="1" lang="hu-HU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n: FINISH[i] := REQUESTi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{ akinek nincs kérése, nem lehet holtpont állapotban!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while Next(i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WORK := WORK + ALLOCATION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FINISH[i]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Deadlock := ~(</a:t>
            </a:r>
            <a:r>
              <a:rPr b="1" lang="hu-HU" sz="2400" spc="-1" strike="noStrike">
                <a:solidFill>
                  <a:srgbClr val="ff3300"/>
                </a:solidFill>
                <a:latin typeface="Symbol"/>
                <a:ea typeface="Symbol"/>
              </a:rPr>
              <a:t>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i) FINISH[ i]=false;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{ hamis, ha mind végeté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DeadlockList :={Pi:FINISH[i]=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107-5C5E-4051-9E6C-B7C5479F791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Holtpontdetektálás egyelemű erőforrások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lakítsuk az erőforrás foglalási gráfot az erőforrásra való várakozást ábrázoló wait-for gráffá. A gráf csomópontjai a folyamat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szabály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van egy (P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, R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) él, és egy (R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, P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) él, akkor nyilvánvalóan a P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olyamat arra vár, hogy a P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folyamat felszabadítsa az R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rőforrást, tehát a wait-for gráfban húzzuk be a (P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, P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) é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a keletjezett wait-for gráf ciklust tartalmaz, akkor holtponthelyzet v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wait-for gráfot ciklikusan frissíteni k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DD7C-74F7-4946-B761-0DADB2CABDC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2332080"/>
            <a:ext cx="684360" cy="62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2332080"/>
            <a:ext cx="684360" cy="62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2332080"/>
            <a:ext cx="684360" cy="62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445040"/>
            <a:ext cx="609840" cy="440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1445040"/>
            <a:ext cx="609840" cy="440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1445040"/>
            <a:ext cx="609840" cy="440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3350160"/>
            <a:ext cx="609840" cy="440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3246480"/>
            <a:ext cx="684360" cy="62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350640"/>
            <a:ext cx="684360" cy="62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3350160"/>
            <a:ext cx="609840" cy="440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914400" y="289512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914400" y="19051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1676520"/>
            <a:ext cx="8380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590920" y="1676520"/>
            <a:ext cx="76176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286000" y="19051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286000" y="91440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19051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7600" y="28954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742840" y="358128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219320" y="358128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2819520"/>
            <a:ext cx="83808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2408040"/>
            <a:ext cx="684000" cy="62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408040"/>
            <a:ext cx="684000" cy="62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0120" y="2408040"/>
            <a:ext cx="684000" cy="62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24480" y="3322440"/>
            <a:ext cx="684360" cy="62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1265040"/>
            <a:ext cx="684000" cy="62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62720" y="274320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4320" y="274320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934320" y="2971800"/>
            <a:ext cx="838080" cy="482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410080" y="2976120"/>
            <a:ext cx="914400" cy="528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629400" y="182844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297180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43434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rőforrás foglalási grá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41911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Wait-for grá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46483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holtpont az eredti gráfból is kideríthető, de gyorsabb egy kisebb gráfot csinálni és abban keresni a ciklu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3275-3EEC-4501-8808-1C045133C3E3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Holtponthelyzet megszüntet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ehetőség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érintett folyamat(ok) megszüntet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rőforrások elvétele folyamat(ok)tó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olyamat megszüntetés: nem az összeset szüntetjük meg, egyesével addig törlünk folyamatokat, amíg a holtpont fenná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lyiket szüntessük me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riori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ány holtpont ciklusban van be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nnyi ideig futott má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nnyi erőforrást foglalt le és még mennyit ak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070-AE7D-4048-9620-B28AD050E6F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egynemű erőforrásokat erőforrás osztályokba sorol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egyes erőforrás osztályokban több, az adott osztályhoz tartozó „elem” (erőforrás) le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kor alakulhat ki holtpont? Négy feltétel egyidejű teljesülése eseté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ölcsönös kizárás, azaz az erőforrásokat egyidejűleg egy és csakis egy folyamat használha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oglalva várakozás, azaz a folyamatok várakozásuk alatt lefoglalva tartják az erőforrásai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6CE-2166-4D46-BF06-1CD821594B1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rőforrás elvétel: az áldozat kiválasztás szempontjai hasonló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 egy folyamatot megfosztunk az erőforrásoktól, nem tud futni. Kérdés: honnan kezde újra? Az elejéről nem lenne célszerű (u.a. mintha megszüntetnén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utás közben ellenőrző pontokat (checkpoint) hozunk létre, ezeken a pontokon a folyamat </a:t>
            </a:r>
            <a:r>
              <a:rPr b="1" i="1" lang="hu-HU" sz="3200" spc="-1" strike="noStrike">
                <a:solidFill>
                  <a:srgbClr val="ffffff"/>
                </a:solidFill>
                <a:latin typeface="Times New Roman"/>
              </a:rPr>
              <a:t>teljes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állapotát (memóriakép!) tároljuk. Innen lehet újrakezd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Éhezés: nem szabad midig ugynazt visszaléptetn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2085-5169-4478-9DFB-24C6757C5D3A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erőforrások nem preemptálhatóak, vagyis a már odaítélt erőforrás nem vehető vissza a folyamattó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iklikus várakozás, azaz felállítható a folyamatok egy olyan P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, P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, ...P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, ... P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, sorrendje, hogy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P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által lefoglat erőforrásra vár,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2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P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által lefoglat erőforrásra vár,</a:t>
            </a:r>
            <a:br>
              <a:rPr sz="2800"/>
            </a:b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i+1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P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által lefoglalt erőforrásra vár, és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P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által lefoglalt erőforrásra vá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zt a helyzetet az erőforrás foglalási gráfon az irányított élek ciklusa jel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AC7-6E58-4286-87E8-E347992AB88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oltpont van: ld. a csillaggal jelölt éle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ciklus önmagában csak akkor jelent holtpontot, ha az erőforrás osztályok egyelemű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ciklusban nem kell minden erőforrásnak szerepel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ehet egyidejűleg több ciklu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1341360"/>
            <a:ext cx="684360" cy="62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1341360"/>
            <a:ext cx="684360" cy="62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1265040"/>
            <a:ext cx="684360" cy="62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302040"/>
            <a:ext cx="609840" cy="440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302040"/>
            <a:ext cx="609840" cy="440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2207160"/>
            <a:ext cx="609840" cy="440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283120"/>
            <a:ext cx="609480" cy="440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523880" y="533520"/>
            <a:ext cx="838440" cy="838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457200"/>
            <a:ext cx="838080" cy="9144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599840" y="1981080"/>
            <a:ext cx="76212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048120" y="1905120"/>
            <a:ext cx="76176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191120" y="533520"/>
            <a:ext cx="685800" cy="838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533520"/>
            <a:ext cx="761760" cy="7617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048120" y="1676520"/>
            <a:ext cx="3200400" cy="838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762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Symbol"/>
                <a:ea typeface="Symbol"/>
              </a:rPr>
              <a:t>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6094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Symbol"/>
                <a:ea typeface="Symbol"/>
              </a:rPr>
              <a:t>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609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Symbol"/>
                <a:ea typeface="Symbol"/>
              </a:rPr>
              <a:t>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15000" y="533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Symbol"/>
                <a:ea typeface="Symbol"/>
              </a:rPr>
              <a:t>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1676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Symbol"/>
                <a:ea typeface="Symbol"/>
              </a:rPr>
              <a:t>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Symbol"/>
                <a:ea typeface="Symbol"/>
              </a:rPr>
              <a:t>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18288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Symbol"/>
                <a:ea typeface="Symbol"/>
              </a:rPr>
              <a:t>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838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Symbol"/>
                <a:ea typeface="Symbol"/>
              </a:rPr>
              <a:t>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6858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Symbol"/>
                <a:ea typeface="Symbol"/>
              </a:rPr>
              <a:t>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1600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Symbol"/>
                <a:ea typeface="Symbol"/>
              </a:rPr>
              <a:t>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6C1-39B2-421B-8AF7-4242F2EBC22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oltpont kialakulhat egy programon belül is. Ez programozói v. programtervezői hiba, előrelátással elkerülhető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ás a helyzet akkor, amikor több egyébként külön-külön helyes program hoz létre holtpontot. Ez ugyanis előzetesen nem kerülhető el, ilyenkor az operációs rendszernek kell futási időben kezelni a helyze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ét alapvető stratégia létezi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édekezés a holtpont kialakulása e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kialakult holtpont megszüntet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D1B-0947-42A6-BA9F-5B338FC4B9C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ét eljárás valamelyikét alkalmazhatju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oltpont megelőzése (deadlock prevention): úgy járunk el, hogy holtpont elvileg sem alakulhat 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oltpont elkerülése (deadlock avoidance): bár elvileg nem kizárt a holtpont, elkerüljük az oda vezető lépése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oltpont megelőzés: a négy szükséges feltétel valamelyikének (már amelyiket lehet) teljesülését akadályozzuk m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t leh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kölcsönös kizárást és a nem preemptálható jelleget sajnos nem, marad a foglalva várakozás és a ciklikus várakoz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Védekezés a holtpont kialakulása ell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E15-A135-45E5-ABE1-FD5DE26D99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Foglalva várakozás felold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ső megoldás: a folyamat azonnal lefoglalja az összes szükséges erőforrást. Már láttuk, nem igazán j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ásodik megoldás: ha a folyamat új erőforrást igényel, akkor először fel kell szabadítania az összes már meglévőt és egyszerre (vissza)igényelni az újjal együ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Rossz erőforrás kihasználtsá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sökken a multiprogramozottság foka (kevés folyamat fog futn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Éhezé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75F5-221E-42C5-91D6-1849632485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9:31:50Z</dcterms:created>
  <dc:creator>X</dc:creator>
  <dc:description/>
  <dc:language>en-US</dc:language>
  <cp:lastModifiedBy>AJF</cp:lastModifiedBy>
  <dcterms:modified xsi:type="dcterms:W3CDTF">2003-11-11T21:20:20Z</dcterms:modified>
  <cp:revision>181</cp:revision>
  <dc:subject/>
  <dc:title>TELJESÍTMÉNYFOKOZÓ ARCHITEKTÚRÁLIS ELVEK</dc:title>
</cp:coreProperties>
</file>