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FD2D-55F2-4C28-8DEF-F31A598A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3E40-14E2-45C5-A487-1D8B09DF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D1C9-0931-4694-A70E-933332FF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F970-618A-4D0E-AEA6-A5847226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4721-0DCC-41B9-93DA-462801C5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748F-93C4-4A4E-A42D-4847F551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3999-AFB8-4E43-AD7C-88ECA3ED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F064-8964-4F88-88CB-FE330480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FF8D-F3FD-42A9-9A11-FE433F26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39B0-DCB1-44C3-90AD-249551F7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6AAF-E05C-42A8-B19E-770938CE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1A17-958F-4D98-AC8B-E2193C98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4D96-4102-4A0B-8720-22E594AC5B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SÍNRENDSZER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609480"/>
            <a:ext cx="8534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Összetett rendszer részei közötti adatátvitelt elsősorban az elemek közötti távolság befolyáso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egkülönböztetün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Rendszeren belüli (intrasystem) 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Rendszerek közötti (intersystem) kommunikáció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rendszeren belüli kommunikáció elsődleges eszköze a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sín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(bu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ín: vezetékek és csatlakozók csoportja, feladata egy adótól érkező szó (n bites, párhuzamos) átvitele egy vevőb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BD5B-B035-4018-9BFB-FB691286296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llem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ző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ultiprocesszoros orientálts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forgalom nem szavas, hanem üzeneteken alapuló. Az üzenetküldés és a helyi feldolgozás párhuzamosan történik. Az üzenet több szóból álló blokk, ami átmeneti tárolóba helyezhető, ill. sorba állítha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Nincs szoros összefüggés a CPU és a sín jelei között, a sín vezérlésére szolgáló jeleket önálló egység, a sínvezérlő állítja el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5F69-E404-495A-A110-496AB5513B9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A rendszersín feladat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datátvi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Információcsere az adó és a vevő között, a sín vezérlését ellátó egység felügyelete alatt. Minden modulnak saját egyedi azonosítója (címe) kell hogy legy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rogrammegszakítá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sínre csatlakozó modulok kérhetik egy másik modul működésének időleges megszakítását. A kérések között prioritás létezik, a kiszolgálás a megszakításkezelő fela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ozzáférési jog kiosztása (arbitrálá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7B4D-439F-4694-A5F5-6B8D06B3DD3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ulti-master rendszerekben (többprocesszor, DMA) biztosítani kell, hogy a versenyző igények közül csak egy nyerje el a sínhasználat jogá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iegészítő szolgáltatá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ápfeszültség, órajel, hibajelzések (tápfesz kimaradás), törlőjel, s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zek alapján a rendszersínre csatlakozó funkcionális modulok a következő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ínvezérlő v. rendszervezérl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Biztosítja a sín vezérléséhez szükséges jeleket: rendszer órajel, törlő (reset) jel, hibajelzés (tápfesz kimaradás). Egyetlen ilyen egység lehet a sínen, de lehetséges osztott megvalósítása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00A5-89F9-4501-A7AE-62B1E559C72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5345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Olyan modul, amely képes magához venni a rendszer vezérlés jogát, adatátvitelt tud kezdeményezni saját cím és vezérlő kimeneteinek megfelelő állapotba hozásá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l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Olyan modul, amely nem képes a sín vezérlését magához venni, ha a cím és vezérlőjelek kijelölik, akkor reagál a master által kezdeményezett adatátvitelre. Ilyen modulokban vannak a rendszer közös erőforrás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egszakításkérő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Olyan modul, amely képes megszakításkérő jelet aktiválni, ezzel kiszolgálást kérni valamelyik master modultó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9CFE-2796-4886-992D-6927A0162B6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egszakításkezel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Olyan modul, amely képes a megszakításkérések észlelésére és kezdeményezni tudja a kiszolgálást.  Több ilyen modul is lehet a sí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t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átvitel folyamata a sínen több műveletből állhat, ezen műveletek több sínciklust igényelhetne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e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zdeményezés v. sínkér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ozzáférési jog meghatározása (arbitrálá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Címzés, a nyertes közli, hogy kivel kíván kapcsolatba lép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datátvi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ibaészlelés és jel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8B7F-651B-496E-872D-803DC4F9005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Címz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Címezhető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gy v. néhány sl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inden sl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c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ím része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lave kártya címe (a cím felső bitj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lave kártyán belüli cím (a cím alsó bitj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lave kártya címzése leh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ogikai (helytől független), minden kártyának saját azonosítója (címe) van, ezt kapcsolóval v. EPROM-mal lehet állítani. A kártya a rendszerben akárhol elhelyezhető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9DCE-89E7-4423-AC07-02812F33E26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elyzet szerinti (geometrikus) címzés: a kártya címét a rendszerbeli fizikai pozíciója határozza meg (a hátlapra van huzalozva). Ilyen a Multibus I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kettő kombinációja igen rugalmas: tegyünk egy címregisztert a kártyára, a rendszer indulásakor a címregisztereket helyzet szerinti címzéssel feltöltjük, és azután az így beállított címet logikai címzéssel használj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Broadcall címzés: a master egyszerre több slave-től kér adatot. Ez csak olyan sínen történhet, ami megenged egyidejűleg több aktív kimenetet (pld. nyitott kollektoros). Tipikus alkalmazás: megszakításkérő modul azonosítása (minden modul más vezetéken jele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38D0-D572-475C-A6C5-1EDF7315D3B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Broadcast címzés: egy master több slave-nek küld információt. Tipikus: rendszer indításkor közös jellemzők beállítá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Broadcall/broadcast jelzé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ülönleges cím alkalmaz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rre a célra szolgáló vezérlőjel alkalmaz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datátvitel leh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Áramkörkapcsolt, amikor a master és a slave a teljes átvitel ideje alatt a sínre kapcsolódik. Nagy hozzáférési idő esetén csökkenti a sín tényleges sebességé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Üzenetkapcsolt, amikor a master és a slave a hozzáférési idő alatt nem foglalja a sínt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7273-020E-4B9B-9BF8-18E49629C44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űködé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master elküldi a slave-nek a címet és a hossz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indkettő leválik a sínről, a slave elkezdi az adat megkeresésé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mikor a slave kész az adatátvitelre, </a:t>
            </a:r>
            <a:r>
              <a:rPr b="1" lang="hu-HU" sz="2400" spc="-1" strike="noStrike" u="sng">
                <a:solidFill>
                  <a:srgbClr val="ffffff"/>
                </a:solidFill>
                <a:uFillTx/>
                <a:latin typeface="Times New Roman"/>
              </a:rPr>
              <a:t>masterként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kezdeményezi az átvitelt, az eredeti master pedig slave-ként reagál rá. (Multibus II, az üzenetkapcsoló társprocesszor, MPC alkalmazása eseté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8976-3BB3-4AE6-AF09-C0AEB9EABF8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Sín átviteli mód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1066680"/>
            <a:ext cx="9144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1066680"/>
            <a:ext cx="9144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Ad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1066680"/>
            <a:ext cx="152388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1600200"/>
            <a:ext cx="9144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Ad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1430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Multiplexált ír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10666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Nem multiplexált ír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2209680"/>
            <a:ext cx="9144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2209680"/>
            <a:ext cx="9144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Ad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220968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274320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22860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Multiplexált olvas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2209680"/>
            <a:ext cx="198108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2743200"/>
            <a:ext cx="9144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Ad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81680" y="2286000"/>
            <a:ext cx="2362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Nem multiplexál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olvas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581280"/>
            <a:ext cx="9144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3581280"/>
            <a:ext cx="12193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Olv. ad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358128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411480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3581280"/>
            <a:ext cx="106668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Írt ad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3581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Olvasás-módosítás-írás (oszthatalan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4495680"/>
            <a:ext cx="9144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19520" y="4495680"/>
            <a:ext cx="12189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Olv. ad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502920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449568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4495680"/>
            <a:ext cx="106704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Írt ad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44956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Olvasás-írás után (ellenőrzés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5410080"/>
            <a:ext cx="9144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5410080"/>
            <a:ext cx="9144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Ad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5410080"/>
            <a:ext cx="9144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Ad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5410080"/>
            <a:ext cx="9144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Ad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54100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Blokkos átvi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ECA6-2116-4343-A671-6ADE5AEF988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8390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ehet egy vagy kétirányú (ez utóbbi az általán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eh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Dedikált, egy adó és egy vevő közöt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Osztott, n adó és/vagy vevő közöt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Dedikált: sok kell belőle, n modult és egyirányú átvitelt feltételezve a sínek száma n*(n-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lőnye: egyidejűleg több adó-vevő kapcsolat létezh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Osztott: csak egy kell belőle, olcsóbb, de egyidejűleg csak egy adó-vevő kapcsolat van (kivétel: broadcast, broadcal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B9F0-A8F8-4E3F-9D5A-312228AF6A0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Sín időzítési protokoll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forrás és a nyelő működését időben össze kell hangolni. Az elemi tevékenysége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28600" y="1905120"/>
          <a:ext cx="8610480" cy="436536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R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YEL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Információ a sínvezetékek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Információ állandós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 Jelzi, hogy az info. állandó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 Felismeri és elveszi az információ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 Elvétel jelzé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 Felismeri, hogy a vevő elvette az i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. Info. levétele a sínvezetékekrő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. Jelzés, hogy az info.-t eltávolítot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 Eltávolítás jelzésének felismeré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 Átvitel végének nyugtáz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B17C-B948-4BB3-8E92-CF7C39B4D7C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egyes vezetékek késleltetése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m azonos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(terhelés, geometria, áramkörök). Emiatt vagy egy adott ideig automatikusan várni kell (max. késleltetési idő) vagy külön jelzést kell alkalmaz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Időzítési módszere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zink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inden elemi tevékenység előre meghatározott időben törté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szink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z elemi tevékenységek tetszőleges időpontban történ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352D-F6A6-47FE-B3CC-E764C8C2C81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560" y="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Részben szink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z elemi tevékenységek órajelekhez rögzítetten történnek (de nem mindig azonos számú ciklus alatt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zinkron átvit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átvitelt egy közös órajel időzíti, amit tipikusan a rendszervezérlő modul állít elő. Az adat ráadását és elvételét az órajellel szinkron vezérlőjelek mutatjá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388620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19112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38862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38862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388620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09680" y="388620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419112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38862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38862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388620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388620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419112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38862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38862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388620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388620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419112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38862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10080" y="38862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388620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388620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419112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43600" y="38862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77120" y="38862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77120" y="388620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419112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38862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388620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449568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480060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44956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449568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4495680"/>
            <a:ext cx="2438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449568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9880" y="480060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9880" y="44956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43400" y="44956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449568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24280" y="4495680"/>
            <a:ext cx="1447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502920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76520" y="533412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76520" y="50292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50292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502920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62120" y="5334120"/>
            <a:ext cx="3808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81080" y="5334120"/>
            <a:ext cx="2362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43400" y="502920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76920" y="533412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76920" y="50292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50292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533412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548640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579132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54864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4864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579132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5791320"/>
            <a:ext cx="2514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5791320"/>
            <a:ext cx="17528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3000" y="3962520"/>
            <a:ext cx="0" cy="22096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3962520"/>
            <a:ext cx="0" cy="213336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43400" y="3886200"/>
            <a:ext cx="0" cy="228600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43000" y="6019920"/>
            <a:ext cx="21337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60199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553080" y="44197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10280" y="44956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orr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55627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nyel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60958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60958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5029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5486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42670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d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B780-B595-4751-87C7-A0D5301E89D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vel nincs szükség az adó és a vevő közötti nyugtázásokra (a 3., 5., 8. és 10. lépés) ezért a szinkron átvitel gyorsabb lehet, mint az aszinkr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rendszerben  a t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és t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időt a leglassúbb működésű eszközhöz kell állít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átrány: nincs visszajelzés, sem az adó nem tudja hogy a vevő elvette-e az adatot, sem a vevő, hogy amit olvasott az tényleg az adótól származó informáci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C453-DFE3-4668-8CC6-75B3D3ACE97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szinkron átvit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események nincsenek időhöz kötve, tehát bekövetkezésüket jelezni k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jelzés maga is időt vesz igénybe, ezért nem minden eseményt jeleznek, bizonyosakról feltételezik, hogy rögzített időtartamon belül bekövetkezn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t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ól függően, hogy mennyi ilyen feltételezéssel élünk, megkülönböztetün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Reteszeletlen (non-interlock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élig reteszelt (half-interlock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Reteszelt (interlocked) aszinkron működé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4937-96BE-4306-BF16-81CF8D460F1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228600" y="30481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Reteszeletlen protoko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dó kiteszi az adatot az adatvezetékek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idő múlva DR-rel jelez a vevőnek (stabilizálódá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evő leveszi az adatot és t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idővel később a DA jellel jelzi ezt (t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a jelterjedés és a hozzáférés ide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60948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91440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6094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60948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609480"/>
            <a:ext cx="2438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05320" y="60948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91440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480" y="6094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6094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60948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52880" y="609480"/>
            <a:ext cx="1447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76520" y="114300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09680" y="144792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11430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76520" y="11430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114300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294920" y="1447920"/>
            <a:ext cx="3812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09680" y="1447920"/>
            <a:ext cx="2362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05520" y="114300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38680" y="144792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38680" y="11430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05520" y="11430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144792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19520" y="160020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52680" y="1905120"/>
            <a:ext cx="1219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52680" y="16002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19520" y="16002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190512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90720" y="190512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1905120"/>
            <a:ext cx="17528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81680" y="5335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6094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orr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16765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nyel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1066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523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DA/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3049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d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990720"/>
            <a:ext cx="0" cy="144756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76520" y="1447920"/>
            <a:ext cx="0" cy="15238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1828800"/>
            <a:ext cx="0" cy="99072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09680" y="1295280"/>
            <a:ext cx="0" cy="106704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352680" y="1905120"/>
            <a:ext cx="0" cy="3808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8480" y="914400"/>
            <a:ext cx="0" cy="190512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67080" y="1447920"/>
            <a:ext cx="838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838080"/>
            <a:ext cx="0" cy="160020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213372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19810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133720" y="25146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19520" y="190512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00400" y="24382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14800" y="19810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76520" y="1371600"/>
            <a:ext cx="114300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19520" y="837720"/>
            <a:ext cx="1218960" cy="838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8445-8A9F-4C9E-A7F8-A105D9176A9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5345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jelzést az adó t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idő múlva kapja m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eveszi az adatot a sínről és a stabilizálódás (t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) után új ciklus kezdőd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iba esetén a vevő DA helyett a DE jelet aktivizá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adó és a vevő sebessége is tetszőleges lehet (t3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csak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a vevőtől, t5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csak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az adótól füg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Gond: t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és t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rögzítettek, azaz függetlenek a másik féltől, így pld. t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&lt; t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esetben elindulhat a következő sínciklus az éppen folyó befejeződése (DA/DE vége) elő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414C-6BE0-4FF0-BFD7-F2AADB2F5D8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egoldás: az adó DR jelét a vevő DA/DE jele szünteti csak meg. Ez a félig reteszelt protoko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eljesen reteszelt protoko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inden változás a partnertől érkező jel hatására történik. Közismert neve: kézfogásos (handshaking) üzemmó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71600" y="358128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8080" y="388620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35812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371600" y="358128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00200" y="3581280"/>
            <a:ext cx="2438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05320" y="358128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38480" y="388620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38480" y="35812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0" y="35812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0" y="358128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952880" y="3581280"/>
            <a:ext cx="1447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76520" y="411480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09680" y="411480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43200" y="41148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76520" y="41148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76520" y="411480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441972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105520" y="411480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38680" y="441972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38680" y="41148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41148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43600" y="441972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38280" y="457200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52680" y="4876920"/>
            <a:ext cx="1219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52680" y="45720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38280" y="45720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0" y="487692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990360" y="4876920"/>
            <a:ext cx="1447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2880" y="4876920"/>
            <a:ext cx="17528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781680" y="35053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238880" y="35812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orr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38880" y="46483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nyel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4038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8600" y="32767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d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67080" y="4419720"/>
            <a:ext cx="838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676520" y="4267080"/>
            <a:ext cx="76176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438280" y="4267080"/>
            <a:ext cx="22860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438280" y="3733560"/>
            <a:ext cx="1524240" cy="10666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743200" y="4191120"/>
            <a:ext cx="609480" cy="609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352680" y="3733920"/>
            <a:ext cx="1219320" cy="9144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3886200"/>
            <a:ext cx="0" cy="198108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038480" y="3886200"/>
            <a:ext cx="0" cy="175248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5638680"/>
            <a:ext cx="266688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57400" y="51814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1. síncik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8480" y="5638680"/>
            <a:ext cx="182880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67080" y="51814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2. síncik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4419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DA/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E1BF-5594-4BBC-B6F6-5FD9E6D81B6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nden sínciklus négy jelátmenetet tartalm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DR felfutása jelzi, hogy az adat a sínen v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DA felfutása jelzi, hogy a vevő elfogadja az adatot (a tényleges elfogadás már DR felfutó élére megkezdőd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DR lefutó éle jelzi, hogy az adó leveszi az adatot a sínről, mivel annak elfogadását a vevő már jelez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DA lefutó éle jelzi, hogy a vevő befejezte az adat levételét, indulhat az új cik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lőn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etszőleges sebességű modulok kapcsolhatók öss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E5DB-0D56-4F06-8712-69CDAB6EAB6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sín sebessége megegyezik az éppen aktív modulok sebességé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átrán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inden jelzésnek végig kell haladni a sínen, ez négy terjedési időt je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ivel a működés az átmenetekhez kötődik zajérzéke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gy átmenet elveszte leállítja a működé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nnek elkerülésére időzítőket alkalmaznak, amelyek hibát jeleznek, ha lejárnak, ez plusz áramköröket je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Részben szinkron átvit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ezérlőjel átmenetek csak órajellel egyidejűleg történhetnek, az átmenetek közötti idő tetszőleges ciklusnyi leh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486E-52D2-4F31-A731-7662F4E01EF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00400" y="228600"/>
            <a:ext cx="2133720" cy="43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1. mod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1295280"/>
            <a:ext cx="2133720" cy="4352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2. mod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62720" y="1219320"/>
            <a:ext cx="2133360" cy="43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4. mod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2286000"/>
            <a:ext cx="2133720" cy="43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3. mod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133360" y="533520"/>
            <a:ext cx="990360" cy="761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905120" y="304560"/>
            <a:ext cx="1295280" cy="99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533520"/>
            <a:ext cx="9144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333760" y="304920"/>
            <a:ext cx="114300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685800"/>
            <a:ext cx="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343400" y="685440"/>
            <a:ext cx="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1371600"/>
            <a:ext cx="2514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47760" y="1600200"/>
            <a:ext cx="2514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334120" y="1676520"/>
            <a:ext cx="761760" cy="761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333760" y="1676520"/>
            <a:ext cx="990360" cy="99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2209680" y="1752480"/>
            <a:ext cx="914400" cy="609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1752480"/>
            <a:ext cx="137160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289548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Dedikált sínes kapcsolat 4 modul közö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3657600"/>
            <a:ext cx="2133360" cy="43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1. mod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3657600"/>
            <a:ext cx="2133360" cy="43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2. mod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657600"/>
            <a:ext cx="2133360" cy="43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n. mod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4724280"/>
            <a:ext cx="77724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4114800"/>
            <a:ext cx="0" cy="60948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40384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4114800"/>
            <a:ext cx="0" cy="60948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525780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Osztott sínes kapcsolat n modul közö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A9BC-A015-4BC1-8509-171D79C221C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600" y="6091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osztott sínre csatlakozó összes modul ugyanazokat a jeleket haszná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ín fogalmának általánosítása: adatátviteli út (jelek, csatlakozók) a rendszer komponensei között, amely tartalmazza az adatúthoz való hozzáférés, az adatcsere vezérlés mechanizmusát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4BA9-C1AC-489F-A12D-F58881DE1B8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A sínrendszerek szintj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Általában egy számítógépes rendszerben a síneket a következőképpen osztályozhatju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ártya szintű sínek: egyetlen v. néhány kártyán elhelyezett elemeket kötnek össze. Szokás helyi sínnek is nevezni ők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átlap (backplane) v. rendszer szint: a modulok (kártyák) közötti kapcsolatot teremtik meg. Nevük az elhelyezkedésükből származi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Illesztés v. I/O szint: ezek a sínek az I/O eszközök és a rendszer többi része közötti kommunikációt biztosítjá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A345-4CBB-44B8-BAF1-F350E248B5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VME sínrendszer hierarchiá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762120"/>
            <a:ext cx="3429000" cy="3047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1. kárt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2743200"/>
            <a:ext cx="9144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743200"/>
            <a:ext cx="914400" cy="43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2743200"/>
            <a:ext cx="914400" cy="43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2362320"/>
            <a:ext cx="28195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23623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3623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29000" y="23623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17524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Kártya szint (VM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1143000"/>
            <a:ext cx="228600" cy="1523880"/>
          </a:xfrm>
          <a:prstGeom prst="upDownArrow">
            <a:avLst>
              <a:gd name="adj1" fmla="val 50000"/>
              <a:gd name="adj2" fmla="val 132706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12193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I/O szint (SCS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4495680"/>
            <a:ext cx="7772400" cy="0"/>
          </a:xfrm>
          <a:prstGeom prst="line">
            <a:avLst/>
          </a:prstGeom>
          <a:ln w="1015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762120"/>
            <a:ext cx="3429000" cy="3047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2. kárt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2743200"/>
            <a:ext cx="9144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2743200"/>
            <a:ext cx="914400" cy="43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38880" y="2743200"/>
            <a:ext cx="914400" cy="43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2362320"/>
            <a:ext cx="28195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23623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23623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0120" y="23623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175248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Kártya szint (VM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924680" y="1143000"/>
            <a:ext cx="228600" cy="1523880"/>
          </a:xfrm>
          <a:prstGeom prst="upDownArrow">
            <a:avLst>
              <a:gd name="adj1" fmla="val 50000"/>
              <a:gd name="adj2" fmla="val 132706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396252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Rendszer  szint (V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5181480"/>
            <a:ext cx="7543800" cy="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3200400"/>
            <a:ext cx="0" cy="129528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3200400"/>
            <a:ext cx="0" cy="129528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3124080"/>
            <a:ext cx="0" cy="20574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7480" y="3124080"/>
            <a:ext cx="0" cy="20574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48006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Soros sín (V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10666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I/O szint (SCS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3E53-BA50-4B76-BF95-F09CEBF22FC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Dedikált és osztott használatú sín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1447920"/>
            <a:ext cx="106668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Ad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memó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1447920"/>
            <a:ext cx="99072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Utasí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memó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447920"/>
            <a:ext cx="9144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1447920"/>
            <a:ext cx="99072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eszkö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2895480"/>
            <a:ext cx="548640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2286000"/>
            <a:ext cx="0" cy="60948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3200400"/>
            <a:ext cx="5486400" cy="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3505320"/>
            <a:ext cx="548640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286000"/>
            <a:ext cx="0" cy="60948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2286000"/>
            <a:ext cx="0" cy="9144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2286000"/>
            <a:ext cx="0" cy="9144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2286000"/>
            <a:ext cx="0" cy="12193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2286000"/>
            <a:ext cx="0" cy="12193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25146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dats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2895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utasítás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s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3276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I/O s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886200"/>
            <a:ext cx="106668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Ad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memó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3886200"/>
            <a:ext cx="99072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Utasí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memó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3886200"/>
            <a:ext cx="9144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3886200"/>
            <a:ext cx="99072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eszkö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5257800"/>
            <a:ext cx="5486400" cy="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4724280"/>
            <a:ext cx="0" cy="5335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43200" y="4724280"/>
            <a:ext cx="0" cy="5335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4724280"/>
            <a:ext cx="0" cy="5335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4724280"/>
            <a:ext cx="0" cy="5335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5029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Osztott s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21337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3 dedikált s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09CE-6E2F-4168-91FF-1AC4DBBD615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Funkciók szétosztottsága szerinti csoportosítá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rőforrás szerinti szétosztá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azonos típusú erőforrások (memória, periféria) vannak egy alrendszer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kkor jelent meg, amikor még az azonos típusú erőforrást több kártyán lehetett csak elhelyezni, illetve igény volt a CPU állandó felügyeleté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Jellemző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gyprocesszoros orientáltságú: egy CPU van és az a sín master, központi sínkiosztás, minden megszakítás ugyanoda (a CPU-hoz) érkez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C971-8DA4-4DA0-990B-A0AA2986712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emóriasín orientáltságú: a CPU-memória közötti adatátvitelre összpontosít, az átvitel szavanként, rövid idő alatt zajlik. Külön cím és adat vonalak, gyors működés, egyszerű protokoll, aszinkron működés, ellenőrzés nin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unkció szerinti szétosztá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gymástól független funkciókat ellátó alrendszereket kapcsolunk öss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egyes alrendszerek önálló működésre is képes számítógépek, saját belső sínek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CPU-memória forgalom a belső sínen zajlik, a rendszersínen csak a modulok közötti átvitel törté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3F35-15D8-43E5-B3B1-6BD0F627527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19:31:50Z</dcterms:created>
  <dc:creator>X</dc:creator>
  <dc:description/>
  <dc:language>en-US</dc:language>
  <cp:lastModifiedBy>AJF</cp:lastModifiedBy>
  <dcterms:modified xsi:type="dcterms:W3CDTF">2003-10-21T21:15:33Z</dcterms:modified>
  <cp:revision>162</cp:revision>
  <dc:subject/>
  <dc:title>TELJESÍTMÉNYFOKOZÓ ARCHITEKTÚRÁLIS ELVEK</dc:title>
</cp:coreProperties>
</file>