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B55-DD12-4131-85CC-22987FD2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19B-4496-4408-8C71-6CBE53AD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496-E387-48D4-B8B2-86102960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C0A-486C-426D-A120-B97C3283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025-24A1-4954-86A6-FE4832E0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D29-11EB-45E1-8CC6-F3B3B3B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8B6-2C75-4956-BE26-4A9FB19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E43-C229-46A2-AAE9-B29AD5DD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095-02BC-4F38-B7FA-8A26009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323-94D8-4BA8-8B08-7D21D8B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D67-1D17-4615-969D-9C04DD4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718-1B53-4FD8-BED0-99C768D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EB5-AC7A-4C9E-BF44-90CE765A3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VME SÍNREND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sínek második generációjához tartozó, 8-16-32 bites modulok összekapcsolására alkalmas, Eurocard méretű kártyák, indirekt csatlakoz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árhuzamos, nem multiplexált, aszinkron át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csatlakozóval 16/24 bites, kettővel 32 bites átvitel lehetsé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rtalmaz egy soros sínt is (biztonsá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D7B-2A76-4BFA-B72D-2C4C426655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gazságos, ahol minden master hozzájuthat a sínhez mielőtt bármely másik kétszer hozzáfé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ombinált, a prioritásos és az igazságos egyes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ín elengedési eljár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engedés kérésre: a sínt használó master addig tartja magánál a használat jogát, ameddig azt egy másik nem kéri. Akkor jó, ha van egy kitüntetett fontosságú master, ez a legnagyobb prioritással megszerzi a sínhasználat jogát és a többi ettől „kéri 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engedés az átvitel befejeződésekor: egyszerű, és minden átvitelehez újra kell kérni a sí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eemptív: a sínt éppen használó master, fontosabb mastertől érkező kérés esetén elengedi a sí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F1E-5FE9-46F5-A4F2-AEEFEBA711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ozzáférési jog kiosztás a VME sí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ME sín a már megismert soros és párhuzamos sínhozzárendelést egyaránt alkalmazza. Az azonos szintű sínkérők ugyanarra a kérő vonalra kapcsolódnak, közöttük soros elven, a különböző szintekre kötött kérők között párhuzamosan osztja ki a sínhasználat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BE9-D925-4B73-9D44-F733801B9A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ín arbitráció eltérő szintű kérés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057400"/>
            <a:ext cx="205740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özponti 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2860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860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44792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sín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819520"/>
            <a:ext cx="6095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12408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42900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7339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46483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502920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590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G0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95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R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3200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G1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R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4419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BS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724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CLR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28600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213372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324160"/>
            <a:ext cx="0" cy="2362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144792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sín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685800"/>
            <a:ext cx="0" cy="434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05920" y="685800"/>
            <a:ext cx="0" cy="434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05520" y="68580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924320" y="6858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33920" y="22860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477120" y="22856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2286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232416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2590920"/>
            <a:ext cx="990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29000" y="106632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066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095880" y="106632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1066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4520" y="2819520"/>
            <a:ext cx="304560" cy="2301840"/>
          </a:xfrm>
          <a:custGeom>
            <a:avLst/>
            <a:gdLst>
              <a:gd name="textAreaLeft" fmla="*/ 0 w 304560"/>
              <a:gd name="textAreaRight" fmla="*/ 109800 w 304560"/>
              <a:gd name="textAreaTop" fmla="*/ 59760 h 2301840"/>
              <a:gd name="textAreaBottom" fmla="*/ 2242080 h 23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51213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rációs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854520"/>
            <a:ext cx="0" cy="1681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4022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R3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FE0-D3AB-45CD-8CAE-F7855513C2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rbitrálás idődiagramja különböző szintű kérések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60948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609480"/>
            <a:ext cx="3045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06668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867280" y="60948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6094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37160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371600"/>
            <a:ext cx="3045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8288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666880" y="137160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137160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1371600"/>
            <a:ext cx="297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057400"/>
            <a:ext cx="3962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59092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259092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9718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71800" y="2590920"/>
            <a:ext cx="30492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590920"/>
            <a:ext cx="4190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5238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7672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27672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28195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209680" y="26665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6668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365760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86200" y="327672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327672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2057400"/>
            <a:ext cx="22860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36232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62520" y="228564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106668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09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2286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495680" y="76176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762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22096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3276720"/>
            <a:ext cx="30492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365760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629400" y="3276720"/>
            <a:ext cx="22860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791320" y="1980720"/>
            <a:ext cx="1522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198108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5053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05520" y="2133720"/>
            <a:ext cx="0" cy="12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21337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BS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7160" y="26668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G1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7160" y="21337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G0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200" y="1447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R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200" y="685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R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76240" y="914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3600" y="2133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19051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2680" y="32767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érő/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092-A50D-4D6B-B25A-7B35EB0FCC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űköd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ét kérés, BR0* és BR1* egyszerre érkezik (SYSCLK órajelhez szinkronizált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vel BR1* magasabb prioritású, az arbiter a hozzá tartozó kimenetet BG1IN* (Bus Granted..) aktivizá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mikor ezt a 2. modul észleli, alacsony szintre állítja a sín foglalt jelet (BBSY*), és megszünteti saját BR1* kérését. A sínkérő jelzi a masternek, hogy kezdheti a sín használat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rbiter észleli a foglalt jelet, erre megszünteti a sínt odaitélő BG1IN* j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496-CFB3-43F3-8870-434E457A3E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mikor a 2. master befejezi a sín használatát, sínkérője elengedi a sín foglalt, BBSY* j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rbiter erre a változásra ismét megvizsgálja a kéréseket és azt találja, hogy BR0* aktí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rbiter kiadja a BG0IN* jelet, ezzel az 1. modulnak ítéli a sínt és innen az előbb tárgyalt folyamat ismétlő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BCLR* jel szerepe: ha foglalt sín mellett egy, az aktuálisnál magasabb prioritású sínkérés érkezikaz arbiter ezt a BCLR* jellel tudatja. A sínt éppen használó master ilyen esetben lemondhat a sínrő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E00-8A27-4147-BB37-CC5A16B885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ín arbitráció azonos szintű kérés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057400"/>
            <a:ext cx="205740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özponti 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2860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22860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144792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sín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81952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12408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342900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733920"/>
            <a:ext cx="12189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46483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502920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2590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G0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895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R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200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G1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R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419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BS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4724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CLR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228600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213372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2324160"/>
            <a:ext cx="0" cy="2362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1447920"/>
            <a:ext cx="2057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sín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685800"/>
            <a:ext cx="0" cy="434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685800"/>
            <a:ext cx="0" cy="4343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105520" y="68580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924320" y="6858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733920" y="22860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2286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32416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2590920"/>
            <a:ext cx="990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29000" y="106632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1066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095880" y="106632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1520" y="1066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34520" y="2819520"/>
            <a:ext cx="304560" cy="2301840"/>
          </a:xfrm>
          <a:custGeom>
            <a:avLst/>
            <a:gdLst>
              <a:gd name="textAreaLeft" fmla="*/ 0 w 304560"/>
              <a:gd name="textAreaRight" fmla="*/ 109800 w 304560"/>
              <a:gd name="textAreaTop" fmla="*/ 59760 h 2301840"/>
              <a:gd name="textAreaBottom" fmla="*/ 2242080 h 23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51213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rációs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3854520"/>
            <a:ext cx="0" cy="1681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022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BR3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2590920"/>
            <a:ext cx="2210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477120" y="228564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286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243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A6E-6FAA-4539-A739-BE03FDF822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rbitrálás idődiagramja azonos szintű kérések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360" y="8604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2440" y="86040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57360" y="131760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900760" y="86040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5680" y="86040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0680" y="3268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28760" y="32688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3680" y="7840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776680" y="326880"/>
            <a:ext cx="3045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81240" y="32688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52840" y="326880"/>
            <a:ext cx="297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960" y="2270160"/>
            <a:ext cx="22860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4560" y="25750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57560" y="2193480"/>
            <a:ext cx="1522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09840" y="219384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6840" y="227016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G0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3000" y="1622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R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1560" y="10890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R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1560" y="3268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R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29560" y="982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09720" y="555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3600" y="2133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2666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0680" y="14698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28760" y="1469880"/>
            <a:ext cx="30492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33680" y="192708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977080" y="1469880"/>
            <a:ext cx="3045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81640" y="146988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81040" y="479520"/>
            <a:ext cx="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2880" y="1165320"/>
            <a:ext cx="76320" cy="759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90680" y="227016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1000" y="2171880"/>
            <a:ext cx="228600" cy="403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9600" y="2575080"/>
            <a:ext cx="1562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90880" y="2809800"/>
            <a:ext cx="22860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19480" y="311472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462480" y="2733840"/>
            <a:ext cx="1522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4760" y="273384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81952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BG0IN* 1. 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94880" y="280980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95920" y="2711520"/>
            <a:ext cx="228600" cy="403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4520" y="3114720"/>
            <a:ext cx="1562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6840" y="2809800"/>
            <a:ext cx="338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3429000"/>
            <a:ext cx="476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3406680"/>
            <a:ext cx="228600" cy="403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3809880"/>
            <a:ext cx="1562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429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BG0OUT* 1. 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14800"/>
            <a:ext cx="476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4092480"/>
            <a:ext cx="228600" cy="403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495680"/>
            <a:ext cx="1562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4114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BG0IN* 2. 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4876920"/>
            <a:ext cx="1904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4876920"/>
            <a:ext cx="15264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525780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191120" y="4876920"/>
            <a:ext cx="1522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487692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87692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525780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48769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BS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16765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2514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2514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971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09680" y="297180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209680" y="533160"/>
            <a:ext cx="0" cy="243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5335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514600" y="23623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2362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23623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2895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304920"/>
            <a:ext cx="0" cy="48006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5105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267080" y="2362320"/>
            <a:ext cx="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3623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438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2971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3657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36576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44197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5181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715000" y="1066680"/>
            <a:ext cx="0" cy="335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5410080"/>
            <a:ext cx="16761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2200" y="5410080"/>
            <a:ext cx="16765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965-2C76-4B6A-8FDD-9FAB839D38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űköd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ét kérés R1* és R2* egyszerre érkezik, mindkét kérő lehúzza a BR0* vona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sín szabad, és nincs a  BR1*, .. vonalon kérés az arbiter a BG0IN* aktivizálásával reag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1. sínkérő megkapja ezt a jelet, és mivel előtte nincs más kérő (ez a legbaloldalibb), nem adja tovább, hanem alacsony szintre állítja a BBSY* jelet, tehát a sín foglalttá vált. Megszünteti saját R1* kérését és egyidejűleg jelzi a hozzá tartozó masternek, hogy kezdheti s sínhasznála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R0* alacsony értéken marad, mivel a 2. kérő aktív R2* jele ott tar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349-F4F7-4373-805C-32AEA27321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rbiter a foglalt jel megjelenésére megszünteti a BG0IN* j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mikor az átvitelnek vége, az 1. master a hozzá tartozó sínkérővel felszabadítja a sínt, BBSY* magas szintre hozásá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t az arbiter érzékeli, újabb arbitrálási ciklust indít. Felismeri, hogy aktív kérés van a BR0* bemeneten, erre kiadja a BG0IN* j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1. sínkérő most továbbengedi a hozzá érkezett BG0IN* jelet a 2.-hoz, és az az előbbiek szerint folytatja az arbitrálási cikl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4F8-C814-4345-81E8-78AD78415D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unkcionális szerkez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égy fő osztály, amelyek mindegyike egy sínből és a hozzátartozó funkcionális modulokból áll. Ez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ME vezérl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PU kárt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 kárt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/O kárt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nnek megfelelően van adatátviteli sín (Data Transfer Bus), megszakítási sín (Priority Interrupt Bus), arbitrációs sín (Arbitration Bus) és szolgáltató sín (Utility B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8F3-F7C9-4052-975F-77A7DE77CE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egszakításkezelés a VME sí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étszintű megszakításrendszer, minden szinthez dedikált megszakításkérő vezeték tarto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ax. 7 darab megszakításkezelő modul lehet a VME sínen, egy modul több szintet is kezel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szintre egy v. több megszakításkérő csatlakoz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gszakításkérést nyugtázó IACK* jelet láncolással (daisy chain) kezeli a VME s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8CA-7DEE-410E-AA40-2312A45C18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828800" y="2057400"/>
            <a:ext cx="152280" cy="1600200"/>
          </a:xfrm>
          <a:prstGeom prst="upArrow">
            <a:avLst>
              <a:gd name="adj1" fmla="val 50000"/>
              <a:gd name="adj2" fmla="val 26270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1981080"/>
            <a:ext cx="152280" cy="2210040"/>
          </a:xfrm>
          <a:prstGeom prst="upDownArrow">
            <a:avLst>
              <a:gd name="adj1" fmla="val 50000"/>
              <a:gd name="adj2" fmla="val 28891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990720"/>
            <a:ext cx="144792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szak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z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3124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átviteli sín      (D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657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ioritásos  megszakítás  sín     (Priority Interrupt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42670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rációs    sín (Arbitration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990720"/>
            <a:ext cx="144756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megszak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990720"/>
            <a:ext cx="144756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megszak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62920" y="990720"/>
            <a:ext cx="144756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. megszak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1981080"/>
            <a:ext cx="152280" cy="1067040"/>
          </a:xfrm>
          <a:prstGeom prst="upDownArrow">
            <a:avLst>
              <a:gd name="adj1" fmla="val 50000"/>
              <a:gd name="adj2" fmla="val 139493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1600200"/>
            <a:ext cx="152640" cy="1447920"/>
          </a:xfrm>
          <a:prstGeom prst="upDownArrow">
            <a:avLst>
              <a:gd name="adj1" fmla="val 50000"/>
              <a:gd name="adj2" fmla="val 188838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05520" y="1600200"/>
            <a:ext cx="152280" cy="1447920"/>
          </a:xfrm>
          <a:prstGeom prst="upDownArrow">
            <a:avLst>
              <a:gd name="adj1" fmla="val 50000"/>
              <a:gd name="adj2" fmla="val 189285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67480" y="1600200"/>
            <a:ext cx="152640" cy="1447920"/>
          </a:xfrm>
          <a:prstGeom prst="upDownArrow">
            <a:avLst>
              <a:gd name="adj1" fmla="val 50000"/>
              <a:gd name="adj2" fmla="val 188838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1600200"/>
            <a:ext cx="0" cy="2057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1600200"/>
            <a:ext cx="0" cy="19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8720" y="1600200"/>
            <a:ext cx="0" cy="2057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1981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33720" y="23623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124080" y="159984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1600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2057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952880" y="1600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1600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238880" y="1600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ásnyugtázás lánco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2438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ACK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380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ACKI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9720" y="380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ACKOU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38280" y="685800"/>
            <a:ext cx="533520" cy="1295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343400" y="838080"/>
            <a:ext cx="380880" cy="9907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9CE-D032-4F0C-AFB2-ABB1AF83B7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űköd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áskezelőhöz érkező kérés hatására a kezelő az arbitertől kéri a sín használati jog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megkapta, kiadja az IACK* (Interrupt Acknowledge) j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 a jel az első megszakításkérő IACKIN*  bemenetére j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z a megszakításkérő nem kért megszakítást, a jelet továbbadja az IACKOUT* kimenetére, ahova a következő kérő bemenete csatlako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 megszakításkérő, amelyik a megszakítást kérte nem adja tovább a nyugtázó j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BC8-007C-4239-9F51-3FA7748A24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áskezelő az adatátviteli sínre teszi az elfogadott megszakítási szint szám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áskérő ezt összeveti saját szintjével és ha megegyezik, az adatátviteli sínre teszi saját azonosítóját, ez lesz a megszakítási vektor, és ezt a DTACK* jellel érvényesí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ektor alapján megállapítható a végrehajtandó kezelőprogram cí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prioritás a szintek között rögzített (7 a max.), szinten belül is, ott a megszakításkérő helye a láncban adja a priori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01B-8C8E-44CF-BB97-CCC212DF3D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ME olvasási/írási cik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80880" y="838080"/>
          <a:ext cx="701064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701064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A16-94F5-485A-A2A6-5D30E216EE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műveletben résztvevő jel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zér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0~A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00~D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0~AM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RITE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S0*,DS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S0*,DS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WORD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TACK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RR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TRY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F3-1AE8-4799-B4C3-053006C79B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MAST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hajtja a címvonalakat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A01-A31),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ímmódosítás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AM0-AM5)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LWORD*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ek kijelölik, hogy melyik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LAVE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ímzet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MAST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eaktiválja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IACK*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o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zel jelzi, hogy nem IT elismerés ciklus jö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MAST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tivvá teszi a cím kapuzó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*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elet, jelezve, hogy érvényes cím van jele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MAST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eaktiválja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RITE*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elet, jelzi, hogy olvasási ciklus történi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MAST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S0*, DS1*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kapuzó jelekkel jelzi, hogy a 32 bite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00-D3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sínen hol várja az adato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émi idő múlva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LAVE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hajtja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00-D3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datvezetékeke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5AE-81F9-4577-824B-AA30B17874A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után az adat stabilizálódott, a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SLAVE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ktivizálja az adatátvitel nyugtázás jele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(DTACK*).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Hiba esetén a sín hiba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(BERR*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 vagy az ismétlés (RETRY*) jelet teszi aktívvá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sleltetés után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ASTER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evételezi az adatot a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D00-D3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vezetékekről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ASTER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vertálja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S0*/DS1*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eket, ezzel jelzi, hogy tárolta az adato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LAVE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vertálja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TACK*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et, ezzel jelzi, hogy befejezte a sínciklus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EC8-52CD-431D-AA4F-D88E345847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Jellemzők tábláz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04920" y="990720"/>
          <a:ext cx="8458200" cy="489564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llemz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ghatároz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gjegy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chitektú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ter/sl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Átvi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zinkron, multiplexelt és nem multiplexelt sínciklus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ncs központi óraj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ímtartomá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 24, 32, 40, 64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namikusan válth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atszél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 24, 32, 40, 64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namikusan válth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 igazított átvi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9E8-E587-49D8-94DF-AD9FCDF2A0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04920" y="304920"/>
          <a:ext cx="8458200" cy="575136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ba érzéke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gjegy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n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Átviteli sebessé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x. 500 Mhz körü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gszak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sz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ásos, 8, 16 vagy 32 bites vek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ltiprocessz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21 processz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ndszer dianoszt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FAIL* j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lyfüggő cím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 a VME64x-né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űködés alatti bőv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hetsé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83A-CFF9-42C6-9B69-F85D3E69965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6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20 of 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6846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0115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22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6960" cy="605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1752480"/>
            <a:ext cx="1447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175248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9625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57150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8EC-3154-4BD6-A5E5-083F56C775D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304920" y="304920"/>
          <a:ext cx="8458200" cy="260820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chanikai felép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gyszeres v. dupla magasságú Euro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gjegy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lhasználói I/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hetsé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nt pa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x. kártyahelyek szá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682-AF12-43DE-B092-969375D3086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atát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datátviteli sínen keresztül történik. A master, slave, megszakításkérő és megszakításkezelő egységek használják, esetenként a sín időzítő és a láncolt megszakítás meghajtó egység támogatásá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TB arbit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 arbitráció funkcionális egységei, a sínkérő és a hozzárendelés eldöntő az arbitrációs sín segítségével biztosítják a rendezett hozzáférést az adatátviteli sín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akításkez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t egység, a megszakításkérő és a megszakítá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ezelő a tartozik a prioritásos megszakítási sín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6A8-CE8C-4D50-A0E4-93FB1D63E0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olgált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Órajel, hibajelzés és törlőjel található a szolgáltatási sínen, továbbá ezen található két soros vonal, valamint a táplálás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46C-880A-457B-B0C7-B5B1F76A1A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4120" y="3505320"/>
            <a:ext cx="0" cy="167616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3505320"/>
            <a:ext cx="0" cy="2286000"/>
          </a:xfrm>
          <a:prstGeom prst="line">
            <a:avLst/>
          </a:prstGeom>
          <a:ln w="101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505320"/>
            <a:ext cx="0" cy="2286000"/>
          </a:xfrm>
          <a:prstGeom prst="line">
            <a:avLst/>
          </a:prstGeom>
          <a:ln w="101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505320"/>
            <a:ext cx="0" cy="2286000"/>
          </a:xfrm>
          <a:prstGeom prst="line">
            <a:avLst/>
          </a:prstGeom>
          <a:ln w="101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unkcionális modulok felépí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95280"/>
            <a:ext cx="14479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oros óraj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haj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8120"/>
            <a:ext cx="85341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átlap illesztő log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295280"/>
            <a:ext cx="13716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en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óraj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haj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295280"/>
            <a:ext cx="129564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á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eszül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igy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295280"/>
            <a:ext cx="11430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1295280"/>
            <a:ext cx="14479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ánc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haj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2400" y="1295280"/>
            <a:ext cx="11430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 időzí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36232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85800"/>
            <a:ext cx="9144000" cy="3124080"/>
          </a:xfrm>
          <a:prstGeom prst="rect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762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endszervezérlő 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43434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átviteli sín (D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800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ioritásos     megszakítás      sín                   (Priority Interrupt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rációs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ín                          (Arbitration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01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8672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olgáltató sín  (Utility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3505320"/>
            <a:ext cx="0" cy="121896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05920" y="3505320"/>
            <a:ext cx="0" cy="76176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800-E0DB-4E2A-9075-9C94324731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2514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36232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3505320"/>
            <a:ext cx="0" cy="167616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505320"/>
            <a:ext cx="0" cy="2286000"/>
          </a:xfrm>
          <a:prstGeom prst="line">
            <a:avLst/>
          </a:prstGeom>
          <a:ln w="101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505320"/>
            <a:ext cx="0" cy="2286000"/>
          </a:xfrm>
          <a:prstGeom prst="line">
            <a:avLst/>
          </a:prstGeom>
          <a:ln w="101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505320"/>
            <a:ext cx="0" cy="2286000"/>
          </a:xfrm>
          <a:prstGeom prst="line">
            <a:avLst/>
          </a:prstGeom>
          <a:ln w="101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3880"/>
            <a:ext cx="14479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okalizáci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8120"/>
            <a:ext cx="85341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átlap illesztő log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057400"/>
            <a:ext cx="13716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295280"/>
            <a:ext cx="129564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295280"/>
            <a:ext cx="11430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szakí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ás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2133720"/>
            <a:ext cx="14479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kér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1295280"/>
            <a:ext cx="11430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szakí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áskez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666880"/>
            <a:ext cx="152280" cy="381240"/>
          </a:xfrm>
          <a:prstGeom prst="upDownArrow">
            <a:avLst>
              <a:gd name="adj1" fmla="val 50000"/>
              <a:gd name="adj2" fmla="val 4983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236232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CPU        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3434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átviteli sín (D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4800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ioritásos     megszakítás      sín                   (Priority Interrupt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3341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rációs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ín                          (Arbitration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01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8672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olgáltató sín  (Utility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3505320"/>
            <a:ext cx="0" cy="121896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3505320"/>
            <a:ext cx="0" cy="76176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28600"/>
            <a:ext cx="85345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ámítógé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685800"/>
            <a:ext cx="152280" cy="83808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685800"/>
            <a:ext cx="152280" cy="533520"/>
          </a:xfrm>
          <a:prstGeom prst="upDownArrow">
            <a:avLst>
              <a:gd name="adj1" fmla="val 50000"/>
              <a:gd name="adj2" fmla="val 6974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685800"/>
            <a:ext cx="152280" cy="609480"/>
          </a:xfrm>
          <a:prstGeom prst="upDownArrow">
            <a:avLst>
              <a:gd name="adj1" fmla="val 50000"/>
              <a:gd name="adj2" fmla="val 7967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685800"/>
            <a:ext cx="152280" cy="609480"/>
          </a:xfrm>
          <a:prstGeom prst="upDownArrow">
            <a:avLst>
              <a:gd name="adj1" fmla="val 50000"/>
              <a:gd name="adj2" fmla="val 7967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16002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17524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600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1752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ME felü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80D-5C27-49D1-9A58-0947E725B88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905120"/>
            <a:ext cx="14479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971800"/>
            <a:ext cx="18288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átlap ill.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0666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0"/>
            <a:ext cx="2819160" cy="3733920"/>
          </a:xfrm>
          <a:prstGeom prst="rect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676520"/>
            <a:ext cx="1218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2670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átviteli sín (D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724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ioritásos     megszakítás      sín                   (Priority Interrupt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rbitrációs    sín                          (Arbitration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101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791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olgáltató sín  (Utility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429000"/>
            <a:ext cx="0" cy="1219320"/>
          </a:xfrm>
          <a:prstGeom prst="line">
            <a:avLst/>
          </a:prstGeom>
          <a:ln w="1015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4920"/>
            <a:ext cx="14479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371600"/>
            <a:ext cx="152280" cy="533520"/>
          </a:xfrm>
          <a:prstGeom prst="upDownArrow">
            <a:avLst>
              <a:gd name="adj1" fmla="val 50000"/>
              <a:gd name="adj2" fmla="val 6974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51460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429000"/>
            <a:ext cx="0" cy="83808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1981080"/>
            <a:ext cx="144792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981080"/>
            <a:ext cx="144792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gszak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57200"/>
            <a:ext cx="30481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 esz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10666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2971800"/>
            <a:ext cx="3200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átlap illesztő log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429000"/>
            <a:ext cx="0" cy="83808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0"/>
            <a:ext cx="4876920" cy="3733920"/>
          </a:xfrm>
          <a:prstGeom prst="rect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2057400"/>
            <a:ext cx="1218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3880"/>
            <a:ext cx="7086600" cy="0"/>
          </a:xfrm>
          <a:prstGeom prst="line">
            <a:avLst/>
          </a:prstGeom>
          <a:ln w="381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1143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M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elü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51460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51460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1D3-33B9-470F-A41C-7DF4AE635D8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rbitrálási eljárások osztályoz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rbitrálás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tikus, amikor minden master adott időszeletben férhet hozzá a sín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ű, de rossz a sín kihasználás és felesleges várakozásra kényszerülhetnek a mas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gazságos, garantált sávszélesség minden master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inamikus, amikor a sínhasználat jogát a felmerülő igények szerint osztjuk 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ín megszerzése (bus allocation polici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ioritásos, minden masterhez prioritást rendelünk, ez a legalacsonyabb prioritású masternél éhezéshez vezet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C08-96BA-4031-9EEC-0E10C771E6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filp</cp:lastModifiedBy>
  <dcterms:modified xsi:type="dcterms:W3CDTF">2004-03-22T13:06:18Z</dcterms:modified>
  <cp:revision>174</cp:revision>
  <dc:subject/>
  <dc:title>TELJESÍTMÉNYFOKOZÓ ARCHITEKTÚRÁLIS ELVEK</dc:title>
</cp:coreProperties>
</file>