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DB9-3254-4054-ACAE-F2306CFC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A2C-D8A3-4B91-8A33-5D1F6716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51C-93AC-435F-A397-C985FCD7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ADD-598C-4C70-85FB-B6BD2404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ACF-5BF0-47ED-8675-510D0DD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00A-29CC-4BA9-B74A-C937790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0CF-0634-4049-8450-4AC1B66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BF3-8A51-40E9-8BF0-EEEDC7F6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E85-517A-471F-832E-7FF4B69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F62-BE31-472E-85A0-0610666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A92-5034-41BF-B234-EFF48A0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A67-5E5D-4CF5-B255-28402D71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E60-DA52-42AA-82B9-DDD056FFCC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TÖBBFELHASZNÁLÓS RENDSZEREK TÁMOGA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Eg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program nem tudja hatékonyan kihasználni a gép erőforrása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lyan op.rendszer kell, ami több alkalmazást képes futtatni, ez növeli az átbocsátóképessé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sk v. processz: olyan tevékenység, ami a gépben más tevékenységekkel elvben párhuzamosan történ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task egy programot futtat, azaz a task egy program egyszeri végrehaj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569-2230-4A55-8AF4-FA11076973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ációs rendszer ellenőrizheti a felhasználói taszk állapotát, ha úgy dönt, hogy végtelen ciklusba jutott, üzenhet, leállíthatja, még több időt adhat ne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dőzítő mellesleg a gépi időt is mé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lítása csak rendszer üzemmódban lehetsé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/O véde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ata annak megelőzése, hogy a felhasználói taszkok ugyanazokat a perifériákat egymásról nem tudva, közösen használj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oldás módja: az I/O utasítások nem hajthatók végre felhasználói üzemmód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783-9F90-4518-AAB5-599D073E00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rivilégium szin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gyan érhető el, hogy I/O utasításokat ne lehessen felhasználói programból végrehaj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zessünk be különböző jogosultsági szinteket, és szabjuk meg, hogy melyik szinten mit lehet vég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j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hhez mindenképpen kell hardver támogatá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egyszerűbb esetben két privilégium szintet valósítunk meg: felhasználói és rendszer (kernel ) szint (duál működési mó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különítésük egyetlen jelzőbittel történ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EB7-B041-45D0-B747-A186AC29A1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ód jelző bitet hardverrel valósítjuk m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ép bekapcsolásakor, illetve rendszerindításkor mindig a rendszermód az aktí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elhasználói taszkok indításakor az operációs rendszer állítja át a módjelzőt felhasználói mó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nden megszakítás (és kivételes állapot) automatikusan rendszer módba viszi a CPU-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vilegizált utasítások: olyan utasítások, amelyeket csak adott privilégium szinten (és afelett)  lehet végrehajtani, k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b szinten történő kísérlet kivételes állapotot okoz. (rendszer mód / felhasz. mód!)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8088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nak nincs módjelzője, nem tud duál módban működni, ezért a DOS nem is véd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80486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nak van mód bitje,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indows NT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BM OS/2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sználj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877-A13E-4432-B366-541A66A6E3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Gyűrűs véde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rszerű CPU-k támogatják a kettőnél több privilégiumszin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Úgy képzelhetjük, mintha az egyre magasabb szintű programokat körülvennék az alacsonyabb szintek program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a (képzelt) elrendezés vezetett a gyűrűs védelem (ring protection) elnevezés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gyakrabban 4 privilégiumszintet támogat a hardver, a legmagasabb a 0, legalacsonyabb a 3-as sz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7C5-B61E-4C9A-935D-633C6B4316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304920"/>
            <a:ext cx="3124080" cy="2928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34290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csak lehetőség! Nem biztos, hogy az operációs rendszer ki is haszná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Win95 csak két szintet (0 és 3) haszn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09480"/>
            <a:ext cx="2438280" cy="228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914400"/>
            <a:ext cx="1676520" cy="1676520"/>
          </a:xfrm>
          <a:prstGeom prst="ellipse">
            <a:avLst/>
          </a:prstGeom>
          <a:solidFill>
            <a:srgbClr val="3333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295280"/>
            <a:ext cx="914400" cy="9144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33520"/>
            <a:ext cx="22860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066680"/>
            <a:ext cx="1981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971440" y="160020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62320" y="2057400"/>
            <a:ext cx="2743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04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ing 3: alkalmaz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838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ing 2: OS kiterj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ing 1: OS ruti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828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ing 0: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C14-4841-4989-9C91-296A83B29D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lektorok és leírók mégegy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21337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6 bites szel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743200"/>
            <a:ext cx="21337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eír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32 bit báziscí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990720"/>
            <a:ext cx="2133720" cy="175248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3657600"/>
            <a:ext cx="2133720" cy="76212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600200"/>
            <a:ext cx="21333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6/32 bites elt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048120"/>
            <a:ext cx="333360" cy="3333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200400"/>
            <a:ext cx="2133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23623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352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809880"/>
            <a:ext cx="21333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32 bites lineáris 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36232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20040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429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írótá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GDT v. L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egmens 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b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5029200"/>
            <a:ext cx="21337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13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5029200"/>
            <a:ext cx="5331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029200"/>
            <a:ext cx="11430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2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: 0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DT 1 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2578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PL: megkövetelt privilégiumszint (0..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elektor felép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8FD-82F9-4FBC-8529-3AECE648A0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gmensleíró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143000"/>
            <a:ext cx="5562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ossz (lim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676520"/>
            <a:ext cx="5562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 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209680"/>
            <a:ext cx="18288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2096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2209680"/>
            <a:ext cx="15238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í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209680"/>
            <a:ext cx="1143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096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200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: jelenlét (present) 0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incs 1 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j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65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PL: leíró privilégium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038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: hozzáférés jel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49568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ípus: rendszer v. felhasználói szegmens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ap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g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ód, adat v. stack szeg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D38-4FAD-46D6-B1CB-266BEB12DF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védelem szabály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taszknak több szinten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he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kód és adatszegmense, 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den szinte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n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tackszegm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ódszegmens szelektorában RPL helyett a CPL-lel jelölt aktuális privilégiumszint található (ez egyben a stackszegmensé is!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elektor és a leíró privilégiumszintje eltérhet egymástó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ényleges privilégiumszint 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PL = max( CPL, RP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A40-2FE4-4B4C-8537-C68D727746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abál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ck szegmensre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PL = D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szegmensre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PL </a:t>
            </a:r>
            <a:r>
              <a:rPr b="1" lang="hu-HU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D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hát az azonos szintű, illetve kevésbbé védett adatok érhetők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0 szintű taszk minden adatszegmenst elér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ódszegmensre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PL = D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mégis el kellene érni egy olyan szegmenst amit a szabályok tiltanak, azaz szintet kell váltani, akk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szakításkéréssel jelzünk az op. rendszer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ú.n.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kapu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at (illesztő szegmensleírókat) alkalmazunk.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6FC-0402-4FB3-B3FE-BF84D02A25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ívási kapuk (különleges rendszer szegmensek) közvetlenül elérhetők egy külső gyűrűből is, a 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DPL</a:t>
            </a:r>
            <a:r>
              <a:rPr b="1" lang="hu-HU" sz="3200" spc="-1" strike="noStrike" baseline="-20000">
                <a:solidFill>
                  <a:srgbClr val="ffff00"/>
                </a:solidFill>
                <a:latin typeface="Times New Roman"/>
              </a:rPr>
              <a:t>kapu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CPL</a:t>
            </a:r>
            <a:r>
              <a:rPr b="1" lang="hu-HU" sz="3200" spc="-1" strike="noStrike" baseline="-20000">
                <a:solidFill>
                  <a:srgbClr val="ffff00"/>
                </a:solidFill>
                <a:latin typeface="Times New Roman"/>
              </a:rPr>
              <a:t>hívó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a 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DPL</a:t>
            </a:r>
            <a:r>
              <a:rPr b="1" lang="hu-HU" sz="3200" spc="-1" strike="noStrike" baseline="-20000">
                <a:solidFill>
                  <a:srgbClr val="ffff00"/>
                </a:solidFill>
                <a:latin typeface="Times New Roman"/>
              </a:rPr>
              <a:t>kapu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EPL</a:t>
            </a:r>
            <a:r>
              <a:rPr b="1" lang="hu-HU" sz="3200" spc="-1" strike="noStrike" baseline="-20000">
                <a:solidFill>
                  <a:srgbClr val="ffff00"/>
                </a:solidFill>
                <a:latin typeface="Times New Roman"/>
              </a:rPr>
              <a:t>cél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kötések figyelembevétel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i lehetőség van ú.n. „conforming code segment”-ek írására is, amelyek szintén közvetlenül hívhatók külső gyűrű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j.: Win9x nem használja egyik módszert s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C68-25EA-4EA6-B5E8-DCAB14F962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szkleíró: az az adatszerkezet, amit az operációs rendszer állít fel és használ a taszkok kezelésére (azonosítás, állapotjelzés, cs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zikai és virtuális processz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ltekintünk a nultiprocesszoros rendszerektől, akkor a gépben csak egy darab CPU található, ez a fizikai process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gyanakkor az átlátszóság követelménye miatt minden egyes taszknak úgy kell észlelni, hogy saját processzorral működik. Ez a virtuális process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erációs rendszer a fizikai processzort adott időtartamra hozzárendeli az egyes taszkok virtuális processzorá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BF0-308C-4B1C-A453-A7A4F76556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I/O védelem megvalós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észítsük ki a jelzőbitek regiszterét, a flag regisztert két bittel és tartalmazzák ezek az I/O privilégium szintet (IOP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ülönböztessünk me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ivilegizált utasításokat, amelyek csak CPL=0 mell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hajthatók végre (pld. leírótábla kezelő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emelt (trusted) utasításokat, amelyek csak CPL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IOPL esetben hajthatók végre, ilyen az összes I/O uta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54B-6939-4CF7-BBC7-E4B13C0682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endszerhív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talában megszakításkéréssel, szoftver interrupt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ívánt szolgáltatás azonosítása regiszterek feltöltésével lehetsé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S DOS konvenció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unkciókód  AH-ba (a 16 bites A regiszter felső 8 bi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van al-funkci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a kódja az AL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araméter DL illetve DX regiszt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NT 21H megszakításk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issszatérési kód az AL regiszt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507-06FD-45E6-8AEF-FB2A1C5161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 egy karakter kiiratása a képernyő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L,41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; ‘A’ karakter 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H,02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; DOS funkc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ókó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Op. rendszer hív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ndszerhívás egy ugrótáblában a funkciókód segítségével azonosítja a hívott rut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szatérés IRET utasítással (interrupt retur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BM 360 család: lényegében u.a., csak itt SVC (supervisor call) utasítás kért megszakí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Windows: itt is az INT utasítás az al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6EC-DB05-4057-9209-88983BCC92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apu szerkez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838080"/>
            <a:ext cx="5562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él-elt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371600"/>
            <a:ext cx="55623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él-szelektor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1828800"/>
            <a:ext cx="18288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ar.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828800"/>
            <a:ext cx="15242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í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828800"/>
            <a:ext cx="1143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82880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: jelenlét (present) 0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incs 1 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j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200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PL: leíró privilégium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809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ípus: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a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1371600"/>
            <a:ext cx="838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828800"/>
            <a:ext cx="99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ar. h: átadott paraméterek hossza (hívó stack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ívo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952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gyanilyen a megszakítási és eltérülési kapu is, csak param. hossz mező nin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1828800"/>
            <a:ext cx="3808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AD5-2CE7-402F-ADEE-D4172CD1CF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aszk nyilvántartása, taszk vált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ltitaszkos rendszerben minden egyes taszk állapotát nyilván kell tartani. Az erre a célra szolgáló terület különleges szegmens, a taszk állapot szegmens (T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ét egy rendszer szegmens regiszter, a TSSR tartalmaz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SS rész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sszatérési szelektor: a taszkot aktiváló taszk sze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aszk stack szegmenseinek címei, a 0, 1 és 2 privilégium szintekre, SS:SP formában (a 3.szintű címe regiszterekbe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5DB-EBDB-4B9C-AED6-EAC93842A6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aszk állapota, vagyis összes regiszterének tartalma. Belépési pontját az IP muta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okális adatszegmensének (LDT) sze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aszkváltáshoz egy taszk-kapura van szükség. Felépítése mint a hozzáférési kapué, különb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eltolás, mert az IP megadja a kezdőcí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paraméterhossz, mert nincs paraméter át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724280"/>
            <a:ext cx="5562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XXX....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257800"/>
            <a:ext cx="5562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SS célszelektor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5715000"/>
            <a:ext cx="18288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X..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715000"/>
            <a:ext cx="16002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715000"/>
            <a:ext cx="1143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71500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5257800"/>
            <a:ext cx="838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5715000"/>
            <a:ext cx="4572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491-B804-4D6B-A609-5A98FB5E57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lyen taszk kapu lehet a GDT-ben, az LDT-ben és az 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ID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-ben is (IDT= megszakítás leírók táblá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szkváltás folyam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ívott taszk létezzen és ne legyen fogl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PL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DPL feltétel teljesüljö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taszk IT-t generál (rendszerhívássa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DT megfelelő szintjén egy taszk-kapu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SS célszelektor bemásolódik a CPU taszk szelektorába (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bemásolt TS a GDT-ből kiválasztja 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ot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taszk leírój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42A-C360-4435-B40A-8A32E28B81C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történik a fenti két feltétel ellenőr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PU regisztereit 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taszk állapotszegmensébe másolja az op.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eíróból feltöltődik a CPU-ban a TS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zelektora beíródik 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ot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TSS-é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ívot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regiszterei feltöltődnek a TSS-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TSS-ben lévő LDT szelektor alapján kiválasztódik az LDT leíró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nnek alapján feltöltődik az LDT bázis és limitregiszt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ár hozzáférhető LDT bejegyzései alapján meghatározható a kód, stack és adatszeg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S:IP által adott címről kezdődik a végrehaj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F4A-6471-45F5-B3B7-BB8F0148D6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tomi (oszthatatlan) utasít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ltitaszkos (és többprocesszoros) rendszerekben gyakran előfordul a következő felad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zsgáljuk meg egy jelző állás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nem foglalt, állítsuk foglal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ézzünk két (nem jó!) megoldá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,JELZO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,JEL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CMP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,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B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JR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NZ,valahova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JELZO,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,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CMP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JELZO,A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JR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NZ,valahov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954-58EC-4AC6-956E-02C558422E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ért nem jó ez? Azért, mert a jelző olvasása és beállítása között bekövetkezhet egy IT, és ennek hatására egy taszkváltás, az új taszk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szabadnak találhatja a jelzőt és beállítja, majd ugyanezt teszi a megszakított taszk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oldás: olyan utasítás kell, ami a fenti műveletet úgy végzi el, hogy azt nem lehet kettéosztani. Ezek az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omi utasí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ülönféle megvalósításai létez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st and Set: vizsgál és beáll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wap: két érték oszthatatlan cseré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AE8-7A39-4573-9F27-4D9588B17E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valós memória szer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3886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támogatja a multitaskingot, csak az operációs rendszert védi a felhasználói programoktól. A határregiszter csak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ndszer-módba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változtat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02888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.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714680"/>
            <a:ext cx="1981080" cy="190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elhasznál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rogram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erü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333440"/>
            <a:ext cx="25909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atár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95480" y="17146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400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partíciós memó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058-D389-4A77-AEA9-E18445B4F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tásuk C szintakszissal leír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bool TestAndSet( bool Flag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bool Temp = Fla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Flag =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return Te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void Swap( bool Var1, bool Var2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bool Temp = Var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Var1 = Var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Var2 = Te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F60-E2ED-4EDA-B02B-175B37AC2A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rlátozott multiprogramozás: taszkváltáskor a futott taszkot háttértárra mentjük, az éppen aktívvá válót onnan betöl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szerű, kis memóriával is működik, de lassú:Windows 3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049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.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990720"/>
            <a:ext cx="1981080" cy="190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elhasznál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rogram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erü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609480"/>
            <a:ext cx="25909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atár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95480" y="9907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552760"/>
            <a:ext cx="1752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9051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1905120"/>
            <a:ext cx="17524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1752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01924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95120" y="262908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638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áttértá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705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wap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486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wap-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AB7-FED2-4712-9AD7-9F6F8D085D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41907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áttértár műveleteit át lehet lapolni a taszkok futtatásá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orsabb működés, bonyolultabb program, több memó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28600"/>
            <a:ext cx="1981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.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86000"/>
            <a:ext cx="198144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elhasznál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rogram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erü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895480"/>
            <a:ext cx="2590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atár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19520" y="2286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866960"/>
            <a:ext cx="1752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219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1219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219320"/>
            <a:ext cx="17524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914400"/>
            <a:ext cx="1752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33344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895120" y="194328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952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áttértá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wap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80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wap-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914400"/>
            <a:ext cx="1981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iviteli p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600200"/>
            <a:ext cx="1981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hozatali p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28600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2767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49A-BE84-4017-BF0F-ACAD7AAD7B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öbbpartíciós szervez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ultitaskinghoz leginkább alkal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atárregiszterek az éppen futó taszk memóriáját jelö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lításuk taszkváltás so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7621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.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8195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4479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. tas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1337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2. tas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505320"/>
            <a:ext cx="19810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. tas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1600200"/>
            <a:ext cx="25909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. határ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514600"/>
            <a:ext cx="25909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2. határ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90920" y="21337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90920" y="28195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4E-D5BA-4C3A-9035-8418FC114B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móriavédelemnek legalább az IT vektorokra és az IT kezelő rutinokra ki kell terjednie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ét határregiszter helyett inkább másik két reg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tert használnak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zis regiszter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–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egkisebb értékű hozzáférhető fizikai memóriacímet tartalma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mit regi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r –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hozzáférhető tartomány méretét tar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mazza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ijelölt tartományon kívüli memória védet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1D2-1CAD-4220-9B49-188CD91046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móriavédelem műkö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971800"/>
            <a:ext cx="11430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819520"/>
            <a:ext cx="1600200" cy="12189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1295280"/>
            <a:ext cx="21337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 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1295280"/>
            <a:ext cx="21337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ázis +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0574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743200"/>
            <a:ext cx="1600200" cy="1219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27672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8195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0384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39625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819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0384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3962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32767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648320"/>
            <a:ext cx="2362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ivételes álla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címzési hi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705-A2D8-4214-A391-B43C5FE864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védelem fela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gátolni, hogy egy felhasználói program végtelen ciklusba jutva állandóan magánál tartsa a vezérlé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oldás módja: időzítő egység (timer) alk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előtt egy felhasználói taszkot indítana, az operációs rendszer „felhúzza” az időzítő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re meghatározott idő múlva IT kérés keletkezik, a vezérlés visszakerül az op. rendszer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PU és I/O véde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26E-3023-4D9D-9F58-BAD43673C5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5-10-04T21:31:40Z</dcterms:modified>
  <cp:revision>110</cp:revision>
  <dc:subject/>
  <dc:title>TELJESÍTMÉNYFOKOZÓ ARCHITEKTÚRÁLIS ELVEK</dc:title>
</cp:coreProperties>
</file>