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BE76-D954-42EE-AA78-C4AD6C08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B6CA-A445-4055-8214-E052EF8B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6CEF-1A22-410B-9C69-EBCDD754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23D6-47DE-4CBC-9A70-9485644B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40B9-2E97-439F-8445-9C913A34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3B6-B4EF-4EE8-B9CA-8E2F1BF0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B23A-88F7-4019-B190-296EEF14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A808-0767-40BC-A388-B1E08A2C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8417-9B35-406A-88C9-D6C672B0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063-B45C-4510-A9E3-D528D4CF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4CAD-C5EC-4432-A4D0-4A37334B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1CD7-704A-419A-B3A1-FFED9D1B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4D75-B679-494A-BD82-9C64DA1099E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A PERIFÉRIÁ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ő szerepü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felhasználóval, más gépekkel történő kapcsolattar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agytömegű adat tárolása (háttértára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áttértár megvalósítás alapj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ágneses: merevlemez, mágnesszal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Optikai: CD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C24C-51D1-4A7B-B7DF-6594CD8422B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Jelen: az IDE alkalmazása lehetővé tette, hogy sávonként változó számú szektort használju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írássűrűség növelése és a kihasználatlan terület csökkenése drasztikusan csökkentette a lemezek, vele együtt a fejek szám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Címzés: él még a régi CHS, de ezt az IDE  „lefordítja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gjelent a logikai blokk címzés (LBA), ez egyszerűen a szektor-számra épülő, lineáris címz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7B42-440E-4D37-9027-0FE25610518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Szektor átlapolás (sector interleav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nagy írássűrűség és a gyors forgás miatt előfordulhat, hogy egymás utáni szektorok olvasásakor még nem fejeződik be az első szektor adatainak átvitele amikor már a második szektor bitjei haladnak el a fej ala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övetkezmény: várni kell egy fordulat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goldás: a szektorokat nem címük szerinti sorrendben írjuk a lemez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4742280"/>
            <a:ext cx="6094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4742280"/>
            <a:ext cx="60984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4742280"/>
            <a:ext cx="6094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4742280"/>
            <a:ext cx="6094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4742280"/>
            <a:ext cx="60984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4742280"/>
            <a:ext cx="6094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4742280"/>
            <a:ext cx="6094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504400"/>
            <a:ext cx="6094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5504400"/>
            <a:ext cx="60984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5504400"/>
            <a:ext cx="6094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5504400"/>
            <a:ext cx="6094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5504400"/>
            <a:ext cx="60984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5504400"/>
            <a:ext cx="6094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5504400"/>
            <a:ext cx="6094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4800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Normál sor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54864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Kettes átlapol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4F9-D7F3-4E37-9E66-B820BF0F177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Írásmód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elérhető írássűrűségre a legnagyobb hatással az a mód van, ahogyan a rögzítendő információnak a mágnesezés átváltásokat megfeleltetjük, ez az írásmó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124080"/>
            <a:ext cx="396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1     1     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1     0     1      0     0     0     1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3124080"/>
            <a:ext cx="0" cy="29718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3124080"/>
            <a:ext cx="0" cy="29718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3124080"/>
            <a:ext cx="0" cy="29718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3124080"/>
            <a:ext cx="0" cy="29718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124080"/>
            <a:ext cx="0" cy="29718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3124080"/>
            <a:ext cx="0" cy="29718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3124080"/>
            <a:ext cx="0" cy="29718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3124080"/>
            <a:ext cx="0" cy="29718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3124080"/>
            <a:ext cx="0" cy="29718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3124080"/>
            <a:ext cx="0" cy="29718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50532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380988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350532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380988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380988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350532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3505320"/>
            <a:ext cx="0" cy="304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505320"/>
            <a:ext cx="0" cy="304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3505320"/>
            <a:ext cx="0" cy="304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3505320"/>
            <a:ext cx="0" cy="304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3505320"/>
            <a:ext cx="0" cy="304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3505320"/>
            <a:ext cx="0" cy="304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3809880"/>
            <a:ext cx="152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80880" y="3809880"/>
            <a:ext cx="152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342900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NRZI: 1-es cella végén átme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03848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40384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40384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4038480"/>
            <a:ext cx="152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0384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434340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40384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038480"/>
            <a:ext cx="304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40384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34340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40384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403848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40384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434340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40384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434340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403848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40384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0384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52680" y="40384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434340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403848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40384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40384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434340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403848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4343400"/>
            <a:ext cx="3812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40384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4038480"/>
            <a:ext cx="380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39625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E: 1-es fel, 0: 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480060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4495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449568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4495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4800600"/>
            <a:ext cx="304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4495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49568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4495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80060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4495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449568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4495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480060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4495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449568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4495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480060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666880" y="449532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449568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4495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480060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4495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52680" y="449568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9880" y="4495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480060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7080" y="4495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449568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4495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4800600"/>
            <a:ext cx="3812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44197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M: 1 es 2 átmenet, 0 egy átme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5257800"/>
            <a:ext cx="3812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62120" y="495252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95288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49528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525780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752480" y="495252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495288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49528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525780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49528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495288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49528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525780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495680" y="495252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4952880"/>
            <a:ext cx="304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76920" y="495288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FM: 1 váltás középen, </a:t>
            </a:r>
            <a:br>
              <a:rPr sz="2000"/>
            </a:b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0: váltás a cella elején</a:t>
            </a:r>
            <a:br>
              <a:rPr sz="2000"/>
            </a:b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(kivéve 1 utá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5781-9B35-4483-AAAE-B184B57F7D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RZI: nem önszinkronizáló, ezért csak mágnesszalagnál alkalmazható, a paritás csatorná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E: mágnesszal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M: egyszeres sűrűségű flop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FM: dupla és magas sűrűség (DD, HD), ez sem önszinkronizáló, de egy külső órajelet hozzászinkronizálva legfeljebb két periódusra marad magára az órajel-generá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445-5D48-4D1B-B9B2-46E23DA3B3F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Szektor szervez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ét lehetősé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emény” szektor: a szektor kezdetét a hordozón kialakított jel (bemarás, lyuk) mutatja. Nem használ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ágy” (soft) szektor: csak a sáv kezdetét jelzi a hordozó, a szektor kezdetét valamilyen különlegesen felírt információ jelz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4572000"/>
            <a:ext cx="761760" cy="5335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4572000"/>
            <a:ext cx="1219320" cy="5335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INDEX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4572000"/>
            <a:ext cx="762120" cy="5335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4572000"/>
            <a:ext cx="761760" cy="5335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572000"/>
            <a:ext cx="762120" cy="5335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4572000"/>
            <a:ext cx="2438280" cy="5335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DATA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238880" y="4572000"/>
            <a:ext cx="762120" cy="5335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41911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5715000"/>
            <a:ext cx="761760" cy="5335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ID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5715000"/>
            <a:ext cx="838440" cy="5335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T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5715000"/>
            <a:ext cx="761760" cy="5335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5715000"/>
            <a:ext cx="762120" cy="5335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 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5715000"/>
            <a:ext cx="762120" cy="5335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5715000"/>
            <a:ext cx="761760" cy="5335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R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5715000"/>
            <a:ext cx="762120" cy="5335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R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04560" y="5105520"/>
            <a:ext cx="2971800" cy="5331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5105520"/>
            <a:ext cx="1600200" cy="6094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72200" y="5715000"/>
            <a:ext cx="609480" cy="5335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05720" y="5715000"/>
            <a:ext cx="761760" cy="5335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67480" y="5715000"/>
            <a:ext cx="762120" cy="5335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r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53280" y="5715000"/>
            <a:ext cx="685800" cy="5335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r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38880" y="5105520"/>
            <a:ext cx="1600200" cy="6094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5105520"/>
            <a:ext cx="1371600" cy="5331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9625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loppy lemez szektorformátu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38862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emez kezdet j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434-E33A-4089-8ADD-10B36ED8CE2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GAP: hézag, a toleranciák miatt szükséges, csupa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NDEX ID: szinkronizáláshoz szükséges mi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D M: index cím jel, ez az a különlegesen rögzített byte, amivel a szektorkezdet megtalálhat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R N: a sáv szá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 N: oldalszám (0 v. 1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 N: szektor szá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 L: a szektor hoss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RC: hibaellenőrzés ellenőrző összeg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: érvényes/törölt jel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D99C-BBBE-4069-BAED-0A347410756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Jellemző adat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apacit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á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1,44 MB flopp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x100MB~x10GB merevlem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érési idő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Floppy: nem jelentős paramé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5~10 ms merevlem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ás mágneses háttértár: mágnesszal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őleg archiválási célok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ülönféle szalagszéles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orszerű: szalag zárt kazettá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érés: soro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apacitás: xGBy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CC7E-DC3B-4210-A144-29D9CAED1A5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Optoelektromos háttértár (CDRO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árolás elve: fókuszált kb. 1 </a:t>
            </a:r>
            <a:r>
              <a:rPr b="1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 átmárőjű lézersugarat fényvisszaverő felületről reflektáltatunk. A felületen apró bemélyedéseket (pit) alakítunk ki, az ezekről visszaverődő sugár intenzitása eltér a bemélyedés nélküli területről (land) visszavert sugárét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9466-D32C-4E3E-8F36-298CB9019C6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410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optikai tárolás e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cdrom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769608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10CA-2519-425D-8BA5-AB4BE468BEB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Főbb jellemző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sávok nem koncentrikus körök, hanem egyetlen spirál alakú sáv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Írás belülről kifelé történ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sprirálon alakítják ki a sávokat, de ez csak logikai megkülönbözte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sávon belül szektorok mérete 2352 byte, ezen belül változó mennyiségű adat találha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Olvasási sebesség: egyszeres sebességnél egy szektor olvasása 1/75 másodpercig 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A7C-322B-4252-9B69-377B332E46E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á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neses </a:t>
            </a: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adattárolá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lapj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mágneses anyagok két jól megkülönböztethető mágnesezettségi állapotot vehetnek f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mágnesezés megszűnte után is megmaradnak ezen állapotok valamelyikében, anélkül, hogy ehhez energiát használnának f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mágneses tárolókban valamilyen hordozóra (merev ill. hajlékony) felvitt vékony mágnesezhető réteg mágneses állapotát változtatjuk meg (írás) illetve az állapotváltozás által indukált feszültséget érzékeljük (olvasá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C5D4-F559-4123-97AE-C4FA7645B03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ibajavító kódot alkalmaznak az írás sor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ár házilag is írható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CD v. mágneslem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datsűrűsé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Floppy 96 sáv inchenké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D 16 000 sáv in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nké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mágneslemez gyors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CD ideális hosszú idejű tárolásra, programok terjesztésé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CD nem kényes a környezetre (mágneses tér, karcolá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6094-D086-4A76-810B-ED345FEF93D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CDSection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257800" cy="5715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CD olvasás vázl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E53-605F-4637-8BA8-78A198A901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Megjelenítő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lfanumerikus: csak betűk/számok. Olcsó, célberendezések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Grafikus: betűk, számok, rajz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erminál: több, mint be/kiviteli eszköz, korlátozott adatfeldolgozást is végez, elsősorban távoli géppel történő együttműködésre szolgá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90A1-0995-407E-AC16-FC92152B7B6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Monitor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at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ódsugárcsöv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ektronágyúból kilépő elektronsugár foszforba ütközve látható fényt gerjesz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ágneses eltérítés, különböző foszforvegyület különböző színt hoz lé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Jellemző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Felbontás (pont/sor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orok száma) (kárty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ont mé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zínek száma (kártya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Sorfrekvencia, k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épfrekv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crt" descr="CRT Monitor"/>
          <p:cNvPicPr/>
          <p:nvPr/>
        </p:nvPicPr>
        <p:blipFill>
          <a:blip r:embed="rId1"/>
          <a:stretch/>
        </p:blipFill>
        <p:spPr>
          <a:xfrm>
            <a:off x="4648320" y="2819520"/>
            <a:ext cx="4190760" cy="34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9770-1C67-460B-AD47-0905F35E42C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Folyékony kristályos (LC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olyékony kristály oldat van két különleges polarizáló anyagból készült lap közö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gyenáram hatására a kristályok úgy rendeződnek el, hogy a fény nem tud áthaladni rajtuk (fekete-fehér), illetve csak bizonyos színű fényt engednek át (színes)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élysége jóval kisebb a CRT-né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épminősége nem annyira jó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711C-5532-4156-B423-36082B9A294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Fig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0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6476-090C-4E89-8344-75AE4229AE63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basfig2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43131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80880" y="487692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lektromos tér nélkül a molekulák 90 fokot fordítanak a fénysugarak polarizációs síkján. A fény áthalad a hátoldali üvegen és visszaverődik. A szemlélő a visszaverő felületet látja (ezüstös-barnás szín).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4495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wisted Nematic L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9690-E839-4CD6-873E-B9086BE24FF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basfig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31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0" y="480060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lektromos tér esetén a molekulák nem változtatnak a fénysugarak polarizációs síkján. A fény nem halad át a hátoldali üvegen és elnyelődik. A szemlélő fekete karaktert lát az ezüstös-barnás színű háttér előt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CB8-7C2E-4B72-8D77-AA4712DD36BC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Plazma monitor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LCD-hez hasonlóan itt is két síklap között elhelyezkedő anyag, egy gázkeverék kelti a látható fény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agyfeszültség hatására a gázban kisülés keletkezik, ez ultraibolya sugárzást ok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ultraibolya sugarak gerjesztik a foszfor kristályokat, ezek adják a látható fény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agyméretű, jó minőségű kép, de drá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2FE1-0EFA-45F5-A64F-021DB2D728F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Megjelenítők: nyomtató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ét alapvető típ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Ütéssel működő (impact): sornyomtató, mátrixnyomtat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Ütés nélküli (non-impact): tintasugaras, lézer, h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Ütéssel működő nyomtatás e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impact_printing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4419360" cy="258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7C8-0974-43F5-A8F6-757FE9A9B75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41907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zempontok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is helyen sok adat, azaz nagy írássűrűsé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adatok maguk tartalmazzák az olvasáskor szükséges időzítő jelet, az órajele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3276720"/>
            <a:ext cx="6477120" cy="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3314880"/>
            <a:ext cx="647712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105520" y="3505320"/>
            <a:ext cx="22096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274320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14800" y="274320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2743200"/>
            <a:ext cx="762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2743200"/>
            <a:ext cx="762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3124080"/>
            <a:ext cx="1143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3124080"/>
            <a:ext cx="1143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743200" y="1142640"/>
            <a:ext cx="0" cy="1981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257800" y="1142640"/>
            <a:ext cx="0" cy="1981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1143000"/>
            <a:ext cx="2514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124080" y="1523520"/>
            <a:ext cx="0" cy="1219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876920" y="1523520"/>
            <a:ext cx="0" cy="1219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523880"/>
            <a:ext cx="17528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838080"/>
            <a:ext cx="1600200" cy="91440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200400" y="533520"/>
            <a:ext cx="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800600" y="533520"/>
            <a:ext cx="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743200"/>
            <a:ext cx="75960" cy="533520"/>
          </a:xfrm>
          <a:prstGeom prst="rect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3124080"/>
            <a:ext cx="228600" cy="763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5335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teker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1371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asmag (nem vas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37339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hordoz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8195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ágneses rét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37339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haladás irán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Íróáram / kiolvasott j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2514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zórt mágneses té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190760" y="2743200"/>
            <a:ext cx="160020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8E0-8A87-40CD-BC33-E86FD3ECB1B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Mátrixnyomtató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v: a nyomtatófejben egymás alatt elhelyezett fémtűk találhatók. A fej mozgása közben a nyomtatandó betű adott oszlopának megfelelő pozíción lévő tűket elektromágnes a festékszalagnak ütközteti, így a papíron egy pont keletkezik (dot prin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Gyors, de gyenge minő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LQ, de lass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Za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Grafika is nyomtatha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Abetu" descr=""/>
          <p:cNvPicPr/>
          <p:nvPr/>
        </p:nvPicPr>
        <p:blipFill>
          <a:blip r:embed="rId1"/>
          <a:stretch/>
        </p:blipFill>
        <p:spPr>
          <a:xfrm>
            <a:off x="5257800" y="3962520"/>
            <a:ext cx="3581280" cy="221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7BD7-0710-4B9A-BAE2-48C760F848D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Sornyomtat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gyszerre egy egész sort nyomtat (line prin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Csak alfanumerikus, 80, 132 karakter/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agymennyiségű, gyors nyomtatásra (pld. közüzemi számlák nyomtatá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v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orgó henger palástján vannak a betű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gy sorban bárhol lévő azonos betűket egyszerre nyomtatja, amikor az adott betű éppen a kalapácsokkal szemben á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agyon za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E1CC-395A-4362-84B9-B3CF1C07250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Betűkerekes nyomtat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eginkább az írógépre emlékez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gy forgatható kerék kerülete mentén vannak a betű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kerék a kívánt pozícióba fordul, ezután egy elektromágnes a festékszalaghoz prése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a már nincs gyakorlati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jelentősé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daisy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240660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80C6-00A4-492E-8EF1-B7F9DA634FF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Lézernyomtat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apnyomtató, mert egy egész lapot nyomtat egyszer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v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gy fényérzékeny anyagból készült hengert statikus elektromossággal feltölte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okon a helyeken ahova nyomtatni kell, egy vezérelt lézersugár kisüti a tölté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hengerre finom festékport hord fel egy másik he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festékpor csak ott tapad meg ahol előzőleg a lézer kisütötte a tölté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0FAA-C15B-4B9A-8B36-C07E311A6DF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festékpor a hengerről a papírra ta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papíron lévő festékport egy izzószál ráolvasztja a papí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agyon jó minőség, csendes működ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iszonylag lassú, és az üzemeltetése drá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étezik színes változat is, az még drágá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519B-A6A0-462E-B022-12CACAFB0017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Tintasugaras nyomtat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v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ektrosztatikusan feltöltött részecskéket tartalmazó tintából rendkívül kicsiny cseppeket lövell ki a nyomtatóf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kilövellt cseppek elektródák között repülnek el, ezek eltérítik a megfelelő irány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fej mozgása közben a tintacseppek a mátrixnyomtatóhoz hasonlóan alakítják ki a betű képé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Jó nyomtatási minőség, majdnem olyan mint a lézernyomta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Csendes, viszonylag olcsó, népszer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zínes változat is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5939-8BAC-45D3-B1CD-B9D82C1BE5B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erminológia mágneslemeznél: az írás koncentrikus körök, a sávok mentén törté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sávokat szektorokra osztjuk, ez az adatmozgatás egysége (gyorsabb a működ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gymás alatt több hordozót helyezünk el, és minden mágneses felülethez tartozik egy író/olvasó fe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img_dsk" descr=""/>
          <p:cNvPicPr/>
          <p:nvPr/>
        </p:nvPicPr>
        <p:blipFill>
          <a:blip r:embed="rId1"/>
          <a:stretch/>
        </p:blipFill>
        <p:spPr>
          <a:xfrm>
            <a:off x="2209680" y="3657600"/>
            <a:ext cx="4749840" cy="246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A9B5-B3F0-40B4-B64E-81791CC6D28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33520" y="152280"/>
          <a:ext cx="8076960" cy="60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280"/>
                    <a:ext cx="8076960" cy="60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49C-9C6A-4945-8245-3BF65B42C51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476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1678-ACA8-463E-92B7-4FA5B30527B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228600"/>
            <a:ext cx="861048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 vékony réte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zabad v.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érzékelő réteg: szabadon mágnesezhet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ávtartó v. elválasztó réteg: réz ötvözet, nem mágn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rögzitett réteg: mágneses, rögzitett irányultság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sere réteg: ez tartja rögzitve a mellette lévő réteg mágnesezettségé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szabad réteg mágnesezettsége az alatta forgó lemez mágnesezettségét követi, bitről-bitre változhat. A rétegek közelsége miatt az elektronok “szóródnak” közöttük. Ha az elektron perdülete (spin) egybeesik a mágneses réteg perdületével, akkor az elektron kisebb ellenállást érzék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942F-3677-4769-88D2-D22D08A244F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568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DA2A-A72F-42EF-93D8-65D074DA3D2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Címzés (múlt és jel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últ: a cím három részből ál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Cilinder (ami több sáv egymás alat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F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Szek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címzés cilinder-folytonos, ezzel is csökkentendő a fejmozgások szám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nden sávon azonos számú szektor helyezkedett el, mert így egyszerűbb volt a vezérl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övetkezmény: sok kihasználatlan felület a lemezen (belső sáv hossza &lt; külső sáv hossz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8E62-CC3B-4FFC-92F2-3B22FC0AE81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9:31:50Z</dcterms:created>
  <dc:creator>X</dc:creator>
  <dc:description/>
  <dc:language>en-US</dc:language>
  <cp:lastModifiedBy>filp</cp:lastModifiedBy>
  <dcterms:modified xsi:type="dcterms:W3CDTF">2006-03-27T13:11:48Z</dcterms:modified>
  <cp:revision>133</cp:revision>
  <dc:subject/>
  <dc:title>TELJESÍTMÉNYFOKOZÓ ARCHITEKTÚRÁLIS ELVEK</dc:title>
</cp:coreProperties>
</file>