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F57-E3B5-4DC6-9E6D-A8A3EEE7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696-327D-46BA-9DED-0AC24DA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277-4BDA-45E4-9727-BCA4F70F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04F-76DD-4869-BC9D-80879125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C66-BC17-4FA4-B4B3-C254A648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FA1-8EA5-407D-B867-2B21CAD2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151-E9DA-4F8C-B1E8-1ABE0FBF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A51-FDA4-47CC-8666-F47106F2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070-3244-4578-8C81-FAE51FAB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274-0EC5-49A7-BFD1-0548B986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597-E7B0-406C-ACCF-32E03E4A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631-A4A6-4208-8E71-0722D6C1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FEC-0119-449E-A342-E28A39378C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OPERÁCIÓS RENDSZER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ltalános számítógépes rendszer összetevő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gép maga (CPU, memória, perifériá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operációs rends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elhasználói progra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s a felhasznál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hardver jelenti azokat az erőforrásokat, amelyekkel a feladatok megoldhat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elhasználói programok ezeket az erőforrásokat egy adott feladat érdekében célra orientáltan használj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1F3-BF64-4AE2-9C62-8C9D9FBCD89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PU és a perifériák fejlődése oda vezetett, hogy az eddig említett összes megoldással (off-line, puffer, spool) sem volt képes egyetlen program hatékonyan kihasználni az erőforrásokat. Megoldás: futtassunk több programot: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multiprogramozá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: amíg az egyik program a CPU-t használja intenzíven, addig egy v. több másik használja az I/O eszközöket. Megjelenik az igény a munkák sorba állítására: az ütemező programokra (schedu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F4D-B034-4BAC-B9B6-F058CF7778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025640"/>
            <a:ext cx="1371600" cy="497520"/>
          </a:xfrm>
          <a:prstGeom prst="flowChartManualInpu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ermin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762120"/>
            <a:ext cx="144756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2193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45240" y="933120"/>
            <a:ext cx="961200" cy="497520"/>
          </a:xfrm>
          <a:prstGeom prst="flowChartPunchedCard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árt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3720" y="762120"/>
            <a:ext cx="144756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68520" y="921960"/>
            <a:ext cx="1260000" cy="496080"/>
          </a:xfrm>
          <a:prstGeom prst="flowChartDocumen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Nyomta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7920" y="11430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91280" y="11430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3048120"/>
            <a:ext cx="144756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048120"/>
            <a:ext cx="762120" cy="76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4191120"/>
            <a:ext cx="762120" cy="76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4290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43000" y="3657600"/>
            <a:ext cx="9144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438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Érzék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41911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eavatkoz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3124080"/>
            <a:ext cx="144792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2368800"/>
            <a:ext cx="1371600" cy="497520"/>
          </a:xfrm>
          <a:prstGeom prst="flowChartManualInpu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ermin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3206880"/>
            <a:ext cx="1371600" cy="497520"/>
          </a:xfrm>
          <a:prstGeom prst="flowChartManualInpu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ermin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121280"/>
            <a:ext cx="1371600" cy="497520"/>
          </a:xfrm>
          <a:prstGeom prst="flowChartManualInpu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ermin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4959360"/>
            <a:ext cx="1371600" cy="497520"/>
          </a:xfrm>
          <a:prstGeom prst="flowChartManualInpu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ermin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666880"/>
            <a:ext cx="990720" cy="6098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34290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324480" y="3580920"/>
            <a:ext cx="914400" cy="7621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24480" y="3809880"/>
            <a:ext cx="914400" cy="13716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Egyfelhasználó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1676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Kötegelt (b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181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Valós idejű (real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5410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Időosztásos (time sharing) többfelhasználó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661-2AFD-4C95-87F3-D9EA2F9D69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Operációs rendszer szolgáltatá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gram végrehajtás v. folyamatok vezér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 létrehoz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töltése a memóriába (lo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uttatása (r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 megszüntetése (normál és kivéte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ok közötti kommunik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ok szinkronizálása (eseményekhez, illetve egymásho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erifériakez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erifériák lefogalása és felszabad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átvitel előkészítése, végrehaj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92B-8A5E-4168-8024-681861C8D5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móriakez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 hozzárendelés (allokáció) és felszabad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ile rendszer keze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ile létrehozása és tör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ile jellemzők, attribútumok áll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önyvtár létrehozása, tör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ile megnyitása, bezárása, különféle hozzáférések (soros és véletlen) biztos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ndszerinformációk biztosítá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átum, idő, hibá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tatisztik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lózati kommunikáció bizto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D4C-1DFC-4839-826C-634C5B42AE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Hardver követelménye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operációs rendszerek által a hardverrel szemben támasztott követelmények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azonosak, de általában k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őírt teljesítményű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egalább két szintű védelmi mechaniz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öbbszintű prioritásos megszak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őírt minimális méretű operatív 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evés kivétellel (MS DOS) hardverrel támogatott virtuális tárkeze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ágneslemezes háttértár, adott szabad kapacitás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lapvető be/kiviteli eszközök (billentyű, monitor, egé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3B0-E63F-46D3-8591-1C9C2D5E28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Rendszerhívá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ár tárgyaltuk (ld. INT 21H), a végrehajtás lépései (általános, egyszerűsített mod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elhasználói program előkészíti a kívánt szolgálatatás igénybevételéhez szükséges paramétereket, a szolgáltatás azonosítóját. Ezeket regiszter(ek)ben, vagy a veremben kialakított blokkban táro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égrehajt egy szoftver megszakítást generáló utasítást, ezzel felhasználói módból rendszer módba viszi a gép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szakításkezelő (az operációs rendszer része) átveszi a paramétereket, megállapítja a kívánt szolgáltatást végző program címét és aktivizálja az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85E-D75E-4BB5-8CBC-D0AEA492FA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fut a szolgáltatást elvégző program, az eredményeket a konvencióknak megfelelő helyre tes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sszatér a szolgáltatást kérő felhasználói programhoz, miközben végrehajtja a rendszer üzemmódból a felhasználói módba való áttéré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ndszerhívások főbb csoportjai (nincs általános szabály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abványos file-ok kezelése (karakter orientált op.r, MS-DOS, Un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033-8957-476D-A51C-D6391B8E28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gyományos állomány kez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állományhoz létrehozunk egy fájl vezérlő blokkot (FCB) ez tartalmazza a művelet paramétereit, ennek a címét adjuk át az operációs rendszer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rhető szolgáltatások: megnyitás, bezárás, írás, olvasás, létrehozá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llomány kezelés sorszámmal,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nyél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-lel (hand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készítünk egy olyan szövegfüzért (string) ami a fájlra vonatkozó legfontosabb jellemzőket tartalma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ECC-BCF9-4B19-8DF8-FC4489F6089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ynyitás vagy létrehozás eredményeként az operációs rendszer egy számot ad vissza, ez a nyé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további műveletben erre a nyélre kell hivatkoz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rhető szolgáltatások: mint az előbb, plusz néhány új művelet: pld. nyél olvasás, nyél duplikálás (két program használja ugyanazt az állomány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önyvtárkezelő hív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önyvtár létesítése, törlése, keresés a könyvtár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móriakezelő hívás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terület hozzárendelése, visszaad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kezelési stratégia változta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E7E-5DA0-4D54-918E-EAF85022B2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gramvezérlési hív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öltés illetve betöltés és végrehaj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Üzenet küldése más folyamat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ormál kilépés, kilépés hibá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éb rendszerhívás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dő, egyéb információk lekérdez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ndszerhívások „valódi” alakját csak az assembly programozók ismerik, a magasszintű nyelvek mindegyike egy függvényhívás mögé rejti el. Ezek a függvények alkotják az alkalmazási programok felületét (A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7B1-DC62-4F78-9D1E-B4990A264E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operációs rendszer feladata, hogy koordinálja a felhasználói programok hardver használat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vel számos különböző felhasználói program képzelhető el, ezért természetes követelmény, hogy bármelyik ugyanazt a „felületet” lássa futása köz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t a felületet teremti meg az operációs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elhasználói programok ezek után nem érzékelik közvetlenül, nem „látják” a hardvert, hanem egy olyan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virtuális gépe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látnak, amelynek „utasításai” az operációs rendszer által nyújtott szolgáltat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FA0-51E1-46A2-AFEC-5B1E9DE672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rom péld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86 mód érzékelése Win95 ill. NT alatt assembly nyel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terület igénylése 32 bites Windows alatt, C nyel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ájl megynyitása UNIX alatt C nyel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. pé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X, 1686H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funkció kód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rendszer hív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S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X,AX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eredmény ellnőrz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JZ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tMod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ha 0, akkor pr. Mó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B11-D59E-4E32-B00D-D2C6C4AC35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2. Pé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GLOBAL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yM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yMem = GlobalAlloc( 0, 320 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üggvényhívás 320 byte-nyi területet allokál és címét adja vissza, vagy nullát, ha nem allokált memóri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3. Pé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ILE *InputFi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nputFile = fopen(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DATA.TXT”, “r”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üggvényhívás olvasásra megnyitja az ad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vű szöveges állomány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303-324E-4B92-9CD0-B299236E79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Rendszerprogram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de számítunk minden, nem a felhasználók által írt program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soportosításu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ezelői felületet megvalósító programok. Esetenként lecserélhetők (UNIX, LINUX). Két fajtáju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arancssor értelmező (pld. Command.COM, ks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rafikus felhasználói felület (X-Windows, Kernel32, OS/2 Presentation Manag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ációs rendszer mag (UNIX kernel, Win95 W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egédprogramok, fájl és perifériakezelés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C23-25C7-442F-A1FB-FA6E41AB8D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gramfejlesztés eszköze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ordító, szerkesztő és betöltőprogram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önyvtárkeze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övegszerkesztők, egyéb alkalmaz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E4C-BCA9-4F41-88B6-205963DA78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Operációs rendszer felépítés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onolitikus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incs meghatározott szerkezete, az egyes funkciókat megvalósító eljárások struktúrálatlan halm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ármely eljárás bármely másik eljárást hív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ljárások közötti hívások jól meghatározott módon történhetnek csak (pld. MS-D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503-D6B5-4CFF-BB8C-9BE385E226D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1828800"/>
            <a:ext cx="7010640" cy="396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perációs rends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990720"/>
            <a:ext cx="701064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Felhasználói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04920"/>
            <a:ext cx="70106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Felhasználói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809880"/>
            <a:ext cx="2057400" cy="13716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 hívott funkció azonos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3352680"/>
            <a:ext cx="2057400" cy="137160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iszolgáló eljá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276720"/>
            <a:ext cx="1219320" cy="304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3581280"/>
            <a:ext cx="1219320" cy="3049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886200"/>
            <a:ext cx="1219320" cy="3049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191120"/>
            <a:ext cx="1219320" cy="304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495680"/>
            <a:ext cx="1219320" cy="3049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4800600"/>
            <a:ext cx="1219320" cy="3049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34340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434340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105520" y="342900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429000"/>
            <a:ext cx="3045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609480"/>
            <a:ext cx="0" cy="3200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09320" y="14479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209320" y="60948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324480" y="609480"/>
            <a:ext cx="0" cy="2743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714640" y="6094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714640" y="14479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2743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ljárástá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FA8-B616-444D-9669-A667CA9F642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zessük be az alábbi csoportosítá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őprogram, amelyik meghívja valamelyik kiszolgáló eljárá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iszolgáló eljárások halm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egédprogramok gyűjteménye, amelyeket a kiszolgáló eljárások hív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ezeket egy-egy rétegbe csoportosítjuk, akkor az alábbi elrendezéshez ju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B9F-3377-4129-9508-DD5A75A9FB9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4647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 átmenet a réteges szerkezet irányába, de nem igazán az, mert az egyes rétegek önmagukban nem hordoznak funkció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04920"/>
            <a:ext cx="7010280" cy="3962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7010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971800"/>
            <a:ext cx="7010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76212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ő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13372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iszolgál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335268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egédprogram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762120"/>
            <a:ext cx="304560" cy="304560"/>
          </a:xfrm>
          <a:prstGeom prst="flowChartSummingJunction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981080"/>
            <a:ext cx="304920" cy="304920"/>
          </a:xfrm>
          <a:prstGeom prst="flowChartSummingJunction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1981080"/>
            <a:ext cx="304920" cy="304920"/>
          </a:xfrm>
          <a:prstGeom prst="flowChartSummingJunction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352680"/>
            <a:ext cx="304920" cy="304920"/>
          </a:xfrm>
          <a:prstGeom prst="flowChartSummingJunction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352680"/>
            <a:ext cx="304920" cy="304920"/>
          </a:xfrm>
          <a:prstGeom prst="flowChartSummingJunction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352680"/>
            <a:ext cx="304920" cy="304920"/>
          </a:xfrm>
          <a:prstGeom prst="flowChartSummingJunction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3352680"/>
            <a:ext cx="304920" cy="304920"/>
          </a:xfrm>
          <a:prstGeom prst="flowChartSummingJunction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1981080"/>
            <a:ext cx="304920" cy="304920"/>
          </a:xfrm>
          <a:prstGeom prst="flowChartSummingJunction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10666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295280"/>
            <a:ext cx="2057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129528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22860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590920"/>
            <a:ext cx="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129528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22860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85640" y="274320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74320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274320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129528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860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2514600"/>
            <a:ext cx="1067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251460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251460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34290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E63-C4E8-40F6-A31E-20A1C0BC949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éteges operációs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másra épülő rétegek alkotj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réteg az alatta levőket hívja és eredményt szolgáltat a felette elhelyezkedő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egalsó réteg a hard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réteg tekintehető egy-egy virtuális gép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incs gyakorlati megvalósítása, csak kisérl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968: THE Dijks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E85-2831-4F4D-9ECE-E0F2347C19F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bizonyos esetekben szükség van egy réteg megkerülésére, akkor a réteges szerkezetből fésűszerűen egymásba ágyazódó les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3200400"/>
            <a:ext cx="35049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ard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666880"/>
            <a:ext cx="35049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 hozzárendelés, P é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81080"/>
            <a:ext cx="350496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irtuális operátori konzol kez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447920"/>
            <a:ext cx="350496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/O kez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914400"/>
            <a:ext cx="35049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elhasználói program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80880"/>
            <a:ext cx="35049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endszer operátor folya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903-2A84-4C9D-9ED2-7F3E87C505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operációs rends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örnyezet, amiben a felhasználói programok működ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rőforrás hozzárendelő, amely előre meghatározott elvek alapján a felhasználói programok erőforrás igényeit elégíti 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ezérlő program, amely a többi program végrehajtását és az I/O eszközök működésést vezér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57C-67B7-47E6-9DAB-E3913EC0B7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olyamat orientált op. rendszer (UNIX,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t része van: a kernel és a rendszerfolyam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hardvert 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ö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tle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 a kernel 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tja, ez kezeli a felhasználói folyam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renszer többi feladatát  szintén folyamatok, a rendszerfolyamatok látják 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5791320"/>
            <a:ext cx="60199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ard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257800"/>
            <a:ext cx="601992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ern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3886200"/>
            <a:ext cx="18288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elhasználói folya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809880"/>
            <a:ext cx="18288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endszer folya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4876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4876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34340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48006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791320" y="48006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83E-16A2-46DD-B5E3-E8DD009A8BE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ösen alkalmazható lazán csatolt multiprocesszoros rendszerekben, ahol is az operációs rendszer egyes folyamatai elosztva találhatók. A kommunikáció a kerneleken és egy kommunikációs alrendszeren át zajl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helyben végre nem hajtható rendszerhívásokból üzenetek keletkeznek, amelyek a megfelelő gépre eljutva rendszerhívásként hajtódnak vé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D08-60B8-47E2-9A9A-40A7B21D72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35053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rtuális gépre alapozott operációs rends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ultiprogramozott gép esetén az operációs rendszer a virtuális gépet úgy is kiterjesztheti, hogy minden egyes  program nem csupán „saját” hardver erőforrásokat, hanem saját operációs rendszert is lá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914400"/>
            <a:ext cx="18288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i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914400"/>
            <a:ext cx="18288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ile sz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914400"/>
            <a:ext cx="18288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rinter s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13716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13716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44792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13716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144792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12952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12952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2819520"/>
            <a:ext cx="2361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1219320"/>
            <a:ext cx="0" cy="160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2819520"/>
            <a:ext cx="1067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819520"/>
            <a:ext cx="2210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335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3200400"/>
            <a:ext cx="7467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21932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175248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297180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00600" y="1752120"/>
            <a:ext cx="0" cy="121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800600" y="129492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1219320"/>
            <a:ext cx="0" cy="160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2819520"/>
            <a:ext cx="838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144792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24680" y="144792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144792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0120" y="137160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924680" y="1371600"/>
            <a:ext cx="0" cy="1828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2286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ommunikációs hálóz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687-2A56-47D9-966E-E3C4E9C05FE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eknek az operációs rendszereknek még nem is kell egyformáknak lenni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hardver virtuális másolatait egy monitornak nevezett program hozza létre (IBM S370 VM/370), (kb. a csúc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5105520"/>
            <a:ext cx="6629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ard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648320"/>
            <a:ext cx="6629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191120"/>
            <a:ext cx="19051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4191120"/>
            <a:ext cx="23623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S/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4191120"/>
            <a:ext cx="19047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3429000"/>
            <a:ext cx="16765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Fel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3429000"/>
            <a:ext cx="19047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Fel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3429000"/>
            <a:ext cx="10666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atch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29000"/>
            <a:ext cx="11430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atch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37339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495680"/>
            <a:ext cx="0" cy="30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48769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388-FFCC-4D12-A927-57B3BAE4B02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36440" y="1897200"/>
            <a:ext cx="9416880" cy="2987640"/>
            <a:chOff x="-136440" y="1897200"/>
            <a:chExt cx="9416880" cy="2987640"/>
          </a:xfrm>
        </p:grpSpPr>
        <p:sp>
          <p:nvSpPr>
            <p:cNvPr id="259" name=""/>
            <p:cNvSpPr/>
            <p:nvPr/>
          </p:nvSpPr>
          <p:spPr>
            <a:xfrm>
              <a:off x="-136440" y="1897200"/>
              <a:ext cx="27288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6440" y="1897200"/>
              <a:ext cx="914400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9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os1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210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80880" y="5638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MM:Virt. Mach. Manager VxD:Virt. Dev.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752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PI-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339-04FC-4A87-B0E0-F9C6ADE6BED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Eseményvezérelt rendszer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seményvezérelt rendszerben a felhasználó minden akciója egy (v. több) „eseményt” hoz lét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operációs rendszer azonosítja ezeket az eseményeket, értelmezi őket és ennek eredményét visszaküldi a felhasználó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seménykezelés 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szinkron: egy időben egyetlen eseményt kezel  rends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inkron: több eseményt együtt kezel a rends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16F-385D-4273-BA0F-07BF6B424E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semények jelentős része program-megszakítást ok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t a megszakításkezelő egy üzenetté alakítja, az üzenet a rendszer meghajtóhoz, vagy egy várakozó programhoz ker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ld:  amikor az egérmutatót az egérrel a képernyőn mozgatjuk tőbb száz IT kérés lép fel az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Q1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bemeneten és mindegyik egy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MouseMove„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(egér mozgatás) üzenetet vált ki. Ezek legtöbbje a grafikus eszköz illesztő 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 Device Interfac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)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üzenet feldolgozási sorába jut, ahonan a GDI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őveszi és feldolgozza őket, pld. újrarajzolja a képernyőn  az egérmutatót. Egyes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MouseMove"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üzeneteket a futó program kap meg, amelyik feldolgozza vagy figyelmen kívül hagyja őket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81C-0D45-459A-8976-01EE158F503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azonos helyen összegyűjtött üzenetek feldolgozása jelenti a „fonalat” (thre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win_conf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DD6-3FCF-4E6C-B7AC-5CBB0BB3838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es operációs rendszerek (16 bites Windows) egy fonalat, mások egyet sem (DOS), megint mások ( Win95, NT) többet képesek kezel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liens-szerver architektú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561-130D-441D-A58F-2FD8752EC31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liens-szerver architektú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liens-szerver nem egy új hardver, nem is egy új szoftver, hanem egy új módja a kettő együttes használatá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lyan paradigma, ami lehetővé teszi, hogy alkalmazásokat (programokat), adatokat sőt még a feldolgozásokhoz szükséges számítási teljesítményt is szétoszzuk egy központosított „raktári gép” és az azt elérni képes számítógépek közö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özponti gép a szerver, a kiszolgáló (server, back-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erver kéréseket fogad a többi géptől, a kliensektől (ügyfél, client, front-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CD2-D2BD-4AB2-8A32-727D4F279D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Rövid történe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ezdetben vala a hardver (kapcsolók, dugók, számkerek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jelennek a perifériák, assemblerek, linker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hetőség van előre megírt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zközmeghajtó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használatára. Jó, mert nem kell ismerni a kártyaolvasók intim részle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gramozási nyelvek: Algol, Fortran, Cob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unka többlépésessé váli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őször a compilert kell betölteni (mágnesszal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e kell olvasni a a programot (lyukkárty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ordító assembly programot állít e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ssemblert betöl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Összeszerkeszteni a többi modull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F3D-CEBA-4323-8C9E-D1B80B323F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zerver feldolgozza a kéréseket és visszaküldi a feldolgozás eredményét a kliens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t a működést az teszi lehetővé, hogy a szerver csak a szolgáltatások egy jól körülhatárolt körét nyújtja, továbbá hogy kliens és szerver közös parancsnyelvet alkalmaznak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lyen szolgáltatásokról van sz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bázis lekérde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ile kez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rága v. különleges perifériák közös haszn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509-EF2D-41E3-B1F1-4DC848B98FB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úl sok lett az előkészítési idő! Ezalatt a gép nem dolgozott, ami veszte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oldá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perátorokat alkalmaztak, a programozó többé nem piszkálta a gépe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losed sh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onos feladatú munkákat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kötegelte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(batch), így egy előkészítő fázisra több elvégezhető munka juto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utomatikus átmenet egyik feladatról a másikra (nem kell a konzolt bámul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zek együtt: rezidens monitor, az első operációs rendszer (szerű dolo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B0B-1030-44FC-A6A8-6FCE2C5AC0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04920"/>
            <a:ext cx="304812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T és trap vektor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304812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szköz meghajt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19320"/>
            <a:ext cx="304812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eladat sorrendez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304812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érlő kártya értelmez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133720"/>
            <a:ext cx="3048120" cy="1447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elhasználói programok terü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57200"/>
            <a:ext cx="838440" cy="457200"/>
          </a:xfrm>
          <a:prstGeom prst="flowChartPunchedCar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609480"/>
            <a:ext cx="838080" cy="457200"/>
          </a:xfrm>
          <a:prstGeom prst="flowChartPunchedCar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762120"/>
            <a:ext cx="838080" cy="457200"/>
          </a:xfrm>
          <a:prstGeom prst="flowChartPunchedCar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990720"/>
            <a:ext cx="838080" cy="457200"/>
          </a:xfrm>
          <a:prstGeom prst="flowChartPunchedCar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752480"/>
            <a:ext cx="1600200" cy="838440"/>
          </a:xfrm>
          <a:prstGeom prst="flowChartPunchedCar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304920"/>
            <a:ext cx="1600200" cy="838080"/>
          </a:xfrm>
          <a:prstGeom prst="flowChartPunchedCar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752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3808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1219320"/>
            <a:ext cx="7617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533520"/>
            <a:ext cx="1143000" cy="75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ezidens monitor memória felosz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743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ötegelt feladat kártyá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05E-9441-4371-87EE-8BF287504CD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ff line műkö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PU jóval gyorsabb volt a kártya perifériáknál, ezért a 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kártya-CPU-nyomtat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lánc helyett a 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kártya-mágnesszalag-CPU-mágnesszalag-printer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utat használták (szatellit gép az előkészítő és az utófeldolgozó fázisho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használói programok eszközfüggetlenné válnak, nem kell tudni (és nem is lehet), hogy kártyáról és printerre, vagy szalagról szalagra dolgozunk. Itt a logikai I/O kor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ufferelés: még egy eszköz a gyorsításhoz. Egyszerre növeli a CPU és a periféria hatékonyság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A1E-DB14-4E45-AA14-5B81F250CA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sználjunk több memóriaterületet, ha az egyikre beolvastuk az adatot, onnan dolgozzon a CPU, a másikra azonnal indítsuk a következő olvasást, azután cseréljük meg ő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zel együtt is megmarad némi üres idő: vagy a CPU vagy a periféria előbb végez és várnia k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elezzük ezt a másik félnek valahogy: itt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gszak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pooling: megjelentek a mágneslemezek, ezzel megszűnt az igény az off-line működés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E98-31E3-444C-A2B3-3899FFEF1A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gép teljesítménye lehetővé tette, hogy a feladatokat a kártyáról mágneslemezre írjuk, az eredményt printer helyett szintén oda, és ezeket az adatokat az oprációs rendszer automatikusan kezel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952880"/>
            <a:ext cx="838440" cy="457200"/>
          </a:xfrm>
          <a:prstGeom prst="flowChartPunchedCar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1447560" cy="1218960"/>
          </a:xfrm>
          <a:prstGeom prst="flowChartMagneticDisk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4952880"/>
            <a:ext cx="1447920" cy="762120"/>
          </a:xfrm>
          <a:prstGeom prst="flowChartDocument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4648320"/>
            <a:ext cx="1828800" cy="1218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19880" y="4342320"/>
            <a:ext cx="913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76520" y="5105520"/>
            <a:ext cx="1676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733920" y="42670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42670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343400" y="42670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724280" y="426672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24280" y="41911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5029200"/>
            <a:ext cx="10666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 rot="5400000">
            <a:off x="3815280" y="3321000"/>
            <a:ext cx="10440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3087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308781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 rot="5400000">
            <a:off x="3777120" y="3584520"/>
            <a:ext cx="10440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3087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308781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35812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35812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90560" y="3733920"/>
            <a:ext cx="11430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ártya s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 rot="5400000">
            <a:off x="4577400" y="3549600"/>
            <a:ext cx="10440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3087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308781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 rot="5400000">
            <a:off x="4539240" y="3813120"/>
            <a:ext cx="10440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3087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308781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809880"/>
            <a:ext cx="144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809880"/>
            <a:ext cx="144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724280" y="3581280"/>
            <a:ext cx="137160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3505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rinter  s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5257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M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M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FF1-E88D-490C-907A-E22B4DA52A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filp</cp:lastModifiedBy>
  <dcterms:modified xsi:type="dcterms:W3CDTF">2006-04-03T15:09:08Z</dcterms:modified>
  <cp:revision>155</cp:revision>
  <dc:subject/>
  <dc:title>TELJESÍTMÉNYFOKOZÓ ARCHITEKTÚRÁLIS ELVEK</dc:title>
</cp:coreProperties>
</file>