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11369-F223-46B2-A582-2C9F48D83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458AE-2BEC-42A1-B8D2-5BCCABB82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AD8B2-56CA-4938-89BB-E2CD18B62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434FB-FFA8-48D6-87BA-0795F55CA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E4B1F-1137-4690-AC57-82C12F9D9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469C8-6E8E-4962-8A5E-83DA48F3E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9A22C-28CD-4F1D-B543-BD680C26C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03267-D9C7-4E28-81E6-13742DD69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B8259-9D0C-4EE6-AE8D-F1BE430F6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F9460-D111-4706-9AEB-C70631233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91B5F-F3FC-4953-8940-D65E0E60E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A1178-1F67-4F18-8F5C-D1160A544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90488-14CC-4A9E-892A-16BF62952E54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 u="sng">
                <a:solidFill>
                  <a:srgbClr val="ffffff"/>
                </a:solidFill>
                <a:uFillTx/>
                <a:latin typeface="Times New Roman"/>
              </a:rPr>
              <a:t>AZ Intel 386 MIKROPROCESSZ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32 bi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4 Gbyte valós (fizikai) címtartomá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64 Tbyte logikai címtartomá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Lapokra bontott szegmensszervezésű virtuális tárkezelé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3~4 MI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Felülről kompatibilis: i8086, i80286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A582E-2CA1-4B1F-BF39-F4F0E2503C5B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-360" y="380520"/>
            <a:ext cx="88390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A gyorsabb működés érdekében lehetőleg el kell kerülni a többszöri memória-hivatkozás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Ennek érdekében a 386-ban a szegmens szelektorokat a kiegészítették (felhasználó számára láthatatlanul) olyan hosszúra, hogy egy egész leírót tárolni tudjanak. Ezek a szegmensregisztere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Minden memóriahivatkozáskor a hardver ellenőrzi, hogy a kívánt szelektorú leíró megtalálható-e a megfelelő szegmensregiszterb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63FEB-0D30-4E9A-AF8A-C31919CE2919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/>
          </p:nvPr>
        </p:nvSpPr>
        <p:spPr>
          <a:xfrm>
            <a:off x="304920" y="228600"/>
            <a:ext cx="853416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Ha igen, akkor onnan veszi az információt, ha nem, akkor a leírótáblából, és egyidejűleg frissíti is a szegmensregiszter tartalmá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04920" y="2362320"/>
            <a:ext cx="1676160" cy="5331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3300"/>
                </a:solidFill>
                <a:latin typeface="Times New Roman"/>
              </a:rPr>
              <a:t>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981080" y="2362320"/>
            <a:ext cx="2133720" cy="5331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3300"/>
                </a:solidFill>
                <a:latin typeface="Times New Roman"/>
              </a:rPr>
              <a:t>Báz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14800" y="2362320"/>
            <a:ext cx="2133720" cy="5331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3300"/>
                </a:solidFill>
                <a:latin typeface="Times New Roman"/>
              </a:rPr>
              <a:t>Lim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248520" y="2362320"/>
            <a:ext cx="1371600" cy="5331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3300"/>
                </a:solidFill>
                <a:latin typeface="Times New Roman"/>
              </a:rPr>
              <a:t>Véde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04920" y="2895480"/>
            <a:ext cx="1676160" cy="5335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3300"/>
                </a:solidFill>
                <a:latin typeface="Times New Roman"/>
              </a:rPr>
              <a:t>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981080" y="2895480"/>
            <a:ext cx="2133720" cy="5335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3300"/>
                </a:solidFill>
                <a:latin typeface="Times New Roman"/>
              </a:rPr>
              <a:t>Báz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114800" y="2895480"/>
            <a:ext cx="2133720" cy="5335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3300"/>
                </a:solidFill>
                <a:latin typeface="Times New Roman"/>
              </a:rPr>
              <a:t>Lim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248520" y="2895480"/>
            <a:ext cx="1371600" cy="5335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3300"/>
                </a:solidFill>
                <a:latin typeface="Times New Roman"/>
              </a:rPr>
              <a:t>Véde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04920" y="3429000"/>
            <a:ext cx="1676160" cy="5335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3300"/>
                </a:solidFill>
                <a:latin typeface="Times New Roman"/>
              </a:rPr>
              <a:t>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981080" y="3429000"/>
            <a:ext cx="2133720" cy="5335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3300"/>
                </a:solidFill>
                <a:latin typeface="Times New Roman"/>
              </a:rPr>
              <a:t>Báz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114800" y="3429000"/>
            <a:ext cx="2133720" cy="5335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3300"/>
                </a:solidFill>
                <a:latin typeface="Times New Roman"/>
              </a:rPr>
              <a:t>Lim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248520" y="3429000"/>
            <a:ext cx="1371600" cy="5335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3300"/>
                </a:solidFill>
                <a:latin typeface="Times New Roman"/>
              </a:rPr>
              <a:t>Véde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04920" y="3962520"/>
            <a:ext cx="1676160" cy="5331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3300"/>
                </a:solidFill>
                <a:latin typeface="Times New Roman"/>
              </a:rPr>
              <a:t>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981080" y="3962520"/>
            <a:ext cx="2133720" cy="5331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3300"/>
                </a:solidFill>
                <a:latin typeface="Times New Roman"/>
              </a:rPr>
              <a:t>Báz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114800" y="3962520"/>
            <a:ext cx="2133720" cy="5331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3300"/>
                </a:solidFill>
                <a:latin typeface="Times New Roman"/>
              </a:rPr>
              <a:t>Lim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248520" y="3962520"/>
            <a:ext cx="1371600" cy="5331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3300"/>
                </a:solidFill>
                <a:latin typeface="Times New Roman"/>
              </a:rPr>
              <a:t>Véde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04920" y="4495680"/>
            <a:ext cx="1676160" cy="5335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3300"/>
                </a:solidFill>
                <a:latin typeface="Times New Roman"/>
              </a:rPr>
              <a:t>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981080" y="4495680"/>
            <a:ext cx="2133720" cy="5335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3300"/>
                </a:solidFill>
                <a:latin typeface="Times New Roman"/>
              </a:rPr>
              <a:t>Báz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114800" y="4495680"/>
            <a:ext cx="2133720" cy="5335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3300"/>
                </a:solidFill>
                <a:latin typeface="Times New Roman"/>
              </a:rPr>
              <a:t>Lim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248520" y="4495680"/>
            <a:ext cx="1371600" cy="5335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3300"/>
                </a:solidFill>
                <a:latin typeface="Times New Roman"/>
              </a:rPr>
              <a:t>Véde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4920" y="5029200"/>
            <a:ext cx="1676160" cy="5335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3300"/>
                </a:solidFill>
                <a:latin typeface="Times New Roman"/>
              </a:rPr>
              <a:t>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981080" y="5029200"/>
            <a:ext cx="2133720" cy="5335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3300"/>
                </a:solidFill>
                <a:latin typeface="Times New Roman"/>
              </a:rPr>
              <a:t>Báz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114800" y="5029200"/>
            <a:ext cx="2133720" cy="5335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3300"/>
                </a:solidFill>
                <a:latin typeface="Times New Roman"/>
              </a:rPr>
              <a:t>Lim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248520" y="5029200"/>
            <a:ext cx="1371600" cy="5335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3300"/>
                </a:solidFill>
                <a:latin typeface="Times New Roman"/>
              </a:rPr>
              <a:t>Véde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7620120" y="243828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CS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7620120" y="297180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SS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7620120" y="35053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DS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7620120" y="403848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ES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7620120" y="457200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FS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7620120" y="51055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GS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7315200" y="1981080"/>
            <a:ext cx="30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324480" y="1981080"/>
            <a:ext cx="30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943600" y="1981080"/>
            <a:ext cx="30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191120" y="19810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581280" y="198108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3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057400" y="19810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6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676520" y="1981080"/>
            <a:ext cx="3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04920" y="1981080"/>
            <a:ext cx="53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DAE23-AFEB-4E0A-81EA-AD5C2975F042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533520" y="914400"/>
            <a:ext cx="2133360" cy="7621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3300"/>
                </a:solidFill>
                <a:latin typeface="Times New Roman"/>
              </a:rPr>
              <a:t>Ind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3300"/>
                </a:solidFill>
                <a:latin typeface="Times New Roman"/>
              </a:rPr>
              <a:t>(13 b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666880" y="914400"/>
            <a:ext cx="533520" cy="7621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33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00400" y="914400"/>
            <a:ext cx="1143000" cy="7621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3300"/>
                </a:solidFill>
                <a:latin typeface="Times New Roman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3300"/>
                </a:solidFill>
                <a:latin typeface="Times New Roman"/>
              </a:rPr>
              <a:t>(2 b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0880" y="22860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Szelektor felépíté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648320" y="457200"/>
            <a:ext cx="39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T: 0 </a:t>
            </a:r>
            <a:r>
              <a:rPr b="1" lang="hu-HU" sz="2400" spc="-1" strike="noStrike">
                <a:solidFill>
                  <a:srgbClr val="ffffff"/>
                </a:solidFill>
                <a:latin typeface="Symbol"/>
                <a:ea typeface="Symbol"/>
              </a:rPr>
              <a:t></a:t>
            </a: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GDT 1  </a:t>
            </a:r>
            <a:r>
              <a:rPr b="1" lang="hu-HU" sz="2400" spc="-1" strike="noStrike">
                <a:solidFill>
                  <a:srgbClr val="ffffff"/>
                </a:solidFill>
                <a:latin typeface="Symbol"/>
                <a:ea typeface="Symbol"/>
              </a:rPr>
              <a:t></a:t>
            </a: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 L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724280" y="914400"/>
            <a:ext cx="396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RPL: megkövetelt privilégiumszint (0...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04920" y="205740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Szegmensleíró felépíté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33520" y="2895480"/>
            <a:ext cx="5562360" cy="5335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3300"/>
                </a:solidFill>
                <a:latin typeface="Times New Roman"/>
              </a:rPr>
              <a:t>Hossz (limit, 15: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33520" y="3429000"/>
            <a:ext cx="5562360" cy="5335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3300"/>
                </a:solidFill>
                <a:latin typeface="Times New Roman"/>
              </a:rPr>
              <a:t>Bázis cím (15: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267080" y="3962520"/>
            <a:ext cx="1828800" cy="5331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3300"/>
                </a:solidFill>
                <a:latin typeface="Times New Roman"/>
              </a:rPr>
              <a:t>Bázis(23:1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733920" y="3962520"/>
            <a:ext cx="533160" cy="5331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09680" y="3962520"/>
            <a:ext cx="1524240" cy="5331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3300"/>
                </a:solidFill>
                <a:latin typeface="Times New Roman"/>
              </a:rPr>
              <a:t>Típ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066680" y="3962520"/>
            <a:ext cx="1143000" cy="5331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3300"/>
                </a:solidFill>
                <a:latin typeface="Times New Roman"/>
              </a:rPr>
              <a:t>D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33520" y="3962520"/>
            <a:ext cx="533160" cy="5331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33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33520" y="4495680"/>
            <a:ext cx="2895480" cy="5335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3300"/>
                </a:solidFill>
                <a:latin typeface="Times New Roman"/>
              </a:rPr>
              <a:t>Bázis(31:2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429000" y="4495680"/>
            <a:ext cx="304920" cy="5335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33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733920" y="4495680"/>
            <a:ext cx="533160" cy="5335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67080" y="4495680"/>
            <a:ext cx="533520" cy="5335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A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800600" y="4495680"/>
            <a:ext cx="1295280" cy="5335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Limit(19:16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324480" y="274320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G: limit byte/l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400800" y="327672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D: leíró mér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400800" y="3886200"/>
            <a:ext cx="243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AVL:szabadon állítható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B05B0-24B4-4C88-8DB4-CDC71D7C7EFC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/>
          </p:nvPr>
        </p:nvSpPr>
        <p:spPr>
          <a:xfrm>
            <a:off x="380880" y="304920"/>
            <a:ext cx="838224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Miért van négy adatszegmens-regiszter? Oka: az adatokhoz való hozzáférés nem mutat olyan szabályosságot, mint a kódhoz, illetve a veremhez való hozzáférés. Hogy növeljük az adatszegmens-leíró  megtalálásának valószínűségét, ezért alkalmazunk több regiszter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03466-7FC8-4E53-858A-A8ABDF0FBCDE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ffffff"/>
                </a:solidFill>
                <a:latin typeface="Times New Roman"/>
              </a:rPr>
              <a:t>A lapfordító egysé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304920" y="914400"/>
            <a:ext cx="853416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Feladata a virtuális tárkezelé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Itt találhatók a címfordítás során használt táblák címét tartalmazó regiszterek, a rendszer vezérlőregiszterei és egy fordításgyorsító puffer (TLB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9ED98-AB4F-4AC7-BBD0-01AF224F3DB9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ffffff"/>
                </a:solidFill>
                <a:latin typeface="Times New Roman"/>
              </a:rPr>
              <a:t>A rendszer regisztere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981080" y="1523880"/>
            <a:ext cx="2133720" cy="5335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3300"/>
                </a:solidFill>
                <a:latin typeface="Times New Roman"/>
              </a:rPr>
              <a:t>Báz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114800" y="1523880"/>
            <a:ext cx="2133720" cy="5335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3300"/>
                </a:solidFill>
                <a:latin typeface="Times New Roman"/>
              </a:rPr>
              <a:t>Lim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981080" y="2057400"/>
            <a:ext cx="2133720" cy="5335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3300"/>
                </a:solidFill>
                <a:latin typeface="Times New Roman"/>
              </a:rPr>
              <a:t>Báz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114800" y="2057400"/>
            <a:ext cx="2133720" cy="5335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3300"/>
                </a:solidFill>
                <a:latin typeface="Times New Roman"/>
              </a:rPr>
              <a:t>Lim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04920" y="2590920"/>
            <a:ext cx="1676160" cy="5331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3300"/>
                </a:solidFill>
                <a:latin typeface="Times New Roman"/>
              </a:rPr>
              <a:t>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981080" y="2590920"/>
            <a:ext cx="2133720" cy="5331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3300"/>
                </a:solidFill>
                <a:latin typeface="Times New Roman"/>
              </a:rPr>
              <a:t>Báz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114800" y="2590920"/>
            <a:ext cx="2133720" cy="5331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3300"/>
                </a:solidFill>
                <a:latin typeface="Times New Roman"/>
              </a:rPr>
              <a:t>Lim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04920" y="3124080"/>
            <a:ext cx="1676160" cy="5335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3300"/>
                </a:solidFill>
                <a:latin typeface="Times New Roman"/>
              </a:rPr>
              <a:t>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981080" y="3124080"/>
            <a:ext cx="2133720" cy="5335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3300"/>
                </a:solidFill>
                <a:latin typeface="Times New Roman"/>
              </a:rPr>
              <a:t>Báz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114800" y="3124080"/>
            <a:ext cx="2133720" cy="5335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3300"/>
                </a:solidFill>
                <a:latin typeface="Times New Roman"/>
              </a:rPr>
              <a:t>Lim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324480" y="1600200"/>
            <a:ext cx="106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GDT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6400800" y="21337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IDT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400800" y="266688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LDT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400800" y="3200400"/>
            <a:ext cx="243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TR: futó taszk T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943600" y="1143000"/>
            <a:ext cx="30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114800" y="11430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581280" y="114300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04920" y="21337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6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981080" y="114300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4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133720" y="4038480"/>
            <a:ext cx="1981080" cy="45720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3300"/>
                </a:solidFill>
                <a:latin typeface="Times New Roman"/>
              </a:rPr>
              <a:t>CR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133720" y="4495680"/>
            <a:ext cx="1981080" cy="45720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3300"/>
                </a:solidFill>
                <a:latin typeface="Times New Roman"/>
              </a:rPr>
              <a:t>CR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133720" y="4952880"/>
            <a:ext cx="1981080" cy="45720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3300"/>
                </a:solidFill>
                <a:latin typeface="Times New Roman"/>
              </a:rPr>
              <a:t>C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133720" y="5410080"/>
            <a:ext cx="1981080" cy="45720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3300"/>
                </a:solidFill>
                <a:latin typeface="Times New Roman"/>
              </a:rPr>
              <a:t>CR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267080" y="4038480"/>
            <a:ext cx="396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Általános vezérlőbite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267080" y="4495680"/>
            <a:ext cx="396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Nem használt (486 számár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267080" y="4952880"/>
            <a:ext cx="396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Laphiba lineáris cí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267080" y="5410080"/>
            <a:ext cx="396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Lapkönyvtár báziscí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17F28-2A7D-49FF-9D65-83C0000EA66F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ffffff"/>
                </a:solidFill>
                <a:latin typeface="Times New Roman"/>
              </a:rPr>
              <a:t>Virtuális tárkezelé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A 386 virtuális tárkezelése ki/bekapcsolható, a CR0 vezérlő regiszter egy bitjéve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A lapszervezésű virtuális tár 4 kB-os lapokat kez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Kétszintű szervezést alkalmaznak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Minden taszkhoz tartozik egy laptábla-könyvtá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A laptábla könyvtár tartalmazza a taszk által használható laptáblák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Az éppen futó taszk laptábla-könyvtárának kezdőcímét a CR3 vezérlőregiszter tartalmazz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31048-98FE-4CD2-A566-6504E9F7ED80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762120" y="533520"/>
            <a:ext cx="1981080" cy="3045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3300"/>
                </a:solidFill>
                <a:latin typeface="Times New Roman"/>
              </a:rPr>
              <a:t>Könyvt. sz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743200" y="533520"/>
            <a:ext cx="1981080" cy="3045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3300"/>
                </a:solidFill>
                <a:latin typeface="Times New Roman"/>
              </a:rPr>
              <a:t>Lapszá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724280" y="533520"/>
            <a:ext cx="1981440" cy="3045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3300"/>
                </a:solidFill>
                <a:latin typeface="Times New Roman"/>
              </a:rPr>
              <a:t>Eltolá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" y="5562720"/>
            <a:ext cx="1295280" cy="3045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3300"/>
                </a:solidFill>
                <a:latin typeface="Times New Roman"/>
              </a:rPr>
              <a:t>CR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057400" y="3733920"/>
            <a:ext cx="1371600" cy="205740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057400" y="4572000"/>
            <a:ext cx="1371600" cy="304920"/>
          </a:xfrm>
          <a:prstGeom prst="rect">
            <a:avLst/>
          </a:prstGeom>
          <a:solidFill>
            <a:srgbClr val="b2b2b2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295280" y="4495680"/>
            <a:ext cx="381240" cy="3812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523880" y="4572000"/>
            <a:ext cx="0" cy="3049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371600" y="4724280"/>
            <a:ext cx="30492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657600" y="3581280"/>
            <a:ext cx="380880" cy="3812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3886200" y="3657600"/>
            <a:ext cx="0" cy="3049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733920" y="3809880"/>
            <a:ext cx="3045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858000" y="2819520"/>
            <a:ext cx="380880" cy="3808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7086600" y="2895480"/>
            <a:ext cx="0" cy="3049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934320" y="3048120"/>
            <a:ext cx="3045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523880" y="5791320"/>
            <a:ext cx="53352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447920" y="838080"/>
            <a:ext cx="0" cy="358164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1676520" y="4724280"/>
            <a:ext cx="38088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 flipV="1">
            <a:off x="1676520" y="5257800"/>
            <a:ext cx="0" cy="53352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 flipH="1">
            <a:off x="1447560" y="5257800"/>
            <a:ext cx="2286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flipV="1">
            <a:off x="1447920" y="4876920"/>
            <a:ext cx="0" cy="3808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3124080"/>
            <a:ext cx="1371600" cy="16765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4343400" y="3657600"/>
            <a:ext cx="1371600" cy="304920"/>
          </a:xfrm>
          <a:prstGeom prst="rect">
            <a:avLst/>
          </a:prstGeom>
          <a:solidFill>
            <a:srgbClr val="b2b2b2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429000" y="4724280"/>
            <a:ext cx="91440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038480" y="3809880"/>
            <a:ext cx="30492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 flipV="1">
            <a:off x="3809880" y="3962520"/>
            <a:ext cx="0" cy="7617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657600" y="1523880"/>
            <a:ext cx="167652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3300"/>
                </a:solidFill>
                <a:latin typeface="Times New Roman"/>
              </a:rPr>
              <a:t>TL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124080" y="838080"/>
            <a:ext cx="0" cy="243864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124080" y="3276720"/>
            <a:ext cx="6858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809880" y="3276720"/>
            <a:ext cx="0" cy="2286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124080" y="1752480"/>
            <a:ext cx="53352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447920" y="2286000"/>
            <a:ext cx="220968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6324480" y="3352680"/>
            <a:ext cx="457200" cy="68580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33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334120" y="1828800"/>
            <a:ext cx="6858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019920" y="1828800"/>
            <a:ext cx="0" cy="17524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6019920" y="3581280"/>
            <a:ext cx="30456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715000" y="3809880"/>
            <a:ext cx="60948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 flipV="1">
            <a:off x="5867280" y="2361960"/>
            <a:ext cx="0" cy="144756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 flipH="1">
            <a:off x="5333760" y="2362320"/>
            <a:ext cx="53316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7543800" y="1828800"/>
            <a:ext cx="1371600" cy="35053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6781680" y="3733920"/>
            <a:ext cx="76212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 flipV="1">
            <a:off x="7010280" y="3200400"/>
            <a:ext cx="0" cy="5335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867280" y="838080"/>
            <a:ext cx="0" cy="60984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867280" y="1447920"/>
            <a:ext cx="1143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7010280" y="1447920"/>
            <a:ext cx="0" cy="12952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238880" y="2971800"/>
            <a:ext cx="304920" cy="763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7543800" y="2514600"/>
            <a:ext cx="1371600" cy="1219320"/>
          </a:xfrm>
          <a:prstGeom prst="rect">
            <a:avLst/>
          </a:prstGeom>
          <a:solidFill>
            <a:srgbClr val="b2b2b2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7543800" y="2895480"/>
            <a:ext cx="1371600" cy="304920"/>
          </a:xfrm>
          <a:prstGeom prst="rect">
            <a:avLst/>
          </a:prstGeom>
          <a:solidFill>
            <a:srgbClr val="808080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" y="586728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Vezérlő re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133720" y="5791320"/>
            <a:ext cx="243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Laptábla könyvtá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4343400" y="487692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Laptáb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514600" y="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Lineáris cí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7467480" y="5486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Memór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943600" y="1676520"/>
            <a:ext cx="9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Talál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809880" y="2590920"/>
            <a:ext cx="221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Nincs a TLB-b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7848720" y="3276720"/>
            <a:ext cx="76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L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019920" y="91440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12 b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91320" y="41148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20 b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90579-FAD7-4103-BBCA-E57FB59A8A27}" type="slidenum">
              <a:t>1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ffffff"/>
                </a:solidFill>
                <a:latin typeface="Times New Roman"/>
              </a:rPr>
              <a:t>Laptábla tétel, TL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PFA: Lapcím felső 20 bitje (Page Frame Addres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OSR: op. rsz. számára fenntart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D: módosított (Dirty), értéke 1 ha írtunk a lap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A: hozzáférés jelző (Accessed), 1 ha hivatkoztunk a lap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U/S: felhasználói/rendszer (User/Superviso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R/W: irható/olvasható (Read/Write), 0 ha csak olvasható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P: jelenlét (Present), 1 ha a lap a memóriában v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P=0 azaz laphiba esetén az op.r. a  CR2 vezérlőregiszterben lévő lineáris cím alapján keresi meg a lapot a háttértárol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A TLB a két táblán keresztüli hozzáférés okozta lassulást igyekszik csökkenten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914400" y="762120"/>
            <a:ext cx="1981080" cy="3045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3300"/>
                </a:solidFill>
                <a:latin typeface="Times New Roman"/>
              </a:rPr>
              <a:t>PF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895480" y="762120"/>
            <a:ext cx="1067040" cy="3045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3300"/>
                </a:solidFill>
                <a:latin typeface="Times New Roman"/>
              </a:rPr>
              <a:t>OS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962520" y="762120"/>
            <a:ext cx="609480" cy="3045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3300"/>
                </a:solidFill>
                <a:latin typeface="Times New Roman"/>
              </a:rPr>
              <a:t>0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4572000" y="762120"/>
            <a:ext cx="457200" cy="3045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029200" y="762120"/>
            <a:ext cx="380880" cy="3045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410080" y="762120"/>
            <a:ext cx="609840" cy="3045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3300"/>
                </a:solidFill>
                <a:latin typeface="Times New Roman"/>
              </a:rPr>
              <a:t>0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6019920" y="762120"/>
            <a:ext cx="838080" cy="3045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3300"/>
                </a:solidFill>
                <a:latin typeface="Times New Roman"/>
              </a:rPr>
              <a:t>U/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6858000" y="762120"/>
            <a:ext cx="838080" cy="3045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3300"/>
                </a:solidFill>
                <a:latin typeface="Times New Roman"/>
              </a:rPr>
              <a:t>R/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696080" y="762120"/>
            <a:ext cx="381240" cy="3045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33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49186-B1C5-4FE3-B2A2-1DB2EF1BE9B2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/>
          </p:nvPr>
        </p:nvSpPr>
        <p:spPr>
          <a:xfrm>
            <a:off x="228600" y="304920"/>
            <a:ext cx="861048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A legutoljára használt 32 lap fordítási információit tárolj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Könyvtár szá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Lapszá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lapcím felső 20 bit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Egyszerre indul a keresés a táblákban és a TLB-b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Ha a TLB-ben találat van, akkor a táblabeli keresés abbamar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Ha nincs a TLB-ben akkor a táblákból olvas és frissíti a TLB-t (négyutas asszociativ cach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7948D-D516-4F06-A5F1-2D0DD54E1770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ffffff"/>
                </a:solidFill>
                <a:latin typeface="Times New Roman"/>
              </a:rPr>
              <a:t>A 80386 üzemmódja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457200" y="914400"/>
            <a:ext cx="2286000" cy="1523880"/>
            <a:chOff x="457200" y="914400"/>
            <a:chExt cx="2286000" cy="1523880"/>
          </a:xfrm>
        </p:grpSpPr>
        <p:sp>
          <p:nvSpPr>
            <p:cNvPr id="45" name=""/>
            <p:cNvSpPr/>
            <p:nvPr/>
          </p:nvSpPr>
          <p:spPr>
            <a:xfrm>
              <a:off x="457200" y="1447920"/>
              <a:ext cx="2286000" cy="9903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000" spc="-1" strike="noStrike">
                  <a:solidFill>
                    <a:srgbClr val="ff3300"/>
                  </a:solidFill>
                  <a:latin typeface="Times New Roman"/>
                </a:rPr>
                <a:t>MAXIMUM MÓ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000" spc="-1" strike="noStrike">
                  <a:solidFill>
                    <a:srgbClr val="ff3300"/>
                  </a:solidFill>
                  <a:latin typeface="Times New Roman"/>
                </a:rPr>
                <a:t>16 bi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09480" y="914400"/>
              <a:ext cx="1676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000" spc="-1" strike="noStrike">
                  <a:solidFill>
                    <a:srgbClr val="ffffff"/>
                  </a:solidFill>
                  <a:latin typeface="Times New Roman"/>
                </a:rPr>
                <a:t>808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" name=""/>
          <p:cNvGrpSpPr/>
          <p:nvPr/>
        </p:nvGrpSpPr>
        <p:grpSpPr>
          <a:xfrm>
            <a:off x="380880" y="2514600"/>
            <a:ext cx="5334120" cy="1523880"/>
            <a:chOff x="380880" y="2514600"/>
            <a:chExt cx="5334120" cy="1523880"/>
          </a:xfrm>
        </p:grpSpPr>
        <p:sp>
          <p:nvSpPr>
            <p:cNvPr id="48" name=""/>
            <p:cNvSpPr/>
            <p:nvPr/>
          </p:nvSpPr>
          <p:spPr>
            <a:xfrm>
              <a:off x="380880" y="3048120"/>
              <a:ext cx="2286000" cy="9903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000" spc="-1" strike="noStrike">
                  <a:solidFill>
                    <a:srgbClr val="ff3300"/>
                  </a:solidFill>
                  <a:latin typeface="Times New Roman"/>
                </a:rPr>
                <a:t>VALÓS MÓ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000" spc="-1" strike="noStrike">
                  <a:solidFill>
                    <a:srgbClr val="ff3300"/>
                  </a:solidFill>
                  <a:latin typeface="Times New Roman"/>
                </a:rPr>
                <a:t>16 bi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29000" y="3048120"/>
              <a:ext cx="2286000" cy="9903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000" spc="-1" strike="noStrike">
                  <a:solidFill>
                    <a:srgbClr val="ff3300"/>
                  </a:solidFill>
                  <a:latin typeface="Times New Roman"/>
                </a:rPr>
                <a:t>VÉDETT MÓ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000" spc="-1" strike="noStrike">
                  <a:solidFill>
                    <a:srgbClr val="ff3300"/>
                  </a:solidFill>
                  <a:latin typeface="Times New Roman"/>
                </a:rPr>
                <a:t>16 bi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80880" y="2514600"/>
              <a:ext cx="1676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000" spc="-1" strike="noStrike">
                  <a:solidFill>
                    <a:srgbClr val="ffffff"/>
                  </a:solidFill>
                  <a:latin typeface="Times New Roman"/>
                </a:rPr>
                <a:t>8028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80880" y="4114800"/>
            <a:ext cx="8382240" cy="1523880"/>
            <a:chOff x="380880" y="4114800"/>
            <a:chExt cx="8382240" cy="1523880"/>
          </a:xfrm>
        </p:grpSpPr>
        <p:sp>
          <p:nvSpPr>
            <p:cNvPr id="52" name=""/>
            <p:cNvSpPr/>
            <p:nvPr/>
          </p:nvSpPr>
          <p:spPr>
            <a:xfrm>
              <a:off x="380880" y="4648320"/>
              <a:ext cx="2286000" cy="9903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000" spc="-1" strike="noStrike">
                  <a:solidFill>
                    <a:srgbClr val="ff3300"/>
                  </a:solidFill>
                  <a:latin typeface="Times New Roman"/>
                </a:rPr>
                <a:t>VALÓS MÓ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000" spc="-1" strike="noStrike">
                  <a:solidFill>
                    <a:srgbClr val="ff3300"/>
                  </a:solidFill>
                  <a:latin typeface="Times New Roman"/>
                </a:rPr>
                <a:t>16 bi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352680" y="4648320"/>
              <a:ext cx="2286000" cy="9903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000" spc="-1" strike="noStrike">
                  <a:solidFill>
                    <a:srgbClr val="ff3300"/>
                  </a:solidFill>
                  <a:latin typeface="Times New Roman"/>
                </a:rPr>
                <a:t>VÉDETT MÓ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000" spc="-1" strike="noStrike">
                  <a:solidFill>
                    <a:srgbClr val="ff3300"/>
                  </a:solidFill>
                  <a:latin typeface="Times New Roman"/>
                </a:rPr>
                <a:t>32 bi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324480" y="4648320"/>
              <a:ext cx="2438640" cy="9903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000" spc="-1" strike="noStrike">
                  <a:solidFill>
                    <a:srgbClr val="ff3300"/>
                  </a:solidFill>
                  <a:latin typeface="Times New Roman"/>
                </a:rPr>
                <a:t>VIRTUÁLIS MÓ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000" spc="-1" strike="noStrike">
                  <a:solidFill>
                    <a:srgbClr val="ff3300"/>
                  </a:solidFill>
                  <a:latin typeface="Times New Roman"/>
                </a:rPr>
                <a:t>8086-o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000" spc="-1" strike="noStrike">
                  <a:solidFill>
                    <a:srgbClr val="ff3300"/>
                  </a:solidFill>
                  <a:latin typeface="Times New Roman"/>
                </a:rPr>
                <a:t>16 bi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80880" y="4114800"/>
              <a:ext cx="1676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000" spc="-1" strike="noStrike">
                  <a:solidFill>
                    <a:srgbClr val="ffffff"/>
                  </a:solidFill>
                  <a:latin typeface="Times New Roman"/>
                </a:rPr>
                <a:t>8038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3809880" y="1219320"/>
            <a:ext cx="5334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Az egyes üzemmódok különböznek:</a:t>
            </a:r>
            <a:br>
              <a:rPr sz="2400"/>
            </a:b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- címsín szélessége</a:t>
            </a:r>
            <a:br>
              <a:rPr sz="2400"/>
            </a:b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- címszámítás módja</a:t>
            </a:r>
            <a:br>
              <a:rPr sz="2400"/>
            </a:b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- véde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571500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1 MB, nincs véde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048120" y="5715000"/>
            <a:ext cx="281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4 GB, gyűrűs véde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019920" y="5791320"/>
            <a:ext cx="281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20 bit, virt. tár, védele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D9CF0-7429-41F6-BAC0-E04307AE9830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ffffff"/>
                </a:solidFill>
                <a:latin typeface="Times New Roman"/>
              </a:rPr>
              <a:t>Védel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4560" y="83772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Két szinten: a szegmensek és a lapok szintjé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Szegmens szintű: ld. előző előadá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Lap szintű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két privilégium szi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Felhasználói ( 3 szi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Felügyelői ( 0, 1, 2 szi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Írás elleni védelem: R/W b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A két védelem közül először a szegmensekre vonatkozót, azután a lapokra vonatkozót ellenőrzi a CP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C95F0-9ABC-4A8C-B2C3-E99976722B34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ffffff"/>
                </a:solidFill>
                <a:latin typeface="Times New Roman"/>
              </a:rPr>
              <a:t>ENTER és LEAV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-360" y="761760"/>
            <a:ext cx="8915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Az 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ENTER 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a legtöbb blokk-szerkezetű magasszintű programozási nyelv által használt stack keretet állítja elő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Az első operandus a veremben a </a:t>
            </a:r>
            <a:r>
              <a:rPr b="1" lang="hu-HU" sz="2800" spc="-1" strike="noStrike" u="sng">
                <a:solidFill>
                  <a:srgbClr val="ffffff"/>
                </a:solidFill>
                <a:uFillTx/>
                <a:latin typeface="Times New Roman"/>
              </a:rPr>
              <a:t>hívott rutin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 számára lefoglalandó byte-ok számát adja meg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A második operandus a magasszintű program kódban  a rutin beágyazottságának szintje 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(0 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és 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31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 között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). 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Ez meghatározza az új keretbe az előző keretből átmásolandó stack keret mutatók számá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BP (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vagy 32 bites operandusok esetén 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EBP) 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az aktuális verem keret mutató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16 bites operandusok esetén a 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process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z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or BP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-t tekinti 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keret mutatónak, és 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SP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-t verem mutatóna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BD75D-84DD-406E-A4F7-D97F952C5C70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/>
          </p:nvPr>
        </p:nvSpPr>
        <p:spPr>
          <a:xfrm>
            <a:off x="228240" y="304560"/>
            <a:ext cx="89154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32 bit</a:t>
            </a: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 operandusok esetében </a:t>
            </a: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EBP </a:t>
            </a: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a keret mutató és </a:t>
            </a: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 ESP </a:t>
            </a: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a verem tutató</a:t>
            </a: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Ha a második operandus </a:t>
            </a: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0, ENTER </a:t>
            </a: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a verem tetejére teszi a keret mutatót</a:t>
            </a: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 (BP </a:t>
            </a: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vagy</a:t>
            </a: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 EBP); </a:t>
            </a: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a keret mutatóba írja a verem mutató értékét,</a:t>
            </a: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azután csökkenti a verem mutató értékét az első operandus értékével</a:t>
            </a: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Például egy 12 byte-nyi lokális változót használó eljárás esetén a belépés pontján  </a:t>
            </a: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ENTER 12,0 </a:t>
            </a: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utasítás kell (és egy LEAVE</a:t>
            </a: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utasítás minden RET előt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12 </a:t>
            </a: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byte lokális változót a keret mutatóhoz viszonyított negatív eltolás értékekkel lehet elérn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6B2B4-C762-43A2-AB76-A8C0617C22B0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/>
          <p:nvPr/>
        </p:nvSpPr>
        <p:spPr>
          <a:xfrm>
            <a:off x="2362320" y="914400"/>
            <a:ext cx="0" cy="42670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191120" y="914400"/>
            <a:ext cx="0" cy="42670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362320" y="3962520"/>
            <a:ext cx="1828800" cy="39888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iss</a:t>
            </a: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zatérési  cí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38080" y="3962520"/>
            <a:ext cx="1524240" cy="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457200" y="3962520"/>
            <a:ext cx="1676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SP, ENTER eló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2362320" y="3505320"/>
            <a:ext cx="1828800" cy="39888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(E)B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762120" y="3505320"/>
            <a:ext cx="152388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304920" y="266688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BP, ENTER utá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362320" y="1676520"/>
            <a:ext cx="18288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685800" y="1676520"/>
            <a:ext cx="167652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80880" y="914400"/>
            <a:ext cx="182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SP, ENTER utá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6019920" y="838080"/>
            <a:ext cx="2666880" cy="31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CALL     Subr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Subru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ENTER   12,0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LEA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R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343400" y="1676520"/>
            <a:ext cx="152280" cy="1752480"/>
          </a:xfrm>
          <a:custGeom>
            <a:avLst/>
            <a:gdLst>
              <a:gd name="textAreaLeft" fmla="*/ 0 w 152280"/>
              <a:gd name="textAreaRight" fmla="*/ 55080 w 15228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228600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12 by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82F60-671C-46EE-B532-B0AE5CE1B9C1}" type="slidenum">
              <a:t>2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/>
          </p:nvPr>
        </p:nvSpPr>
        <p:spPr>
          <a:xfrm>
            <a:off x="304920" y="304920"/>
            <a:ext cx="853416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LEAVE </a:t>
            </a: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az ENTER működésének fordítottját végzi, kilép az eljárásból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A keretmutatót átmásolja a verem mutatóba, ezzel felszabadítja a helyi változók tárolására használt verem-területet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A régi keret mutató értékét a verem tetejéről a </a:t>
            </a: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BP </a:t>
            </a: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vagy az </a:t>
            </a: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EBP</a:t>
            </a: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 regiszterbe teszi</a:t>
            </a: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 ezzel helyreállítja a hívó verem kereté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Az utána következő RET utasítás pedig eltávolítja a veremben tárolt paramétereket</a:t>
            </a: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5AD36-B9EB-444F-85B8-159077409676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ffffff"/>
                </a:solidFill>
                <a:latin typeface="Times New Roman"/>
              </a:rPr>
              <a:t>Megszakítás(IT) és kivételes állapot kezelé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5341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IT és kivételes állapot különbsége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az IT az éppen futó utasítás végrehajtása </a:t>
            </a:r>
            <a:r>
              <a:rPr b="1" lang="hu-HU" sz="2400" spc="-1" strike="noStrike" u="sng">
                <a:solidFill>
                  <a:srgbClr val="ffffff"/>
                </a:solidFill>
                <a:uFillTx/>
                <a:latin typeface="Times New Roman"/>
              </a:rPr>
              <a:t>után</a:t>
            </a: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 jut érvény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kivételes állapot: a futó utasítás végrehajtása </a:t>
            </a:r>
            <a:r>
              <a:rPr b="1" lang="hu-HU" sz="2400" spc="-1" strike="noStrike" u="sng">
                <a:solidFill>
                  <a:srgbClr val="ffffff"/>
                </a:solidFill>
                <a:uFillTx/>
                <a:latin typeface="Times New Roman"/>
              </a:rPr>
              <a:t>megszakad </a:t>
            </a: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és egy hibakód kerül a verem memóriáb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A forrásokat 0 és 255 közé eső számokkal azonosítja a CPU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A kivételes állapothoz, a szoftver megszakításhoz és a nem-maszkolható megszakításhoz tartozó számot a processzor állítja elő, a többit az IT-t kérő eszköznek kell generálni és eljuttatni a CPU-ho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0C85E-527A-487E-8791-5EF5B659DD83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/>
          </p:nvPr>
        </p:nvSpPr>
        <p:spPr>
          <a:xfrm>
            <a:off x="304560" y="304920"/>
            <a:ext cx="838188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Az azonosító egy indexet képez, amivel a megszakítás-leíró tábla (IDT) egy bejegyzését lehet kiválasztan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Az IDT a memóriában bárhol lehet, kezdőcímét egy rendszer regiszter, az IDTR tartalmazz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A tábla minden egyes bejegyzése egy-egy kapu. A kapu típusától függően a megszakítás kezelése egy eljárásra vagy egy taszkra bízhat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BB42A-48B3-4ECF-8164-44A9CDBD28C2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ffffff"/>
                </a:solidFill>
                <a:latin typeface="Times New Roman"/>
              </a:rPr>
              <a:t>Hibakeresé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304920" y="837720"/>
            <a:ext cx="85341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A 386-os az 1-es kivételes állapot szintjén egy „Debug Exception”-t támogat. A kivételes állapotot egy erre szolgáló utasítás váltja ki, a CPU-ban pedig 8 ú.n. hibakereső (debug) regiszter van. Ezek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DR0-DR3: töréspont cí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DR4-DR5: fenntartva további fejlesztés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DR6: állapotszó, a CPU ír ide EXC 1 eseté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DR7: vezérlé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B350E-F802-480C-89B7-D3F3393E3172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/>
          </p:nvPr>
        </p:nvSpPr>
        <p:spPr>
          <a:xfrm>
            <a:off x="380520" y="228600"/>
            <a:ext cx="84582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űködés lényege: ha a végrehajtás során a CPU valamelyik törésponti címet érinti (a DR7-ben meghatározott módon) akkor EXC1 lép f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Lehetséges EXC1-et kiváltó módok a DR7-be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Utasítás lehívá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Adat írá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Adatírás vagy olvasá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471F6-D8A1-4A1C-9291-482FF062BB6D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ffffff"/>
                </a:solidFill>
                <a:latin typeface="Times New Roman"/>
              </a:rPr>
              <a:t>CPU fejlődé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7" name=""/>
          <p:cNvGraphicFramePr/>
          <p:nvPr/>
        </p:nvGraphicFramePr>
        <p:xfrm>
          <a:off x="685800" y="838080"/>
          <a:ext cx="8458200" cy="5656320"/>
        </p:xfrm>
        <a:graphic>
          <a:graphicData uri="http://schemas.openxmlformats.org/drawingml/2006/table">
            <a:tbl>
              <a:tblPr/>
              <a:tblGrid>
                <a:gridCol w="2590920"/>
                <a:gridCol w="2819160"/>
                <a:gridCol w="3048120"/>
              </a:tblGrid>
              <a:tr h="811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8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8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8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1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6 bi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2 bi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2 bi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6M/1 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G/64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G/64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2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 fajta címszámítá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 fajta címszámítá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 fajta címszámítá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1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L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P társprocesszo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dat/utasítás cach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EB04A-A983-422D-9E6C-349C4A68C78D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ffffff"/>
                </a:solidFill>
                <a:latin typeface="Times New Roman"/>
              </a:rPr>
              <a:t>Belső felépíté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724280" y="1187280"/>
            <a:ext cx="22860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5334120" y="1216080"/>
            <a:ext cx="2361960" cy="1465200"/>
            <a:chOff x="5334120" y="1216080"/>
            <a:chExt cx="2361960" cy="1465200"/>
          </a:xfrm>
        </p:grpSpPr>
        <p:sp>
          <p:nvSpPr>
            <p:cNvPr id="63" name=""/>
            <p:cNvSpPr/>
            <p:nvPr/>
          </p:nvSpPr>
          <p:spPr>
            <a:xfrm>
              <a:off x="5334120" y="1216080"/>
              <a:ext cx="2361960" cy="14652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000" spc="-1" strike="noStrike">
                  <a:solidFill>
                    <a:srgbClr val="ff3300"/>
                  </a:solidFill>
                  <a:latin typeface="Times New Roman"/>
                </a:rPr>
                <a:t>Page Unit (PU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000" spc="-1" strike="noStrike">
                  <a:solidFill>
                    <a:srgbClr val="ff3300"/>
                  </a:solidFill>
                  <a:latin typeface="Times New Roman"/>
                </a:rPr>
                <a:t>Lapfordító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000" spc="-1" strike="noStrike">
                  <a:solidFill>
                    <a:srgbClr val="ff3300"/>
                  </a:solidFill>
                  <a:latin typeface="Times New Roman"/>
                </a:rPr>
                <a:t>TL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000" spc="-1" strike="noStrike">
                  <a:solidFill>
                    <a:srgbClr val="ff3300"/>
                  </a:solidFill>
                  <a:latin typeface="Times New Roman"/>
                </a:rPr>
                <a:t>Fordításgyorsító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334120" y="1977840"/>
              <a:ext cx="236196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1066680" y="1187280"/>
            <a:ext cx="2590560" cy="1465200"/>
            <a:chOff x="1066680" y="1187280"/>
            <a:chExt cx="2590560" cy="1465200"/>
          </a:xfrm>
        </p:grpSpPr>
        <p:sp>
          <p:nvSpPr>
            <p:cNvPr id="66" name=""/>
            <p:cNvSpPr/>
            <p:nvPr/>
          </p:nvSpPr>
          <p:spPr>
            <a:xfrm>
              <a:off x="1066680" y="1187280"/>
              <a:ext cx="2590560" cy="14652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000" spc="-1" strike="noStrike">
                  <a:solidFill>
                    <a:srgbClr val="ff3300"/>
                  </a:solidFill>
                  <a:latin typeface="Times New Roman"/>
                </a:rPr>
                <a:t>Segment Unit (SU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000" spc="-1" strike="noStrike">
                  <a:solidFill>
                    <a:srgbClr val="ff3300"/>
                  </a:solidFill>
                  <a:latin typeface="Times New Roman"/>
                </a:rPr>
                <a:t>Szegmensfordító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000" spc="-1" strike="noStrike">
                  <a:solidFill>
                    <a:srgbClr val="ff3300"/>
                  </a:solidFill>
                  <a:latin typeface="Times New Roman"/>
                </a:rPr>
                <a:t>Szegmensregisztere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066680" y="1949040"/>
              <a:ext cx="259056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" name=""/>
          <p:cNvSpPr/>
          <p:nvPr/>
        </p:nvSpPr>
        <p:spPr>
          <a:xfrm>
            <a:off x="3657600" y="1949400"/>
            <a:ext cx="1676520" cy="0"/>
          </a:xfrm>
          <a:prstGeom prst="line">
            <a:avLst/>
          </a:prstGeom>
          <a:ln w="572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352680" y="790560"/>
            <a:ext cx="221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000" spc="-1" strike="noStrike">
                <a:solidFill>
                  <a:srgbClr val="ffffff"/>
                </a:solidFill>
                <a:latin typeface="Times New Roman"/>
              </a:rPr>
              <a:t>Lineáris cí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419720" y="1187280"/>
            <a:ext cx="0" cy="39708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228600" y="2971800"/>
            <a:ext cx="2590560" cy="1465200"/>
            <a:chOff x="228600" y="2971800"/>
            <a:chExt cx="2590560" cy="1465200"/>
          </a:xfrm>
        </p:grpSpPr>
        <p:sp>
          <p:nvSpPr>
            <p:cNvPr id="72" name=""/>
            <p:cNvSpPr/>
            <p:nvPr/>
          </p:nvSpPr>
          <p:spPr>
            <a:xfrm>
              <a:off x="228600" y="2971800"/>
              <a:ext cx="2590560" cy="14652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000" spc="-1" strike="noStrike">
                  <a:solidFill>
                    <a:srgbClr val="ff3300"/>
                  </a:solidFill>
                  <a:latin typeface="Times New Roman"/>
                </a:rPr>
                <a:t>Execution Unit (EU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000" spc="-1" strike="noStrike">
                  <a:solidFill>
                    <a:srgbClr val="ff3300"/>
                  </a:solidFill>
                  <a:latin typeface="Times New Roman"/>
                </a:rPr>
                <a:t>Végrehajtó egys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000" spc="-1" strike="noStrike">
                  <a:solidFill>
                    <a:srgbClr val="ff3300"/>
                  </a:solidFill>
                  <a:latin typeface="Times New Roman"/>
                </a:rPr>
                <a:t>Regisztere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000" spc="-1" strike="noStrike">
                  <a:solidFill>
                    <a:srgbClr val="ff3300"/>
                  </a:solidFill>
                  <a:latin typeface="Times New Roman"/>
                </a:rPr>
                <a:t>ALU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28600" y="3733560"/>
              <a:ext cx="259056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" name=""/>
          <p:cNvSpPr/>
          <p:nvPr/>
        </p:nvSpPr>
        <p:spPr>
          <a:xfrm>
            <a:off x="457200" y="1949400"/>
            <a:ext cx="609480" cy="0"/>
          </a:xfrm>
          <a:prstGeom prst="line">
            <a:avLst/>
          </a:prstGeom>
          <a:ln w="572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57200" y="1949400"/>
            <a:ext cx="0" cy="1022400"/>
          </a:xfrm>
          <a:prstGeom prst="line">
            <a:avLst/>
          </a:prstGeom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0" y="487440"/>
            <a:ext cx="22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000" spc="-1" strike="noStrike">
                <a:solidFill>
                  <a:srgbClr val="ffffff"/>
                </a:solidFill>
                <a:latin typeface="Times New Roman"/>
              </a:rPr>
              <a:t>Logikai cí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85800" y="884160"/>
            <a:ext cx="0" cy="10368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1066680" y="4741920"/>
            <a:ext cx="2362320" cy="1465200"/>
            <a:chOff x="1066680" y="4741920"/>
            <a:chExt cx="2362320" cy="1465200"/>
          </a:xfrm>
        </p:grpSpPr>
        <p:sp>
          <p:nvSpPr>
            <p:cNvPr id="79" name=""/>
            <p:cNvSpPr/>
            <p:nvPr/>
          </p:nvSpPr>
          <p:spPr>
            <a:xfrm>
              <a:off x="1066680" y="4741920"/>
              <a:ext cx="2362320" cy="14652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000" spc="-1" strike="noStrike">
                  <a:solidFill>
                    <a:srgbClr val="ff3300"/>
                  </a:solidFill>
                  <a:latin typeface="Times New Roman"/>
                </a:rPr>
                <a:t>Decoder Unit (DU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000" spc="-1" strike="noStrike">
                  <a:solidFill>
                    <a:srgbClr val="ff3300"/>
                  </a:solidFill>
                  <a:latin typeface="Times New Roman"/>
                </a:rPr>
                <a:t>Utasításdekódoló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000" spc="-1" strike="noStrike">
                  <a:solidFill>
                    <a:srgbClr val="ff3300"/>
                  </a:solidFill>
                  <a:latin typeface="Times New Roman"/>
                </a:rPr>
                <a:t>Instruction Queu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000" spc="-1" strike="noStrike">
                  <a:solidFill>
                    <a:srgbClr val="ff3300"/>
                  </a:solidFill>
                  <a:latin typeface="Times New Roman"/>
                </a:rPr>
                <a:t>Várakozási s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066680" y="5503680"/>
              <a:ext cx="236232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" name=""/>
          <p:cNvSpPr/>
          <p:nvPr/>
        </p:nvSpPr>
        <p:spPr>
          <a:xfrm flipV="1">
            <a:off x="457200" y="4437000"/>
            <a:ext cx="0" cy="1067040"/>
          </a:xfrm>
          <a:prstGeom prst="line">
            <a:avLst/>
          </a:prstGeom>
          <a:ln w="572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456840" y="5504040"/>
            <a:ext cx="609480" cy="0"/>
          </a:xfrm>
          <a:prstGeom prst="line">
            <a:avLst/>
          </a:prstGeom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5334120" y="4741920"/>
            <a:ext cx="2590200" cy="1465200"/>
            <a:chOff x="5334120" y="4741920"/>
            <a:chExt cx="2590200" cy="1465200"/>
          </a:xfrm>
        </p:grpSpPr>
        <p:sp>
          <p:nvSpPr>
            <p:cNvPr id="84" name=""/>
            <p:cNvSpPr/>
            <p:nvPr/>
          </p:nvSpPr>
          <p:spPr>
            <a:xfrm>
              <a:off x="5334120" y="4741920"/>
              <a:ext cx="2590200" cy="14652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000" spc="-1" strike="noStrike">
                  <a:solidFill>
                    <a:srgbClr val="ff3300"/>
                  </a:solidFill>
                  <a:latin typeface="Times New Roman"/>
                </a:rPr>
                <a:t>Prefetch Unit (PRU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000" spc="-1" strike="noStrike">
                  <a:solidFill>
                    <a:srgbClr val="ff3300"/>
                  </a:solidFill>
                  <a:latin typeface="Times New Roman"/>
                </a:rPr>
                <a:t>Utasításlehívó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000" spc="-1" strike="noStrike">
                  <a:solidFill>
                    <a:srgbClr val="ff3300"/>
                  </a:solidFill>
                  <a:latin typeface="Times New Roman"/>
                </a:rPr>
                <a:t>Prefetch Queu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000" spc="-1" strike="noStrike">
                  <a:solidFill>
                    <a:srgbClr val="ff3300"/>
                  </a:solidFill>
                  <a:latin typeface="Times New Roman"/>
                </a:rPr>
                <a:t>Várakozási s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334120" y="5503680"/>
              <a:ext cx="259020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" name=""/>
          <p:cNvGrpSpPr/>
          <p:nvPr/>
        </p:nvGrpSpPr>
        <p:grpSpPr>
          <a:xfrm>
            <a:off x="5334120" y="3000240"/>
            <a:ext cx="3200040" cy="1465200"/>
            <a:chOff x="5334120" y="3000240"/>
            <a:chExt cx="3200040" cy="1465200"/>
          </a:xfrm>
        </p:grpSpPr>
        <p:sp>
          <p:nvSpPr>
            <p:cNvPr id="87" name=""/>
            <p:cNvSpPr/>
            <p:nvPr/>
          </p:nvSpPr>
          <p:spPr>
            <a:xfrm>
              <a:off x="5334120" y="3000240"/>
              <a:ext cx="3200040" cy="14652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000" spc="-1" strike="noStrike">
                  <a:solidFill>
                    <a:srgbClr val="ff3300"/>
                  </a:solidFill>
                  <a:latin typeface="Times New Roman"/>
                </a:rPr>
                <a:t>Bus Interface Unit (BIU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000" spc="-1" strike="noStrike">
                  <a:solidFill>
                    <a:srgbClr val="ff3300"/>
                  </a:solidFill>
                  <a:latin typeface="Times New Roman"/>
                </a:rPr>
                <a:t>Sínillesztő egysé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000" spc="-1" strike="noStrike">
                  <a:solidFill>
                    <a:srgbClr val="ff3300"/>
                  </a:solidFill>
                  <a:latin typeface="Times New Roman"/>
                </a:rPr>
                <a:t>Pufferek, meghajtó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334120" y="3762000"/>
              <a:ext cx="320004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 flipH="1">
            <a:off x="3429000" y="5105520"/>
            <a:ext cx="990720" cy="0"/>
          </a:xfrm>
          <a:prstGeom prst="line">
            <a:avLst/>
          </a:prstGeom>
          <a:ln w="572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4419720" y="5504040"/>
            <a:ext cx="914400" cy="0"/>
          </a:xfrm>
          <a:prstGeom prst="line">
            <a:avLst/>
          </a:prstGeom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419720" y="5105520"/>
            <a:ext cx="0" cy="398520"/>
          </a:xfrm>
          <a:prstGeom prst="line">
            <a:avLst/>
          </a:prstGeom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696080" y="1978200"/>
            <a:ext cx="228600" cy="0"/>
          </a:xfrm>
          <a:prstGeom prst="line">
            <a:avLst/>
          </a:prstGeom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924680" y="1978200"/>
            <a:ext cx="0" cy="993600"/>
          </a:xfrm>
          <a:prstGeom prst="line">
            <a:avLst/>
          </a:prstGeom>
          <a:ln w="572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819840" y="685800"/>
            <a:ext cx="221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000" spc="-1" strike="noStrike">
                <a:solidFill>
                  <a:srgbClr val="ffffff"/>
                </a:solidFill>
                <a:latin typeface="Times New Roman"/>
              </a:rPr>
              <a:t>Fizikai cí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924680" y="1082520"/>
            <a:ext cx="0" cy="83844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458200" y="4465800"/>
            <a:ext cx="0" cy="1038240"/>
          </a:xfrm>
          <a:prstGeom prst="line">
            <a:avLst/>
          </a:prstGeom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7924680" y="5504040"/>
            <a:ext cx="533520" cy="0"/>
          </a:xfrm>
          <a:prstGeom prst="line">
            <a:avLst/>
          </a:prstGeom>
          <a:ln w="572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534520" y="3581280"/>
            <a:ext cx="495360" cy="304920"/>
          </a:xfrm>
          <a:prstGeom prst="rightArrow">
            <a:avLst>
              <a:gd name="adj1" fmla="val 50000"/>
              <a:gd name="adj2" fmla="val 40614"/>
            </a:avLst>
          </a:prstGeom>
          <a:solidFill>
            <a:srgbClr val="00ff00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153280" y="5810400"/>
            <a:ext cx="990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000" spc="-1" strike="noStrike">
                <a:solidFill>
                  <a:srgbClr val="ffffff"/>
                </a:solidFill>
                <a:latin typeface="Times New Roman"/>
              </a:rPr>
              <a:t>Síne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8839080" y="3962160"/>
            <a:ext cx="0" cy="184788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FB4D3-62EF-4BEA-A25A-72DF3E00A71C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7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9160" bIns="29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ffffff"/>
                </a:solidFill>
                <a:latin typeface="Times New Roman"/>
              </a:rPr>
              <a:t>Blokkvázl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714680" y="152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714680" y="152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657600" y="1066680"/>
            <a:ext cx="838080" cy="175284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066680" y="3429000"/>
            <a:ext cx="838440" cy="8380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952880" y="1066680"/>
            <a:ext cx="838440" cy="175284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2133720"/>
            <a:ext cx="762120" cy="16761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066680" y="4267080"/>
            <a:ext cx="83844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362320" y="3429000"/>
            <a:ext cx="838080" cy="8380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657600" y="3429000"/>
            <a:ext cx="838080" cy="8380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876920" y="3429000"/>
            <a:ext cx="838080" cy="8380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362320" y="4267080"/>
            <a:ext cx="838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657600" y="4191120"/>
            <a:ext cx="838080" cy="10666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876920" y="4267080"/>
            <a:ext cx="838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523880" y="1676520"/>
            <a:ext cx="213372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523880" y="1676520"/>
            <a:ext cx="0" cy="17524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33720" y="1981080"/>
            <a:ext cx="0" cy="27432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1905120" y="4724280"/>
            <a:ext cx="45720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3200400" y="4724280"/>
            <a:ext cx="45720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4495320" y="4724280"/>
            <a:ext cx="38124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523880" y="5486400"/>
            <a:ext cx="51818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6705720" y="3809520"/>
            <a:ext cx="0" cy="16765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1523880" y="5257440"/>
            <a:ext cx="0" cy="2286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143000" y="36576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AL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733920" y="36576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ID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952880" y="36576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PR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400800" y="2590920"/>
            <a:ext cx="685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BI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733920" y="175248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S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029200" y="175248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P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029200" y="243828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TL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791320" y="1600200"/>
            <a:ext cx="9144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705720" y="1600200"/>
            <a:ext cx="0" cy="5335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905120" y="3886200"/>
            <a:ext cx="45720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133720" y="1981080"/>
            <a:ext cx="152388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733920" y="45720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que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952880" y="45720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que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715000" y="3657600"/>
            <a:ext cx="609480" cy="0"/>
          </a:xfrm>
          <a:prstGeom prst="line">
            <a:avLst/>
          </a:prstGeom>
          <a:ln w="38160">
            <a:solidFill>
              <a:srgbClr val="ffff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6019920" y="2590560"/>
            <a:ext cx="0" cy="10666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791320" y="2590920"/>
            <a:ext cx="2286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952880" y="2362320"/>
            <a:ext cx="8384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3428640" y="3733920"/>
            <a:ext cx="2286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3429000" y="2437920"/>
            <a:ext cx="0" cy="129564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429000" y="2438280"/>
            <a:ext cx="22860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038480" y="2819520"/>
            <a:ext cx="0" cy="609480"/>
          </a:xfrm>
          <a:prstGeom prst="line">
            <a:avLst/>
          </a:prstGeom>
          <a:ln w="381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334120" y="2819520"/>
            <a:ext cx="0" cy="609480"/>
          </a:xfrm>
          <a:prstGeom prst="line">
            <a:avLst/>
          </a:prstGeom>
          <a:ln w="381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743200" y="3124080"/>
            <a:ext cx="3581280" cy="0"/>
          </a:xfrm>
          <a:prstGeom prst="line">
            <a:avLst/>
          </a:prstGeom>
          <a:ln w="38160">
            <a:solidFill>
              <a:srgbClr val="ff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743200" y="3124080"/>
            <a:ext cx="0" cy="3049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495680" y="1523880"/>
            <a:ext cx="457200" cy="0"/>
          </a:xfrm>
          <a:prstGeom prst="line">
            <a:avLst/>
          </a:prstGeom>
          <a:ln w="381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724280" y="1523880"/>
            <a:ext cx="0" cy="236232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724280" y="3809880"/>
            <a:ext cx="76320" cy="208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095880" y="106668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Fizikai cí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886200" y="60948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lineáris cí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286000" y="4343400"/>
            <a:ext cx="114300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Vezérlő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R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4359960"/>
            <a:ext cx="838440" cy="76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Re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töm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114300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logikai cí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352680" y="556272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ALU sí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981080" y="266688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Vezérlő sí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286000" y="365760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rendező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60B3E-C045-47AA-B041-07A4AD85C9C4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ffffff"/>
                </a:solidFill>
                <a:latin typeface="Times New Roman"/>
              </a:rPr>
              <a:t>Általános célú és szegmens regisztere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514600" y="1600200"/>
            <a:ext cx="833400" cy="45720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676520" y="1600200"/>
            <a:ext cx="833400" cy="45720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A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28600" y="1600200"/>
            <a:ext cx="1442880" cy="45720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676520" y="1447920"/>
            <a:ext cx="1676160" cy="0"/>
          </a:xfrm>
          <a:prstGeom prst="line">
            <a:avLst/>
          </a:prstGeom>
          <a:ln w="381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209680" y="106668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A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228600" y="1066680"/>
            <a:ext cx="3124080" cy="0"/>
          </a:xfrm>
          <a:prstGeom prst="line">
            <a:avLst/>
          </a:prstGeom>
          <a:ln w="381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371600" y="68580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EA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514600" y="2971800"/>
            <a:ext cx="833400" cy="45720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B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676520" y="2971800"/>
            <a:ext cx="833400" cy="45720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B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28600" y="2971800"/>
            <a:ext cx="1442880" cy="45720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676520" y="2819520"/>
            <a:ext cx="1676160" cy="0"/>
          </a:xfrm>
          <a:prstGeom prst="line">
            <a:avLst/>
          </a:prstGeom>
          <a:ln w="381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209680" y="243828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B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228600" y="2438280"/>
            <a:ext cx="3124080" cy="0"/>
          </a:xfrm>
          <a:prstGeom prst="line">
            <a:avLst/>
          </a:prstGeom>
          <a:ln w="381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371600" y="205740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EB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514600" y="4343400"/>
            <a:ext cx="833400" cy="45720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C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676520" y="4343400"/>
            <a:ext cx="833400" cy="45720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28600" y="4343400"/>
            <a:ext cx="1442880" cy="45720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676520" y="4191120"/>
            <a:ext cx="1676160" cy="0"/>
          </a:xfrm>
          <a:prstGeom prst="line">
            <a:avLst/>
          </a:prstGeom>
          <a:ln w="381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209680" y="380988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C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228600" y="3809880"/>
            <a:ext cx="3124080" cy="0"/>
          </a:xfrm>
          <a:prstGeom prst="line">
            <a:avLst/>
          </a:prstGeom>
          <a:ln w="381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371600" y="342900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EC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590920" y="5715000"/>
            <a:ext cx="833400" cy="45720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752480" y="5715000"/>
            <a:ext cx="833400" cy="45720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D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28600" y="5715000"/>
            <a:ext cx="1519200" cy="45720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752480" y="5562720"/>
            <a:ext cx="1676520" cy="0"/>
          </a:xfrm>
          <a:prstGeom prst="line">
            <a:avLst/>
          </a:prstGeom>
          <a:ln w="381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518148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D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152280" y="5181480"/>
            <a:ext cx="3276720" cy="0"/>
          </a:xfrm>
          <a:prstGeom prst="line">
            <a:avLst/>
          </a:prstGeom>
          <a:ln w="381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447920" y="480060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ED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886200" y="1600200"/>
            <a:ext cx="1143000" cy="45720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029200" y="1600200"/>
            <a:ext cx="1143000" cy="45720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886200" y="2666880"/>
            <a:ext cx="1143000" cy="45720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029200" y="2666880"/>
            <a:ext cx="1143000" cy="45720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D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886200" y="3733920"/>
            <a:ext cx="1143000" cy="45720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029200" y="3733920"/>
            <a:ext cx="1143000" cy="45720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B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86200" y="4800600"/>
            <a:ext cx="1143000" cy="45720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029200" y="4800600"/>
            <a:ext cx="1143000" cy="45720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S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886200" y="5715000"/>
            <a:ext cx="1143000" cy="45720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029200" y="5715000"/>
            <a:ext cx="1143000" cy="45720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886200" y="1447920"/>
            <a:ext cx="2286000" cy="0"/>
          </a:xfrm>
          <a:prstGeom prst="line">
            <a:avLst/>
          </a:prstGeom>
          <a:ln w="381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572000" y="106668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E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886200" y="2514600"/>
            <a:ext cx="2286000" cy="0"/>
          </a:xfrm>
          <a:prstGeom prst="line">
            <a:avLst/>
          </a:prstGeom>
          <a:ln w="381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572000" y="21337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ED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886200" y="3581280"/>
            <a:ext cx="2286000" cy="0"/>
          </a:xfrm>
          <a:prstGeom prst="line">
            <a:avLst/>
          </a:prstGeom>
          <a:ln w="381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72000" y="320040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EB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886200" y="4648320"/>
            <a:ext cx="2286000" cy="0"/>
          </a:xfrm>
          <a:prstGeom prst="line">
            <a:avLst/>
          </a:prstGeom>
          <a:ln w="381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72000" y="426708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ES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886200" y="5638680"/>
            <a:ext cx="2286000" cy="0"/>
          </a:xfrm>
          <a:prstGeom prst="line">
            <a:avLst/>
          </a:prstGeom>
          <a:ln w="381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572000" y="525780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EI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238880" y="1523880"/>
            <a:ext cx="1524240" cy="45720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Data seg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238880" y="2362320"/>
            <a:ext cx="1524240" cy="45720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Extr1 seg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238880" y="3124080"/>
            <a:ext cx="1524240" cy="45720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Extr2 seg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238880" y="3886200"/>
            <a:ext cx="1524240" cy="45720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Extr3 seg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238880" y="4724280"/>
            <a:ext cx="1524240" cy="45720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Stack seg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238880" y="5486400"/>
            <a:ext cx="1524240" cy="45720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Code seg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F0248-7079-4B12-9BAC-E58B93ABCBF4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ffffff"/>
                </a:solidFill>
                <a:latin typeface="Times New Roman"/>
              </a:rPr>
              <a:t>Címszámítás a különböző módokba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Valós mód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Max. 1 Mbyte címezhet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Nincs virtuális tá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Védelem nincs, sebesség nagyob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Paragrafus szám a szegmensregiszterben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219320" y="4267080"/>
            <a:ext cx="4495680" cy="3988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Paragrafus szám (16 bit )</a:t>
            </a: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590920" y="4952880"/>
            <a:ext cx="4495680" cy="3988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Eltolás  (16 bit )</a:t>
            </a: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867280" y="4267080"/>
            <a:ext cx="1219320" cy="3988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0 0 0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09480" y="5486400"/>
            <a:ext cx="67820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219320" y="5562720"/>
            <a:ext cx="5943600" cy="3988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Fizikai cím (20 bit</a:t>
            </a: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219320" y="4952880"/>
            <a:ext cx="1218960" cy="3988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0 0 0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62120" y="5029200"/>
            <a:ext cx="0" cy="30492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09480" y="5181480"/>
            <a:ext cx="3049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6537D-D288-4412-9305-7C3664CCEAA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ffffff"/>
                </a:solidFill>
                <a:latin typeface="Times New Roman"/>
              </a:rPr>
              <a:t>Címszámítás védett módba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Négy különböző lehetőség, amelyek vezérlőregiszterek beállításával választhatók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Struktúrálatlan lineáris címzés:</a:t>
            </a:r>
            <a:br>
              <a:rPr sz="2800"/>
            </a:b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nincs szegmentálás, nincs virtuális tárkezelés, a felhasználó egybefüggő, 4 Gbyte-os memóriát lá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Szegmentált címzés (a szegmens </a:t>
            </a:r>
            <a:r>
              <a:rPr b="1" lang="hu-HU" sz="2800" spc="-1" strike="noStrike" u="sng">
                <a:solidFill>
                  <a:srgbClr val="ffffff"/>
                </a:solidFill>
                <a:uFillTx/>
                <a:latin typeface="Times New Roman"/>
              </a:rPr>
              <a:t>logikai 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egység):</a:t>
            </a:r>
            <a:br>
              <a:rPr sz="2800"/>
            </a:b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nincs virtuális tár, a szegmensek hossza 4kByte és 4GByte között 4kByte-os lépésekben tetszőlegesen állítható. Rugalmas védelmi lehetőségek (ld. később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99391-22CB-4182-93DF-E59AEE3519B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685800" y="53352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Struktúrálatlan virtuális tárkezelés:</a:t>
            </a:r>
            <a:br>
              <a:rPr sz="2800"/>
            </a:b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lapszervezésű virtuális tár, 4 kByte-os lapméret. </a:t>
            </a:r>
            <a:br>
              <a:rPr sz="2800"/>
            </a:b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A logikai </a:t>
            </a:r>
            <a:r>
              <a:rPr b="1" lang="hu-HU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fizikai címfordítást a lapfordító (PU) végz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Szegmentált virtuális tárkezelés:</a:t>
            </a:r>
            <a:br>
              <a:rPr sz="2800"/>
            </a:b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A logikai címet először a szegmensfordító (SU) azután a lapfordító (PU) alakítja át fizikai címmé. (SU + PU = MMU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A virtuális mód a valós és a védett együttes megvalósítása, ahol egyes folyamatok valós, mások védett módban futna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AD56E-CFC4-43E8-A867-9D6DEFAC8598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ffffff"/>
                </a:solidFill>
                <a:latin typeface="Times New Roman"/>
              </a:rPr>
              <a:t>Címszámítás a szegmens alapjá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920" y="1143000"/>
            <a:ext cx="3504960" cy="3988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Szegmens szelektor (16 bit )</a:t>
            </a: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809880" y="1143000"/>
            <a:ext cx="3505320" cy="3988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Eltolás (32 bit )</a:t>
            </a: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66680" y="3200400"/>
            <a:ext cx="2438640" cy="251460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Leíró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85800" y="1600200"/>
            <a:ext cx="0" cy="28954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85800" y="4495680"/>
            <a:ext cx="38088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66680" y="4267080"/>
            <a:ext cx="2438640" cy="435240"/>
          </a:xfrm>
          <a:prstGeom prst="rect">
            <a:avLst/>
          </a:prstGeom>
          <a:solidFill>
            <a:srgbClr val="b2b2b2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Leíró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858000" y="83808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83808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352680" y="83808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3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04920" y="83808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4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838080" y="2362320"/>
            <a:ext cx="4572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13 b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95880" y="3124080"/>
            <a:ext cx="2438640" cy="251460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095880" y="3886200"/>
            <a:ext cx="2438640" cy="1143000"/>
          </a:xfrm>
          <a:prstGeom prst="rect">
            <a:avLst/>
          </a:prstGeom>
          <a:solidFill>
            <a:srgbClr val="b2b2b2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095880" y="4343400"/>
            <a:ext cx="2438640" cy="282600"/>
          </a:xfrm>
          <a:prstGeom prst="rect">
            <a:avLst/>
          </a:prstGeom>
          <a:solidFill>
            <a:srgbClr val="808080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876920" y="1600200"/>
            <a:ext cx="0" cy="25146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572000" y="4191120"/>
            <a:ext cx="609480" cy="609480"/>
          </a:xfrm>
          <a:prstGeom prst="ellipse">
            <a:avLst/>
          </a:prstGeom>
          <a:solidFill>
            <a:srgbClr val="00cc99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648320" y="434340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505320" y="4495680"/>
            <a:ext cx="106668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181480" y="4495680"/>
            <a:ext cx="91440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952880" y="2362320"/>
            <a:ext cx="4572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32 b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809880" y="457200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32 b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334120" y="4648320"/>
            <a:ext cx="4572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32 b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8534520" y="3886200"/>
            <a:ext cx="304560" cy="1143000"/>
          </a:xfrm>
          <a:custGeom>
            <a:avLst/>
            <a:gdLst>
              <a:gd name="textAreaLeft" fmla="*/ 0 w 304560"/>
              <a:gd name="textAreaRight" fmla="*/ 109800 w 30456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124080" y="1676520"/>
            <a:ext cx="990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LOGIKAI CÍ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648320" y="5029200"/>
            <a:ext cx="9903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LINEÁRIS CÍ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143000" y="5791320"/>
            <a:ext cx="228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Leírótábla (memóriába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095880" y="579132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Memór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8C534-4E7F-408D-AEFA-DDBD8F04C4F0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1T19:31:50Z</dcterms:created>
  <dc:creator>X</dc:creator>
  <dc:description/>
  <dc:language>en-US</dc:language>
  <cp:lastModifiedBy>filp</cp:lastModifiedBy>
  <dcterms:modified xsi:type="dcterms:W3CDTF">2006-03-14T12:58:54Z</dcterms:modified>
  <cp:revision>109</cp:revision>
  <dc:subject/>
  <dc:title>TELJESÍTMÉNYFOKOZÓ ARCHITEKTÚRÁLIS ELVEK</dc:title>
</cp:coreProperties>
</file>